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5BEB68-7EB0-489C-AA19-D1B2C9869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24341-0FB3-4C80-9B8D-C5EFBDE1FC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CA647-7FD9-40E1-9F02-F36FBEAFDA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B10BEE-B8F2-48F4-BAA8-4AA43946D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36B664-C121-4F79-A552-872846F173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150F5B-4494-48D1-8B97-3223A1E54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268A85-22BD-4D16-A092-95ECB91DD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7D50B5-9F00-4C50-B6C2-E98AC144D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CBB5F-43AB-4387-97B5-0C5F37579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8A2D0-15D4-4925-AF1F-34D2788F4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901448-2460-45FE-ABDF-42BA45352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A8D9B-FEE1-4D80-8CC2-A1A3D135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CBD201-5263-4AE9-95BC-7DDDC0510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F458F-B19D-4812-980B-84272DF15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009111-CCA2-4D2A-944F-376542128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4F8594-21F1-4384-99ED-7DDDFBDEDA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59A19-9BAF-4226-903D-9A3F876DF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C7FF657-2B5F-40AA-93FF-06A9C6A71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FCA4B40-CF4F-46B5-80BF-13927ADD9C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87DD519-0A94-4EEC-8BB8-8715867320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1A4D2E7-4D4A-4BD4-8F62-108ECFC976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B028894-98F0-4F77-BD55-2D49662749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7F922-6FB0-4819-9579-8408E2165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FF40DD7-C457-4C6C-94C5-853CBE65A3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D4B9C3D-A94F-407C-94CE-3FDC751FA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DD0A0C-0BEC-47FB-8A6B-2DE6F7D008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950C1C6-0AB1-468C-B66B-1549B2F09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5882469-F09A-4D95-BF62-A90F2E0499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C0B2D37-B0D3-42AE-B2AC-1906FCF681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076229B-FD7A-4407-A67E-D53A99681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F3156B1-942C-4F1A-A3B5-72D437A05A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8AA9CD1-0182-4008-BF27-84D5EC0DA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76856E5-CDB3-4063-86E4-FFA3F650CD1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F5D004-1F7B-455F-ABF3-24783C83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747868F-0244-427B-96AA-718BB99B72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75279C2-48C8-480F-94F2-3A7FBB47D2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20214DA-3002-4875-85A7-91C8502B8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62FF47-F258-40F4-880C-5ACBCE625B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FF541BD-DB59-4D1E-BCF1-E0D5F5B14E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A5D0BB9-552B-47D7-A916-2DAC3CBD92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F446C71-23D1-4819-A4DB-A025BD2D5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AC58D1A-61DC-48A6-A6D1-A924AE91DB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F9EE582-0E07-4AE2-8283-66745C30B8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0C411B-22E8-405B-B976-7B35E512DF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2094-F4B4-46DF-9799-4A53C2DA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3167B9A-C696-437B-BDB2-0714288D5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C56C412-C624-46E2-9BE1-8F2257C796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C8FAA71-5A79-474E-83BF-3EB8D19EB1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D9F2751-18E6-467E-BABB-9608621435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9C9402B-AC37-4E40-9880-E05169C81B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3AAC343-9F65-49AF-A961-7385CA1C3B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3E196E0-F903-4C7F-96C8-4C004EBA02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C4F5D91-753A-4F5B-B6CC-C2F92FA356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AA72622-B29E-4151-AAF5-7F476F3959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DE50CCF-C66D-4E4D-BD26-B0643DA229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DC2A4-9508-4834-B51C-2BEA43C45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E04BF45-7929-4EC2-B313-95C0590CB1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85D0407-C6F8-4FE0-BECE-4F65C9D02D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06C671-860F-40F4-BD1E-46FD27164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BF03D4-8BCC-4869-8697-6D8DCD9385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DF021B-1CF4-44EE-81D8-A050211CAA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AA0469-25DE-492D-8F01-2247F1F810A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08452-64C0-4772-A305-D676DA4408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4D22F0-C576-4285-8B48-D45B0F4C4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EED79A-D70D-443F-A958-A1762A518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BF4B85-8903-4DCE-BD61-97BBF7772E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DF220-6875-49D4-A76E-8B9A44DD0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36C7AF-6DBA-4032-A255-05A673DE7C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2803F5-89B8-4FC8-A58E-22BA4F49C2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510DE3D-B5D6-4469-839D-346DE0C36B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42726EB-DE08-4CE1-9D59-71646BF50DA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C2B2876-5A75-4B22-A74A-4750A1D067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F1DB31-9FA4-4701-95F2-FEEE392A87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AD81722-D8D4-4DC7-A957-55DE262CE9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D2708A9-BE09-4BE5-A0C9-DEFC31FD52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A46C2D0-2E81-4B15-97AE-133C75CD73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2AB93162-E492-4888-B5CE-0DAAAC663A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26E95-C859-49DE-B20D-DF501959D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919F0D4-5CC2-4F65-BF6E-E687E569DE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8B0FD33-7816-4D0B-AC3A-FCCD88B610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0093C4-A09E-4D3A-B4B6-390DA7192C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E46D6A3-1561-4032-8B0E-ED9C38182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88E077B9-F6B7-4126-8091-4E18090A5D7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18CCE3E-D2A7-4138-B5CF-39ABF3A46B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E4A38F-51E5-4B89-BAC9-BDCBD9C401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1DDD90-905E-47F2-BEE1-5C7C0D29A1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57314E-9D9F-4D09-A572-D443EE3B21B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797905-1DF5-430F-B68D-550BE84611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6300-4341-41A0-9F2C-61958AB5B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ABA49F-F580-4E86-A922-C29FC6CEF4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DA183C-6C36-439E-B61B-53108A1189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C374B-4F9C-4B7D-8D2C-B1D4E9EAA7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8E1E40-4DF6-4430-AE1A-4D66B7AD24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96C358-6E3C-4332-A50F-7FF64154D6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A69464-AC25-46EC-8AF2-E6997FCBB7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4C201E-469A-4ED3-83C9-026859D58F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6E162-A006-4473-B4A3-A1629C511EB3}"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AC19B-4AEF-4B5A-ABBB-D99728F6540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A900-1C5A-4C87-B59B-F300EA37C501}" type="datetime">
              <a:rPr b="0" lang="en-US" sz="2000" spc="-1" strike="noStrike">
                <a:solidFill>
                  <a:srgbClr val="ffffff"/>
                </a:solidFill>
                <a:latin typeface="Calibri"/>
              </a:rPr>
              <a:t>07/28/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BF19D-4AE2-4C6B-9C72-C72D9A5E9BE7}"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497E-B086-4A94-AAEB-698F52CFF015}"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26242-06CF-407D-9415-EE26732A70F1}"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A30CE-BEFA-4932-BD68-26F1C3EFDF50}"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D301-9F53-49C5-A0A7-11D839FE4FD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07A00-64F0-4B9A-AC44-65D35098515D}"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BE93-EF3E-45C0-88DE-82C874255CD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73595-4883-4D89-8A7F-09BAAAB4CC2B}"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55A9F-161F-4548-9D11-69B9B9171426}"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E002-C83B-4A14-9B57-63FE2AB49A07}"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A78E8-407E-4925-B837-A9FCDFB4BF65}"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3FDA-B1C1-41A7-AC8D-9B6EF7BDA11E}"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C5C59-5CB9-477C-B048-4F08D0AF4332}"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