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BD39F-C622-4967-A419-D488FC96F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9774-01BF-43A9-9402-78F34887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A7164-E6B6-41A4-824A-02A275A67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02522-48A9-4620-965B-59D89471D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4D01E-104A-48D5-AFCC-1001AAB72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02A07-3E20-4ED3-AC3D-B080BEB61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7A8D5-7BAF-47AB-BE70-02A0A4254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04D60-7172-4B62-8E50-806419348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015B6-B937-4288-B1B5-4DB79148F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2F1C8-A12A-4134-B7D5-4E853E1D4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C058B-1860-4B8D-B253-36174BDF8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DB014-F016-4F9F-B936-6DCAC448B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F9845-C247-497C-AA9F-D801E8D7F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7F20D-DBDD-4B6F-B884-575D24430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3C65A-DA6B-4301-9F58-65021F29A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26DEA-77F4-4984-A309-6EEF2F378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D0580-D472-419F-89C6-77EFED35E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81EE023-1C32-4D23-A591-3E4071BE4B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ED37E1-A3A9-483B-B98F-AB9A1C822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098642-ECEF-4881-B38B-33DD5A646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381D71-6354-4B4C-BA1D-EF8B646E0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E9EE6B-66AD-4EB5-AA72-67E0A611D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1FC3D-BD19-47E5-9E37-F214A9C9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030CC9-B78F-4A43-B34C-773B6BB305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73FAFE-353E-4643-934B-C1299F72B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D919AC-A31F-47C5-BC12-42260AF2F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6855B2-1879-4742-A715-AB38441C2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8A50D8-B383-449D-8919-299758794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B83C2B-513C-493D-8CE4-1FB771835D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4D43FAB-9BE0-44D3-8232-338E55D795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815BA82-29EA-4096-A5DD-A097BB663E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C9D781-EAAE-4E0E-AE70-BF6D8B4FD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387E6C-F843-4051-964B-465850A7A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97FE2-066E-40E7-990C-EAFC3D5E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B3FA94-B14D-4984-96EC-72CD27AFB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2F7395-0814-4502-8F1D-04BDEC125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86F377-2B26-4F9D-94DB-3FB0138F9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FF30EC-D2A7-492A-A89E-5DBA0B50B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A0B628-24B4-4BCD-8C41-4FF255F87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1BE136-3740-4127-8CF5-267B974DF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46C533-834A-4D34-B787-4AC0DA807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881B39A-3E16-4E82-A22C-EFAF1E4FA3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E25EBAA-7B5C-4CE0-BE5E-6D65C59634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00600FB-9D18-4F44-A923-33DA7F95EB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C8902-3675-4461-A3E6-20DA5761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27862C-6115-4F49-8B3D-03A201F6CA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F295DD-BA81-43A7-8CA9-161C3D0004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FF3C1C-4825-447F-AC45-F90A280B8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BAC496-0F2A-4120-A4D5-C277DBA3A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FA9D78-F50D-4959-9C47-6A82DAF072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994867-997B-42EE-B243-C9D4B4E42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B2270D-DB0C-46E1-A09F-9AEE7CE7C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1F00C0-9BEF-4A3D-9600-A55EA4902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772EAB-96F9-4A94-83C7-A10EFAD7E4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1E6193-41D4-4DB7-A4B3-8BB3DDF2D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7A994-9B3A-4005-A7B6-BE29C1AA3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58E5E06-FCC3-4725-BB1C-BD801CCCDE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484084-114A-4706-B216-BA52E0995B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0BC78-E628-469F-9378-72CD07E7A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9906D-E5B3-497B-84EF-A67B2443D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7D142-249A-4689-AA3B-5B2A526BD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CAD467-5A17-4FFB-9A20-CF041768B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3DAF7-D36D-4137-8AAA-AECE4DD67C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5A0259-E8A5-4BE7-B94C-14537186E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487AB-13EF-47EE-8EBC-45AD368A7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C67FD-FED3-4A74-9D36-BFDF5155F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D45C-88BE-4A86-B559-E3B845159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529C93-AF75-45E4-B931-7DCCFD5F83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A4376-DD04-421A-8AB1-6B4576845B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BC5819-A6F3-40B8-AA0F-B7B7369B74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511C245-6763-42C1-A0A4-CE81340E46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4F40BF8-8F2F-41AE-B40B-F30B52279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5A655F-43E5-4B1C-A711-49F2BBC5B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9A9782-436A-4FF2-9ACD-60A724A38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E0E9916-75F4-428A-B1F8-085FA5830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15A507-D00C-4AAF-99C9-07268AD1C7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2A399D-9064-40C5-946A-86EEC7DD9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9346-C184-4541-B14F-8461C379D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4CA0C1-C945-4954-BEAA-AA8F00B67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E54C4F-C09C-4ED9-A52C-181B5E20E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56E3A9-9C8A-40F6-86C4-5DC13249D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BDC8A18-E7C4-470B-98D6-66C526DDF0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2F77DDA-949C-4DA3-8B9B-02246500AC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E0D802-8C8E-4074-83FA-9336598A3E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F8702-4E71-4124-9D00-D317D81BC7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9847A0-DB72-48F8-A1AE-B6E5AF692E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3837B-8C53-47DF-8D62-A4BE1A29FC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D8511-4462-4454-9786-0F6C9A54B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802F6-4653-4963-90EF-8F97184C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48FBF-E70D-4477-A057-212099096B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5BAF3B-77B9-4478-A08C-963646525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87CA1-B29D-4D37-B828-D0ABF1AEF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8FC8F-E488-4824-9D3C-6190E7A9D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D36B3-043C-41E2-B6E3-E1B18B87D5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1A953D-B7CA-4D8C-B377-79244AD8F4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9F3805-0FE3-4039-92A6-ADC097B6D1A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2B8B-270F-4390-9343-BA3189A37A2D}"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3DD4-EE5A-42CC-9F87-3729BB476F15}"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09C7-8EAD-4BB3-B62E-89631393061C}" type="datetime">
              <a:rPr b="0" lang="en-US" sz="2000" spc="-1" strike="noStrike">
                <a:solidFill>
                  <a:srgbClr val="ffffff"/>
                </a:solidFill>
                <a:latin typeface="Calibri"/>
              </a:rPr>
              <a:t>07/29/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659D-297C-4B80-8B75-540C47F7C278}" type="slidenum">
              <a:rPr b="1" lang="en-US"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F402-829B-49F8-9B8C-A314C491ABE6}"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C1A4-685B-4773-99CE-D764C88FD788}" type="slidenum">
              <a:rPr b="1" lang="en-US"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5450-62E3-4C8D-AEC0-84427E3706D1}"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8393-DEA3-40D6-8BFE-F7C44EB52B60}"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D31D-11D2-48A5-A09D-2C1908AF9139}"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0AF9-04F2-49C7-BD92-2B39B654C0FC}"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A5DB-0778-4A92-BC98-FB8362AF8ADC}"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7378-AD90-42D8-9D4E-9430920D5FF8}" type="slidenum">
              <a:rPr b="1" lang="en-US"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E82A-C253-4CCF-AFB1-73B5C208F6F2}"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D213-2909-4074-8EE5-164848255127}" type="slidenum">
              <a:rPr b="1" lang="en-US"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6331-FFC4-4B6D-BE93-04C87649690E}"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48E1-F639-417E-8A9B-0C65408CDDB6}"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75f55"/>
                </a:solidFill>
                <a:latin typeface="Arial"/>
                <a:ea typeface="Arial"/>
              </a:rPr>
              <a:t>How to Deal with Varying Attention Spans in a Classroom</a:t>
            </a:r>
            <a:br>
              <a:rPr sz="2900"/>
            </a:br>
            <a:r>
              <a:rPr b="0" lang="en-US" sz="900" spc="-1" strike="noStrike">
                <a:solidFill>
                  <a:srgbClr val="775f55"/>
                </a:solidFill>
                <a:latin typeface="Arial"/>
                <a:ea typeface="Arial"/>
              </a:rPr>
              <a:t>Claire Ferguson</a:t>
            </a:r>
            <a:br>
              <a:rPr sz="900"/>
            </a:br>
            <a:r>
              <a:rPr b="0" lang="en-US" sz="900" spc="-1" strike="noStrike">
                <a:solidFill>
                  <a:srgbClr val="775f55"/>
                </a:solidFill>
                <a:latin typeface="Arial"/>
                <a:ea typeface="Arial"/>
              </a:rPr>
              <a:t> University of Cincinnati, Middle Childhood Education in Language Arts and Mathematics</a:t>
            </a:r>
            <a:br>
              <a:rPr sz="900"/>
            </a:br>
            <a:r>
              <a:rPr b="0" lang="en-US" sz="900" spc="-1" strike="noStrike">
                <a:solidFill>
                  <a:srgbClr val="775f55"/>
                </a:solidFill>
                <a:latin typeface="Arial"/>
                <a:ea typeface="Arial"/>
              </a:rPr>
              <a:t>ferguce@mail.uc.edu</a:t>
            </a:r>
            <a:endParaRPr b="0" lang="en-US" sz="900" spc="-1" strike="noStrike">
              <a:solidFill>
                <a:srgbClr val="775f55"/>
              </a:solidFill>
              <a:latin typeface="Tw Cen MT"/>
            </a:endParaRPr>
          </a:p>
        </p:txBody>
      </p:sp>
      <p:pic>
        <p:nvPicPr>
          <p:cNvPr id="351" name="Picture 2" descr=""/>
          <p:cNvPicPr/>
          <p:nvPr/>
        </p:nvPicPr>
        <p:blipFill>
          <a:blip r:embed="rId1"/>
          <a:stretch/>
        </p:blipFill>
        <p:spPr>
          <a:xfrm>
            <a:off x="228600" y="228600"/>
            <a:ext cx="1095480" cy="476280"/>
          </a:xfrm>
          <a:prstGeom prst="rect">
            <a:avLst/>
          </a:prstGeom>
          <a:ln w="0">
            <a:noFill/>
          </a:ln>
        </p:spPr>
      </p:pic>
      <p:sp>
        <p:nvSpPr>
          <p:cNvPr id="352" name="TextBox 3"/>
          <p:cNvSpPr/>
          <p:nvPr/>
        </p:nvSpPr>
        <p:spPr>
          <a:xfrm>
            <a:off x="228600" y="1600200"/>
            <a:ext cx="2736720" cy="1400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can I adapt a classroom in order to deal with the rapidly developing attention spans of students? </a:t>
            </a:r>
            <a:endParaRPr b="0" lang="en-US" sz="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700" spc="-1" strike="noStrike">
                <a:solidFill>
                  <a:srgbClr val="000000"/>
                </a:solidFill>
                <a:latin typeface="Times New Roman"/>
                <a:ea typeface="Times New Roman"/>
              </a:rPr>
              <a:t>Exploring Lifespan Development, </a:t>
            </a:r>
            <a:r>
              <a:rPr b="0" lang="en-US" sz="700" spc="-1" strike="noStrike">
                <a:solidFill>
                  <a:srgbClr val="000000"/>
                </a:solidFill>
                <a:latin typeface="Times New Roman"/>
                <a:ea typeface="Times New Roman"/>
              </a:rPr>
              <a:t>which taught me what students’ minds and bodies are experiencing.  I also used observation and outside research to think of ways to apply my learning to a future classroom.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3" name="TextBox 5"/>
          <p:cNvSpPr/>
          <p:nvPr/>
        </p:nvSpPr>
        <p:spPr>
          <a:xfrm>
            <a:off x="228600" y="2971800"/>
            <a:ext cx="2732040" cy="382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ckground Literatur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Important Terms: </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Piaget’s Concrete Operational Stage: </a:t>
            </a:r>
            <a:r>
              <a:rPr b="0" lang="en-US" sz="700" spc="-1" strike="noStrike">
                <a:solidFill>
                  <a:srgbClr val="000000"/>
                </a:solidFill>
                <a:latin typeface="Calibri"/>
              </a:rPr>
              <a:t>Children can reason logically about concrete, tangible information</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Memory Strategies: </a:t>
            </a:r>
            <a:r>
              <a:rPr b="0" lang="en-US" sz="700" spc="-1" strike="noStrike">
                <a:solidFill>
                  <a:srgbClr val="000000"/>
                </a:solidFill>
                <a:latin typeface="Calibri"/>
              </a:rPr>
              <a:t>Rehearsal, organization, and elaboration; combine with a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Traditional Classroom: </a:t>
            </a:r>
            <a:r>
              <a:rPr b="0" lang="en-US" sz="700" spc="-1" strike="noStrike">
                <a:solidFill>
                  <a:srgbClr val="000000"/>
                </a:solidFill>
                <a:latin typeface="Calibri"/>
              </a:rPr>
              <a:t>the teacher is the sole authority for knowledge, rules, and decision making</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onstructivist Classroom:</a:t>
            </a:r>
            <a:r>
              <a:rPr b="0" lang="en-US" sz="700" spc="-1" strike="noStrike">
                <a:solidFill>
                  <a:srgbClr val="000000"/>
                </a:solidFill>
                <a:latin typeface="Calibri"/>
              </a:rPr>
              <a:t> teachers encourage students to construct their own knowled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Self-Concept: </a:t>
            </a:r>
            <a:r>
              <a:rPr b="0" lang="en-US" sz="700" spc="-1" strike="noStrike">
                <a:solidFill>
                  <a:srgbClr val="000000"/>
                </a:solidFill>
                <a:latin typeface="Calibri"/>
              </a:rPr>
              <a:t>how an individual views him or herself</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According to </a:t>
            </a:r>
            <a:r>
              <a:rPr b="0" i="1" lang="en-US" sz="700" spc="-1" strike="noStrike">
                <a:solidFill>
                  <a:srgbClr val="000000"/>
                </a:solidFill>
                <a:latin typeface="Calibri"/>
              </a:rPr>
              <a:t>Exploring Lifespan Development, </a:t>
            </a:r>
            <a:r>
              <a:rPr b="0" lang="en-US" sz="700" spc="-1" strike="noStrike">
                <a:solidFill>
                  <a:srgbClr val="000000"/>
                </a:solidFill>
                <a:latin typeface="Calibri"/>
              </a:rPr>
              <a:t>middle childhood students have rapidly developing attention spans.  They become more selective and can adapt and plan more easily.  They can use organizational memory strategies, but often have trouble using these skills to pay attention, which is so crucial to succeed in school.</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Wilson and Korn’s article “Attention during Lectures Beyond Ten Minutes,” explains that after the first ten minutes of a lecture, students’ attention levels decrease enormously and then fluctuates throughout the lecture according to their interest in the subject and the presentation being given.  This being said it is important to change from the traditional classroom set-up in order to keep the attention of students.  According to L. Sagan’s article, teachers should use feedback from students in order to meet the needs of students in the classroom.  When students feel that they are being heard, they are more willing to comply and work with teachers.  B. Boller’s article suggests that teaching middle school students organizational skills will help them get more assignments done, which obviously leads to success in a classroom.  Finally, N. Jackson’s article, “End on a High Note,” gives examples of projects that keep students’ interests and learning styles in mind to keep the attention of middle school students towards the end of the year.</a:t>
            </a:r>
            <a:endParaRPr b="0" lang="en-US" sz="700" spc="-1" strike="noStrike">
              <a:solidFill>
                <a:srgbClr val="000000"/>
              </a:solidFill>
              <a:latin typeface="Calibri"/>
            </a:endParaRPr>
          </a:p>
          <a:p>
            <a:pPr lvl="1" marL="11157120" indent="-98640">
              <a:lnSpc>
                <a:spcPct val="100000"/>
              </a:lnSpc>
              <a:buClr>
                <a:srgbClr val="000000"/>
              </a:buClr>
              <a:buFont typeface="Arial"/>
              <a:buChar char="•"/>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e</a:t>
            </a:r>
            <a:endParaRPr b="0" lang="en-US" sz="700" spc="-1" strike="noStrike">
              <a:solidFill>
                <a:srgbClr val="000000"/>
              </a:solidFill>
              <a:latin typeface="Calibri"/>
            </a:endParaRPr>
          </a:p>
        </p:txBody>
      </p:sp>
      <p:sp>
        <p:nvSpPr>
          <p:cNvPr id="354" name="TextBox 6"/>
          <p:cNvSpPr/>
          <p:nvPr/>
        </p:nvSpPr>
        <p:spPr>
          <a:xfrm>
            <a:off x="3195720" y="2603520"/>
            <a:ext cx="2752560" cy="4247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serv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5" name="TextBox 10"/>
          <p:cNvSpPr/>
          <p:nvPr/>
        </p:nvSpPr>
        <p:spPr>
          <a:xfrm>
            <a:off x="6172200" y="4572000"/>
            <a:ext cx="2727360" cy="147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Professional Implic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6" name="TextBox 10"/>
          <p:cNvSpPr/>
          <p:nvPr/>
        </p:nvSpPr>
        <p:spPr>
          <a:xfrm>
            <a:off x="6243480" y="5762520"/>
            <a:ext cx="2710080" cy="8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ea typeface="Times New Roman"/>
              </a:rPr>
              <a:t>References</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Berk, Laura E. "9-10." </a:t>
            </a:r>
            <a:r>
              <a:rPr b="0" i="1" lang="en-US" sz="500" spc="-1" strike="noStrike">
                <a:solidFill>
                  <a:srgbClr val="000000"/>
                </a:solidFill>
                <a:latin typeface="Times New Roman"/>
                <a:ea typeface="Times New Roman"/>
              </a:rPr>
              <a:t>Exploring Lifespan Development</a:t>
            </a:r>
            <a:r>
              <a:rPr b="0" lang="en-US" sz="500" spc="-1" strike="noStrike">
                <a:solidFill>
                  <a:srgbClr val="000000"/>
                </a:solidFill>
                <a:latin typeface="Times New Roman"/>
                <a:ea typeface="Times New Roman"/>
              </a:rPr>
              <a:t>. 2nd ed. Boston, MA: Allyn &amp; Bacon, 2010. 224-81. Print.</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Boller, B. (2008). Teaching Organizational Skills in Middle School: Moving toward Independence. Clearing House, 81(4), 169-171.</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Jackson, N. (2013). End on a High Note. </a:t>
            </a:r>
            <a:r>
              <a:rPr b="0" i="1" lang="en-US" sz="500" spc="-1" strike="noStrike">
                <a:solidFill>
                  <a:srgbClr val="000000"/>
                </a:solidFill>
                <a:latin typeface="Times New Roman"/>
                <a:ea typeface="Times New Roman"/>
              </a:rPr>
              <a:t>Instructor</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122</a:t>
            </a:r>
            <a:r>
              <a:rPr b="0" lang="en-US" sz="500" spc="-1" strike="noStrike">
                <a:solidFill>
                  <a:srgbClr val="000000"/>
                </a:solidFill>
                <a:latin typeface="Times New Roman"/>
                <a:ea typeface="Times New Roman"/>
              </a:rPr>
              <a:t>(6), 61-6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Sagan, L. L. (2010). Students' Choice: Recommendations for Environmental and Instructional Changes in School. </a:t>
            </a:r>
            <a:r>
              <a:rPr b="0" i="1" lang="en-US" sz="500" spc="-1" strike="noStrike">
                <a:solidFill>
                  <a:srgbClr val="000000"/>
                </a:solidFill>
                <a:latin typeface="Times New Roman"/>
                <a:ea typeface="Times New Roman"/>
              </a:rPr>
              <a:t>Clearing House</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83</a:t>
            </a:r>
            <a:r>
              <a:rPr b="0" lang="en-US" sz="500" spc="-1" strike="noStrike">
                <a:solidFill>
                  <a:srgbClr val="000000"/>
                </a:solidFill>
                <a:latin typeface="Times New Roman"/>
                <a:ea typeface="Times New Roman"/>
              </a:rPr>
              <a:t>(6), 217-22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Wilson, K., &amp; Korn, J. H. (2007). Topical Articles: Attention during Lectures--Beyond Ten Minutes. </a:t>
            </a:r>
            <a:r>
              <a:rPr b="0" i="1" lang="en-US" sz="500" spc="-1" strike="noStrike">
                <a:solidFill>
                  <a:srgbClr val="000000"/>
                </a:solidFill>
                <a:latin typeface="Times New Roman"/>
                <a:ea typeface="Times New Roman"/>
              </a:rPr>
              <a:t>Teaching Of Psychology</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34</a:t>
            </a:r>
            <a:r>
              <a:rPr b="0" lang="en-US" sz="500" spc="-1" strike="noStrike">
                <a:solidFill>
                  <a:srgbClr val="000000"/>
                </a:solidFill>
                <a:latin typeface="Times New Roman"/>
                <a:ea typeface="Times New Roman"/>
              </a:rPr>
              <a:t>(2), 85-89.</a:t>
            </a:r>
            <a:endParaRPr b="0" lang="en-US" sz="500" spc="-1" strike="noStrike">
              <a:solidFill>
                <a:srgbClr val="000000"/>
              </a:solidFill>
              <a:latin typeface="Calibri"/>
            </a:endParaRPr>
          </a:p>
        </p:txBody>
      </p:sp>
      <p:sp>
        <p:nvSpPr>
          <p:cNvPr id="357" name="TextBox 10"/>
          <p:cNvSpPr/>
          <p:nvPr/>
        </p:nvSpPr>
        <p:spPr>
          <a:xfrm>
            <a:off x="6243480" y="1690560"/>
            <a:ext cx="2702160" cy="275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and research, I have found that attention levels in 6-11 year-olds are always developing.  Younger children can pay less attention than older children so it is important to understand this in a classroom setting in which children are in the same grade, but may be up to 12 months apart.</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re are many ways that you can vary lesson plans to make it more useful and interesting to young kids.  Physical activity is one very effective way of engaging students throughout the day.  Another way is to add examples to lectures or math examples that are relevant to students lives because they will bring their attention to a subject if they find it is useful to them.  Group work is very helpful in helping students to learn, but it is crucial that students are grouped with others who are different than them so that they can broaden their way of looking at certain problem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t is important to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t is extremely important to teach students at all levels  new skills to pay attention, retain information, and learn more.  As a teacher and role model, it is crucial to not only teach students textbook materials, but also to teach the necessary skills needed to succeed in life.</a:t>
            </a:r>
            <a:endParaRPr b="0" lang="en-US" sz="700" spc="-1" strike="noStrike">
              <a:solidFill>
                <a:srgbClr val="000000"/>
              </a:solidFill>
              <a:latin typeface="Calibri"/>
            </a:endParaRPr>
          </a:p>
        </p:txBody>
      </p:sp>
      <p:sp>
        <p:nvSpPr>
          <p:cNvPr id="358" name="TextBox 10"/>
          <p:cNvSpPr/>
          <p:nvPr/>
        </p:nvSpPr>
        <p:spPr>
          <a:xfrm>
            <a:off x="3200400" y="1523880"/>
            <a:ext cx="272736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y I Chose This Topic</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700" spc="-1" strike="noStrike">
              <a:solidFill>
                <a:srgbClr val="000000"/>
              </a:solidFill>
              <a:latin typeface="Calibri"/>
            </a:endParaRPr>
          </a:p>
        </p:txBody>
      </p:sp>
      <p:pic>
        <p:nvPicPr>
          <p:cNvPr id="359" name="Picture 12" descr="429934_3085627732145_1756965050_n-2.jpg"/>
          <p:cNvPicPr/>
          <p:nvPr/>
        </p:nvPicPr>
        <p:blipFill>
          <a:blip r:embed="rId2"/>
          <a:stretch/>
        </p:blipFill>
        <p:spPr>
          <a:xfrm>
            <a:off x="8085240" y="214200"/>
            <a:ext cx="82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7:55:23Z</dcterms:created>
  <dc:creator>Homefries</dc:creator>
  <dc:description/>
  <dc:language>en-US</dc:language>
  <cp:lastModifiedBy>Claire Ferguson</cp:lastModifiedBy>
  <cp:lastPrinted>2013-11-13T18:53:51Z</cp:lastPrinted>
  <dcterms:modified xsi:type="dcterms:W3CDTF">2013-11-21T03:46:47Z</dcterms:modified>
  <cp:revision>93</cp:revision>
  <dc:subject/>
  <dc:title>PowerPoint Presentation</dc:title>
</cp:coreProperties>
</file>