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F4369-AD8C-4D01-B765-289E46138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3CF71-556F-4934-ACA0-6A77B635E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E22A4-10A4-4B43-85F3-693DFA2DB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539DD-CB36-42EF-938E-8CDE0E1EA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0A8E97-4BF6-4D0F-8CA2-D70EEEFE48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E09922-CB65-4878-991F-7F4ABB8664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059F7D-4F62-446C-BEF1-56AE00371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1C4CD8-8052-48CF-AACA-ECB112083B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87BB6-DC59-4B1A-8DFA-C667278B7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58844-704C-440C-BDDB-F22EC5C70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61E57-451B-41F1-BF84-43F93E2B83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BCC08A-430A-4195-B251-79ACA612F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BBE54-A0FA-42BE-A08A-4E8EAD97F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5FD14-7BF9-41C7-8BB6-D6C791BB7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5CDC1-58FA-43B1-98B0-7C16B8ECC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4215B-2DCD-4E3C-807F-61B5900A9C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103F07-D445-43A9-B37A-2494CE89EA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404F9CF-CE8E-4207-81D7-33C41D1CDD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64A3DE-78A7-4384-AFCA-5D199F5D1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203FE7-016A-4A77-9D1B-60E163B238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C6B4DA0-EB13-41C7-91A4-D817714A6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7108419-601D-441A-893E-B3C717A6D7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7DE95-B47A-488B-A5AA-7F892B6237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6BA92BB-6A6E-45DD-8062-68A38DE0D3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650FB9-6515-460D-8CBF-14BABD2980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3526EE8-8AA2-4957-89AD-3E3AD1A137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172959-07AC-4305-B043-A89F85586B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44CD106-506F-42D9-8B9A-7D3A0B0F9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76B8150-96FF-4B38-830D-CAC8E9E867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9CE64AB-C61E-40AE-BFB5-322622847A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78962B0-B8B5-4D21-BF67-1695FA3790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A8B5192-2FFA-41F1-8D37-459A0B697C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30B0C1-854D-46AC-BB53-1C92597A5C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9704A-9C0D-40FD-904B-DDA08F4CC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A2ACBCC-806C-4F5E-B15E-A3B9166BD1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236D116-0CFB-4BB5-A00D-A702574235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5F1CB3-41AE-4989-8307-F40D4C41F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424626C-5227-4C59-AF83-5630071702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1DD22EA-9BFC-49AE-BEDF-6943853A07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683EDB2-6F00-42F6-820E-DF5E17480F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A43C518-79C3-479D-8CE0-8D1E9CACA7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F2578A3-6638-48B0-A945-72D9631B68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066EA5D-3F93-4128-A1D7-31358AEBFA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E7B6370-3CA3-44BA-877C-2D5FADBF42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8723C-037C-41EB-9D8B-8A0322444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CEA30D-4642-49F1-8D23-26709F600C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554E963-C62A-4026-AF57-BDABAB42B4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C1F6BB-0332-4C67-B429-8716811C43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DF1BB12-772F-4A0E-9A5E-D7DA17BFB2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56298A3-3269-40F7-81CF-643407B6C2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50BE1E2-3EC3-427C-B713-40E3845F7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1C81A05-DEF5-4E1D-95A1-6B66FF824D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CD9B23-4461-411E-B844-B560201806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70AF88E-BB27-4474-A6FD-52A8047675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7E4A6CD-C55A-44E0-8F29-72F3C068D9C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1A3688-A79C-4D9B-A034-0647B02EB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9DA5AC6-0984-4A87-B56C-83677A7BF8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179C02-B527-4257-A0C7-5F06479C82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C16B17-27CF-41B0-86CF-515578E205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7E4CAC-F207-4EB9-B384-62F50DC9A4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E35A17-1B8E-4FB2-9350-FC7B847236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025F4D-D714-49B0-83D5-4D17CD6652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7B99BE-0D3A-4117-A520-C80939B036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638402-7A73-4746-A450-7145AC5AD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23ACC-92BD-47D1-AF4A-8BF9ADD03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05CB86-96FF-4710-ACBD-6CC883BF3A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C7FC01-F243-4E20-B38F-FF652AD56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5033D8-B5F8-4D83-8645-DC984EF03A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C80DF3-BD94-496B-8F1C-DFE4C48938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62850C-E7C3-4F89-9C43-0E918BCD84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587E20A-892B-4C6A-A2D6-F6EEDEC3D02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26A4E74-4E9E-4F22-B7B2-23B99DD004D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0214E1-E8DE-403C-9F9D-284E197A2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C6BC1C-B249-459B-AA21-1F1D0DFD06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704C26E-5A2D-4AAC-894B-35C9B2711E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0687F29-F29B-450B-BE83-8C462981D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FF6B982-BEDE-43C9-ACD9-35FD97AF96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F4712-7715-4575-B36F-2D9EC4DD4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AAF750D-487F-48BB-A5F1-C17A55506A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C073DA-51A7-458A-A192-30F5607075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40D43C9-8AFB-4853-91A6-B2563A8E3A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7F066F1-A229-4631-8CA5-5095C18D1AE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0D0D748-D66D-4148-8262-17F126049A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A013F7-0E65-43B0-A4F9-051DC579DF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70CE82-A12A-47A1-B04E-565F7447D7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8192E8-B772-47A8-BE10-D133B044D7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682F50-1D31-4914-BD1A-88BD338652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C7E8C1-5AD1-4D6A-B7D3-668825CBD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42C6A-AE80-4D1C-BB88-BAA84D2F9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02B7BD-E649-49CA-AD5A-9AD88DCAD97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A1AB20-8EF4-40F4-9EAE-3D2806AE95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A1918C-0EB3-4EB0-892A-9FD68C9F8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41225F-53DB-4708-B937-A2A42514F9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09E671-73F1-4B25-A1ED-C901E296E9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4EEDAD9-7500-4E5F-81F8-2981369344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D416DF-E5B3-4BA9-9DD3-10AB73C1A0D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B257-93CC-4B2F-8BEE-ABA3FCD6EC28}"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F885-9EC6-46FF-8345-238F5B996DE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F2D8-DA96-443B-9E28-A650A5B4B4BE}" type="datetime">
              <a:rPr b="0" lang="en-US" sz="2000" spc="-1" strike="noStrike">
                <a:solidFill>
                  <a:srgbClr val="ffffff"/>
                </a:solidFill>
                <a:latin typeface="Calibri"/>
              </a:rPr>
              <a:t>07/28/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1FC92-771D-4897-81B0-79F0A72CD344}" type="slidenum">
              <a:rPr b="1" lang="en-US"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4A835-17EA-44A4-A275-0B3DBD11CDD4}"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D3E64-BA0E-4B8A-9221-3A2F3B238001}" type="slidenum">
              <a:rPr b="1" lang="en-US"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63F45-4353-417B-A805-6E642D904DC5}"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EF8D-BD76-432A-A060-9393E032E51B}"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EAEA-9CBF-486C-B364-E2829132B2B5}"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B32B-C798-4DDF-8175-16B38762DC09}"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FE024-28AB-4759-959F-63FC836C997E}"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8B898-6473-427A-AD44-053DD4E763E5}" type="slidenum">
              <a:rPr b="1" lang="en-US"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D1A0D-CC85-4637-B740-759406775E6C}"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F00BF-5F89-4DAB-964E-3FD67F9F0812}" type="slidenum">
              <a:rPr b="1" lang="en-US"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1C84E-0A0A-4F7D-BF4A-7DE9C0D7C4B2}"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1EBB2-AAC6-4C01-8485-BBDA8AA40717}"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75f55"/>
                </a:solidFill>
                <a:latin typeface="Arial"/>
                <a:ea typeface="Arial"/>
              </a:rPr>
              <a:t>How to Deal with Varying Attention Spans in a Classroom</a:t>
            </a:r>
            <a:br>
              <a:rPr sz="2900"/>
            </a:br>
            <a:r>
              <a:rPr b="0" lang="en-US" sz="900" spc="-1" strike="noStrike">
                <a:solidFill>
                  <a:srgbClr val="775f55"/>
                </a:solidFill>
                <a:latin typeface="Arial"/>
                <a:ea typeface="Arial"/>
              </a:rPr>
              <a:t>Claire Ferguson</a:t>
            </a:r>
            <a:br>
              <a:rPr sz="900"/>
            </a:br>
            <a:r>
              <a:rPr b="0" lang="en-US" sz="900" spc="-1" strike="noStrike">
                <a:solidFill>
                  <a:srgbClr val="775f55"/>
                </a:solidFill>
                <a:latin typeface="Arial"/>
                <a:ea typeface="Arial"/>
              </a:rPr>
              <a:t> University of Cincinnati, Middle Childhood Education in Language Arts and Mathematics</a:t>
            </a:r>
            <a:br>
              <a:rPr sz="900"/>
            </a:br>
            <a:r>
              <a:rPr b="0" lang="en-US" sz="900" spc="-1" strike="noStrike">
                <a:solidFill>
                  <a:srgbClr val="775f55"/>
                </a:solidFill>
                <a:latin typeface="Arial"/>
                <a:ea typeface="Arial"/>
              </a:rPr>
              <a:t>ferguce@mail.uc.edu</a:t>
            </a:r>
            <a:endParaRPr b="0" lang="en-US" sz="900" spc="-1" strike="noStrike">
              <a:solidFill>
                <a:srgbClr val="775f55"/>
              </a:solidFill>
              <a:latin typeface="Tw Cen MT"/>
            </a:endParaRPr>
          </a:p>
        </p:txBody>
      </p:sp>
      <p:pic>
        <p:nvPicPr>
          <p:cNvPr id="351" name="Picture 2" descr=""/>
          <p:cNvPicPr/>
          <p:nvPr/>
        </p:nvPicPr>
        <p:blipFill>
          <a:blip r:embed="rId1"/>
          <a:stretch/>
        </p:blipFill>
        <p:spPr>
          <a:xfrm>
            <a:off x="228600" y="228600"/>
            <a:ext cx="1095480" cy="476280"/>
          </a:xfrm>
          <a:prstGeom prst="rect">
            <a:avLst/>
          </a:prstGeom>
          <a:ln w="0">
            <a:noFill/>
          </a:ln>
        </p:spPr>
      </p:pic>
      <p:sp>
        <p:nvSpPr>
          <p:cNvPr id="352" name="TextBox 3"/>
          <p:cNvSpPr/>
          <p:nvPr/>
        </p:nvSpPr>
        <p:spPr>
          <a:xfrm>
            <a:off x="228600" y="1600200"/>
            <a:ext cx="273672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3" name="TextBox 5"/>
          <p:cNvSpPr/>
          <p:nvPr/>
        </p:nvSpPr>
        <p:spPr>
          <a:xfrm>
            <a:off x="228600" y="2971800"/>
            <a:ext cx="2732040" cy="382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354"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5" name="TextBox 10"/>
          <p:cNvSpPr/>
          <p:nvPr/>
        </p:nvSpPr>
        <p:spPr>
          <a:xfrm>
            <a:off x="6172200" y="457200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6"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357"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358"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359"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21T03:46:47Z</dcterms:modified>
  <cp:revision>93</cp:revision>
  <dc:subject/>
  <dc:title>PowerPoint Presentation</dc:title>
</cp:coreProperties>
</file>