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98D-A79B-4C69-B60E-7A915A846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CF3F-23F9-4040-BD33-9F0763FA0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C11-20BA-4157-9A8D-9AE1A5D20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37EA-01BD-4F75-9FE1-63C015C4B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3CDF-1B59-4C8A-A5F4-34695746F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A58D-3DDB-4807-846D-5423582E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4544-0D55-49F5-B495-33D9302B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AE4E-4892-4BA3-8301-3B141BFD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0685-1A85-4574-9A1C-BD38C344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E1AB1-DC49-4654-9C4A-73339676A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74B7-C110-4D14-B8B1-4D450528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0220-08CC-415C-8C09-EED02B4F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D76B5-675F-42C2-B779-6A9216AB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2913-B22D-4359-BBF0-5BE9A74F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36D81-C33A-4A3D-B0ED-C6276F24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987F-7F95-4775-BF2C-4E61EC6A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CD0B-855A-4230-B382-45CCA06B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A5AFD-05BB-437C-9C83-CCF35474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00044-BD78-4F3B-A4D4-1107AD75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78596-4D41-4507-BDD5-DD6A65221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B9612-7442-4EF5-8753-876BA6F3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71352-03BF-4FE3-8CB6-C6B072F0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CF4E-0073-49B1-AFEB-E93E3016C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E93E-ED0C-45CB-8691-0ADBE1CC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9CA28-73FC-4B7F-BF46-D266C866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7A006-0D3D-4496-9D3E-978856A0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E543-D0BF-4C5C-99BA-2F9E2B19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5EB21-E2ED-47DD-8D14-541B6F59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ECD92-E118-4E77-823C-133631262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B1F51-6F04-4B4E-A0D1-D1E597142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DE4B9-A83A-4E3E-8F6F-64ABACC0E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AF5E7-74C7-4C73-B620-9FA2A82F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1CD5E-3A02-4EB0-AE9A-794091BD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9DE4-3CBF-49B8-A7E1-80863FE3A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0487F-0385-48E9-A083-78BE2BC3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585CE-5F16-46A7-859D-F1E52B0B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DA1ED-9658-447E-8996-09B83F79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0FD7-1235-46A8-8A43-C6975D2C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FCC18-B343-454E-9C2F-E2690382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EC8CB9-5B33-4F4A-AC8E-9ED05641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3AA8A-7D04-4EB5-AD8C-65936A5E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908F0-3ADD-4902-B22E-B40191556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64825-0E15-482C-B57E-7DBEF3913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07B7-8E6E-48E9-8980-87540403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C1B5-52C3-4792-A2B6-ACFCC60A6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516-D464-4359-A1BD-C98D4570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04F-F32A-497B-8318-5F8C634E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A6ED-B9C3-458E-877F-66873E1C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C53A-AA06-4B45-91C2-007D1423F25F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41E3-A015-4308-A2C9-E2E418A206B4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D7AD-906B-4435-936C-6070B2D76E80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4446-E5AF-4FFB-8627-A95F5085C33C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2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352680" y="304920"/>
            <a:ext cx="3429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ple Chancery"/>
                <a:ea typeface="Apple Chancery"/>
              </a:rPr>
              <a:t>Disruptive Stud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istina Quin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/Mid-Adolescent Development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04920" y="2057400"/>
            <a:ext cx="2361960" cy="3608640"/>
          </a:xfrm>
          <a:prstGeom prst="rect">
            <a:avLst/>
          </a:prstGeom>
          <a:noFill/>
          <a:ln w="9360">
            <a:solidFill>
              <a:srgbClr val="919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ation!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my observation I watched how kids behaved in a before and after care program called Latchkey. I observed mostly at a school called Ayer Elementary and also one called Locust Corner Elementary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kids in these programs were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hrough 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rade. As I was observing I paid special attention to students who were disruptive or behaving badly. I watched how the person in charge reacted to their behavior to change this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think I learned overall that you deal with each disruption differently. Or in other words, use a different strategy for dealing with the disruption based on the child and their personality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5334120"/>
            <a:ext cx="2361960" cy="1398960"/>
          </a:xfrm>
          <a:prstGeom prst="rect">
            <a:avLst/>
          </a:prstGeom>
          <a:noFill/>
          <a:ln w="9360">
            <a:solidFill>
              <a:srgbClr val="bee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yuthaya"/>
                <a:ea typeface="Ayuthaya"/>
              </a:rPr>
              <a:t>First Ste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yuthaya"/>
                <a:ea typeface="Ayuthaya"/>
              </a:rPr>
              <a:t>The first step to deal with this issue is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yuthaya"/>
                <a:ea typeface="Ayuthaya"/>
              </a:rPr>
              <a:t>learn about your students</a:t>
            </a:r>
            <a:r>
              <a:rPr b="0" lang="en-US" sz="1100" spc="-1" strike="noStrike">
                <a:solidFill>
                  <a:srgbClr val="000000"/>
                </a:solidFill>
                <a:latin typeface="Ayuthaya"/>
                <a:ea typeface="Ayuthaya"/>
              </a:rPr>
              <a:t>. As a future teacher we will have to learn the reason behind the child's bad behavior first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791320" y="1143000"/>
            <a:ext cx="2971800" cy="2028240"/>
          </a:xfrm>
          <a:prstGeom prst="rect">
            <a:avLst/>
          </a:prstGeom>
          <a:noFill/>
          <a:ln w="9360">
            <a:solidFill>
              <a:srgbClr val="dcf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Euphemia UCAS"/>
                <a:ea typeface="Euphemia UCAS"/>
              </a:rPr>
              <a:t>Common Cau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some basic common causes for bad behavior that a teacher can look for. We also looked at four basic categories and some causes for students to behave badly in each.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– Puberty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hanges in neurons cause more responsive to excitatory neurotransmitters which causes a stronger reaction to stress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048120" y="1143000"/>
            <a:ext cx="2438280" cy="796680"/>
          </a:xfrm>
          <a:prstGeom prst="rect">
            <a:avLst/>
          </a:prstGeom>
          <a:noFill/>
          <a:ln w="9360">
            <a:solidFill>
              <a:srgbClr val="f9b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Inquiry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would like to know how to deal with a student who constantly interrupts a teacher or disrupts class activity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172200" y="17524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971800" y="5105520"/>
            <a:ext cx="2057400" cy="666720"/>
          </a:xfrm>
          <a:prstGeom prst="rect">
            <a:avLst/>
          </a:prstGeom>
          <a:noFill/>
          <a:ln w="9360">
            <a:solidFill>
              <a:srgbClr val="dff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cour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Berk, Laura E. </a:t>
            </a:r>
            <a:r>
              <a:rPr b="0" i="1" lang="en-US" sz="800" spc="-1" strike="noStrike">
                <a:solidFill>
                  <a:srgbClr val="000000"/>
                </a:solidFill>
                <a:latin typeface="Comic Sans MS"/>
              </a:rPr>
              <a:t>Exploring Lifespan Development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. Boston, MA: Allyn &amp; Bacon, 2010.</a:t>
            </a: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791320" y="3657600"/>
            <a:ext cx="2895480" cy="2171160"/>
          </a:xfrm>
          <a:prstGeom prst="rect">
            <a:avLst/>
          </a:prstGeom>
          <a:noFill/>
          <a:ln w="9360">
            <a:solidFill>
              <a:srgbClr val="fe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honburi"/>
                <a:ea typeface="Thonburi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Satiation- Make the child do the undisirable behavior until they get tired of it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Positive Reinforcement-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Negative Reinforcement-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Punshments –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014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3048120" y="1981080"/>
            <a:ext cx="281916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itial Spark of Interest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e reason I became interested was a boy named Tim. He was in a before and after program I worked at in an Elementary School called Ayer. He was constantly displaying bad behavior and I never understood why or learned how to react to his bad actions.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3" descr="Ayer .jpg"/>
          <p:cNvPicPr/>
          <p:nvPr/>
        </p:nvPicPr>
        <p:blipFill>
          <a:blip r:embed="rId2"/>
          <a:stretch/>
        </p:blipFill>
        <p:spPr>
          <a:xfrm>
            <a:off x="3352680" y="342900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3048120" y="5842080"/>
            <a:ext cx="281916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chin"/>
                <a:ea typeface="Cochin"/>
              </a:rPr>
              <a:t>My Case Stud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chin"/>
                <a:ea typeface="Cochin"/>
              </a:rPr>
              <a:t>My case study was learning why Tim behaved as he did daily and how to deal with it. I believe he acted this way because ______ and the way to deal with this is 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54:11Z</dcterms:created>
  <dc:creator>rogersne</dc:creator>
  <dc:description/>
  <dc:language>en-US</dc:language>
  <cp:lastModifiedBy>Christina Quinn</cp:lastModifiedBy>
  <cp:lastPrinted>2013-03-29T14:46:55Z</cp:lastPrinted>
  <dcterms:modified xsi:type="dcterms:W3CDTF">2013-10-21T19:31:13Z</dcterms:modified>
  <cp:revision>25</cp:revision>
  <dc:subject/>
  <dc:title>Poster Example</dc:title>
</cp:coreProperties>
</file>