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0EA-41CB-4B48-BC59-93EAE69B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9E2-A3BC-457F-98F7-112BFAA9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B8C-56C3-4894-AF59-7E651052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8FA-4D35-4438-8D6D-2F033512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C086-67B4-4A33-B106-822225C4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8C53-D5C8-4372-A824-3FD99A75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249F-0EF4-46CE-B2FE-48284EA8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A360-608A-434D-8F6C-0B0412AF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AA30-187F-47FA-8C9A-4F0E3DFD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E88E-219C-4EF9-A7E5-4535985B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2DA1-C20A-484B-A13E-4F3F17F5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A0E-3DD4-4C0E-908F-451CF3CC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E358-BB7C-476C-BCF4-BEE5706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7A7D-8DB4-4EEE-A719-5EB01D9D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0068-4029-4FE6-8B12-E4D7F350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B06C-C576-4980-903B-9D25FAFD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1FC5-B2FE-4F62-B84C-9DE8D2FC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827B-5CB9-4061-B674-AA954AFE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585D-F3CD-4120-8D80-8D3844E8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BAB1-45BD-43E8-8A43-85CD578D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8576-3909-4D54-ADBD-0DD49686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FFA1-312B-4D41-871D-6F7217CB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CC2-267F-4C7D-9C65-E6D2F2D8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BD09-2E03-4E2F-BED7-6E9C0346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8012-C2E6-47B3-81DE-3179FA9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7EE2-CC5B-49BF-A5FC-98E4EAA7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C252-81FD-4B48-93FD-F86C88CA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CF676-5435-4793-BC4A-F6C1098B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EEB1-643F-4EEC-BFA6-75B36AA8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7620-4FB9-4F04-9808-9FF3BFFB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AF31-8EC5-4B34-B40C-75A8D51D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C73C-7347-4BD4-AFCB-2CFD74BD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78756-25C5-4691-941A-1F97D308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F5D-63D4-41A2-8C2D-98CECBEB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4D507-1E3C-4705-A81A-97449B4D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C2A05-DA94-4FBA-BF58-EFD2155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C69C-19A8-4CAC-B380-F4F5C81A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C1047-04FE-4145-B3C5-B6AACB58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44EAD-57CF-45F4-A6A7-915B5952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A39F-8DD5-47DF-9059-AAD8516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F300-0A60-456B-9AAF-A6ACA2F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50AB-00DA-439D-B628-08C30AE1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F2CAA-8685-4E9A-8AF2-75E48946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F9B-E1FF-42A0-A672-4BEB6D8A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809-9A80-4C3A-B2E8-67266D0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DD5-AA48-4EB7-A5B2-31F59883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726-7C62-4A9C-B3D7-BEE7981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BD4-5C12-41B5-A446-2FC42530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EECF-04EE-4815-9DB1-F60028C55630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69FB-938E-43EC-98F5-96823EB7186E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DDBA-705A-4224-9239-6CB9E9771ED8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2810-A9FA-43A6-A845-60B369C45763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2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352680" y="304920"/>
            <a:ext cx="3429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ple Chancery"/>
                <a:ea typeface="Apple Chancery"/>
              </a:rPr>
              <a:t>Disruptive Stu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tina Quin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/Mid-Adolescent Development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04920" y="2057400"/>
            <a:ext cx="2361960" cy="3608640"/>
          </a:xfrm>
          <a:prstGeom prst="rect">
            <a:avLst/>
          </a:prstGeom>
          <a:noFill/>
          <a:ln w="9360">
            <a:solidFill>
              <a:srgbClr val="919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ation!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my observation I watched how kids behaved in a before and after care program called Latchkey. I observed mostly at a school called Ayer Elementary and also one called Locust Corner Elementary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kids in these programs were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rade. As I was observing I paid special attention to students who were disruptive or behaving badly. I watched how the person in charge reacted to their behavior to change thi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I learned overall that you deal with each disruption differently. Or in other words, use a different strategy for dealing with the disruption based on the child and their personality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334120"/>
            <a:ext cx="2361960" cy="1398960"/>
          </a:xfrm>
          <a:prstGeom prst="rect">
            <a:avLst/>
          </a:prstGeom>
          <a:noFill/>
          <a:ln w="9360">
            <a:solidFill>
              <a:srgbClr val="bee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yuthaya"/>
                <a:ea typeface="Ayuthaya"/>
              </a:rPr>
              <a:t>First Ste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The first step to deal with this issue i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yuthaya"/>
                <a:ea typeface="Ayuthaya"/>
              </a:rPr>
              <a:t>learn about your students</a:t>
            </a: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. As a future teacher we will have to learn the reason behind the child's bad behavior first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791320" y="1143000"/>
            <a:ext cx="2971800" cy="2028240"/>
          </a:xfrm>
          <a:prstGeom prst="rect">
            <a:avLst/>
          </a:prstGeom>
          <a:noFill/>
          <a:ln w="9360">
            <a:solidFill>
              <a:srgbClr val="dcf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Euphemia UCAS"/>
                <a:ea typeface="Euphemia UCAS"/>
              </a:rPr>
              <a:t>Common Cau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some basic common causes for bad behavior that a teacher can look for. We also looked at four basic categories and some causes for students to behave badly in each.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– Puber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es in neurons cause more responsive to excitatory neurotransmitters which causes a stronger reaction to stress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48120" y="1143000"/>
            <a:ext cx="2438280" cy="796680"/>
          </a:xfrm>
          <a:prstGeom prst="rect">
            <a:avLst/>
          </a:prstGeom>
          <a:noFill/>
          <a:ln w="9360">
            <a:solidFill>
              <a:srgbClr val="f9b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quiry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would like to know how to deal with a student who constantly interrupts a teacher or disrupts class activi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172200" y="17524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971800" y="5105520"/>
            <a:ext cx="2057400" cy="666720"/>
          </a:xfrm>
          <a:prstGeom prst="rect">
            <a:avLst/>
          </a:prstGeom>
          <a:noFill/>
          <a:ln w="9360">
            <a:solidFill>
              <a:srgbClr val="dff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cour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Berk, Laura E. </a:t>
            </a:r>
            <a:r>
              <a:rPr b="0" i="1" lang="en-US" sz="800" spc="-1" strike="noStrike">
                <a:solidFill>
                  <a:srgbClr val="000000"/>
                </a:solidFill>
                <a:latin typeface="Comic Sans MS"/>
              </a:rPr>
              <a:t>Exploring Lifespan Development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. Boston, MA: Allyn &amp; Bacon, 2010.</a:t>
            </a: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791320" y="3657600"/>
            <a:ext cx="2895480" cy="2171160"/>
          </a:xfrm>
          <a:prstGeom prst="rect">
            <a:avLst/>
          </a:prstGeom>
          <a:noFill/>
          <a:ln w="9360">
            <a:solidFill>
              <a:srgbClr val="fe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honburi"/>
                <a:ea typeface="Thonburi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Satiation- Make the child do the undisirable behavior until they get tired of it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ositive Reinforcement-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Negative Reinforcement-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unshments –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14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3048120" y="1981080"/>
            <a:ext cx="281916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itial Spark of Interest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e reason I became interested was a boy named Tim. He was in a before and after program I worked at in an Elementary School called Ayer. He was constantly displaying bad behavior and I never understood why or learned how to react to his bad actions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" descr="Ayer .jpg"/>
          <p:cNvPicPr/>
          <p:nvPr/>
        </p:nvPicPr>
        <p:blipFill>
          <a:blip r:embed="rId2"/>
          <a:stretch/>
        </p:blipFill>
        <p:spPr>
          <a:xfrm>
            <a:off x="3352680" y="342900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3048120" y="5842080"/>
            <a:ext cx="28191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chin"/>
                <a:ea typeface="Cochin"/>
              </a:rPr>
              <a:t>My Case Stud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chin"/>
                <a:ea typeface="Cochin"/>
              </a:rPr>
              <a:t>My case study was learning why Tim behaved as he did daily and how to deal with it. I believe he acted this way because ______ and the way to deal with this is 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54:11Z</dcterms:created>
  <dc:creator>rogersne</dc:creator>
  <dc:description/>
  <dc:language>en-US</dc:language>
  <cp:lastModifiedBy>Christina Quinn</cp:lastModifiedBy>
  <cp:lastPrinted>2013-03-29T14:46:55Z</cp:lastPrinted>
  <dcterms:modified xsi:type="dcterms:W3CDTF">2013-10-21T19:31:13Z</dcterms:modified>
  <cp:revision>25</cp:revision>
  <dc:subject/>
  <dc:title>Poster Example</dc:title>
</cp:coreProperties>
</file>