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399A-E9CA-48EA-8754-1263686D9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4A81-CB43-4670-9ADB-7BD2A7A5A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375C-AB7E-4C02-822B-BF6CE36EA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6E26-A5F8-451E-B388-D408CEB1E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9A391-38AA-4627-A3D2-F8B1CE9C2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C17AE-0DB3-4FCC-8D40-921C743E0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1EAAD-3BB1-41CC-BDE3-D201956D1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E7CB8-2CCF-4C3F-8644-DF1060C59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7B473-C868-4975-AF91-D98824CED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8F231-B270-49E2-80B0-4F73FAB0B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64C93-A5EC-4249-8920-5BD5EEDB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9D19-2C9A-4A7D-BA26-1CA1DD614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465FE-9A38-49F0-8BAC-241660A48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FDA34-19E5-44B0-83C5-22F75CB45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95916-FF47-4B0F-9950-F885C959E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0AA21-2B0A-43B9-A12C-01B64EA98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9FBA3-226E-4A18-AB24-24F794B47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466CA-870F-4661-97D5-8A5B64D47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53A0E-9A45-446F-9259-C53FE95BB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23653-15DA-46A6-91A5-75189D204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08A57-16C8-4895-B8CF-2B55F9B2F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4D580-763D-43CA-9BEA-391B41A99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DF07-549B-4E00-8E85-6C1784060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F5C0F-CDCE-4A33-A0D6-354FA8135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68E6A-5835-47BF-8C32-051EA42C5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9275A-8F91-46EF-A80B-7CBFDE4A6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51529-DC80-4CD9-A47F-18450B07C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40E0C-B7BB-477A-8FB7-42B8C69F7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50653-9E49-44DF-B52B-0C3D68C29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91DA1-14D9-425C-AFB3-30E8E686B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AEC67-2635-49CF-B21E-A61CE6A48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85B06-A268-4C77-A559-FEA8652A6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8AE74-F4B3-4059-BE62-D7654D6D2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3DDC-F57E-4613-A40F-C3751526F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87222D-A188-4D93-8587-D3027254F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D4F30-CDDC-49C8-9111-137290783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C4579-0E16-4EDE-AFEF-7F86925CB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13745-6F10-4AF3-999A-AB267E5F9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EDD41-A679-4C90-A5C3-D76BB4A1D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F0004-1342-486B-9B20-31EFC168D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0A275-023A-4893-95C4-94E0CEB30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FFAB1-DDEC-42B6-9589-B034BD9DF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F3D14-9B77-4381-976C-CCB4EB467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984C-088D-4AE6-BD44-D55E0AE81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E096-54A8-41E3-9B81-074CE51EB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6C88-03E3-40C3-80C5-913853E84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2B49-BC5D-4275-83F9-2AEF1BED5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86DB-78F7-44D7-B96F-8176668D4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2280"/>
            <a:ext cx="9144000" cy="1755720"/>
            <a:chOff x="0" y="5102280"/>
            <a:chExt cx="9144000" cy="175572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02280"/>
              <a:ext cx="914400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596960"/>
            <a:ext cx="9144000" cy="5108760"/>
            <a:chOff x="0" y="1596960"/>
            <a:chExt cx="9144000" cy="510876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596960"/>
              <a:ext cx="9144000" cy="510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0D6C3-4041-42B0-82CD-6ACC036845A3}" type="slidenum">
              <a:rPr b="1" lang="en-US" sz="1200" spc="-1" strike="noStrike">
                <a:solidFill>
                  <a:srgbClr val="7f7f7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70360"/>
            <a:chOff x="0" y="0"/>
            <a:chExt cx="9144000" cy="387036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7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596960"/>
            <a:ext cx="9144000" cy="5108760"/>
            <a:chOff x="0" y="1596960"/>
            <a:chExt cx="9144000" cy="510876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596960"/>
              <a:ext cx="9144000" cy="510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7EEE6-A4D2-450D-A040-87387EF6A417}" type="slidenum">
              <a:rPr b="1" lang="en-US" sz="1200" spc="-1" strike="noStrike">
                <a:solidFill>
                  <a:srgbClr val="7f7f7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2280"/>
            <a:ext cx="9144000" cy="1755720"/>
            <a:chOff x="0" y="5102280"/>
            <a:chExt cx="9144000" cy="175572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02280"/>
              <a:ext cx="914400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596960"/>
            <a:ext cx="9144000" cy="5108760"/>
            <a:chOff x="0" y="1596960"/>
            <a:chExt cx="9144000" cy="510876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596960"/>
              <a:ext cx="9144000" cy="510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2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10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5" name="Rectangle 11"/>
          <p:cNvGrpSpPr/>
          <p:nvPr/>
        </p:nvGrpSpPr>
        <p:grpSpPr>
          <a:xfrm>
            <a:off x="0" y="0"/>
            <a:ext cx="9144000" cy="3870360"/>
            <a:chOff x="0" y="0"/>
            <a:chExt cx="9144000" cy="3870360"/>
          </a:xfrm>
        </p:grpSpPr>
        <p:pic>
          <p:nvPicPr>
            <p:cNvPr id="116" name="Rectangle 11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7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8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9" name="Oval 13"/>
          <p:cNvGrpSpPr/>
          <p:nvPr/>
        </p:nvGrpSpPr>
        <p:grpSpPr>
          <a:xfrm>
            <a:off x="0" y="1596960"/>
            <a:ext cx="9144000" cy="5108760"/>
            <a:chOff x="0" y="1596960"/>
            <a:chExt cx="9144000" cy="5108760"/>
          </a:xfrm>
        </p:grpSpPr>
        <p:pic>
          <p:nvPicPr>
            <p:cNvPr id="120" name="Oval 13" descr=""/>
            <p:cNvPicPr/>
            <p:nvPr/>
          </p:nvPicPr>
          <p:blipFill>
            <a:blip r:embed="rId8"/>
            <a:stretch/>
          </p:blipFill>
          <p:spPr>
            <a:xfrm>
              <a:off x="0" y="1596960"/>
              <a:ext cx="9144000" cy="510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2504B-488D-49A8-9157-040ACE29C8F9}" type="slidenum">
              <a:rPr b="1" lang="en-US" sz="1200" spc="-1" strike="noStrike">
                <a:solidFill>
                  <a:srgbClr val="7f7f7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6" name="Rectangle 11"/>
          <p:cNvGrpSpPr/>
          <p:nvPr/>
        </p:nvGrpSpPr>
        <p:grpSpPr>
          <a:xfrm>
            <a:off x="0" y="0"/>
            <a:ext cx="9144000" cy="3870360"/>
            <a:chOff x="0" y="0"/>
            <a:chExt cx="9144000" cy="3870360"/>
          </a:xfrm>
        </p:grpSpPr>
        <p:pic>
          <p:nvPicPr>
            <p:cNvPr id="167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7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9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0" name="Oval 13"/>
          <p:cNvGrpSpPr/>
          <p:nvPr/>
        </p:nvGrpSpPr>
        <p:grpSpPr>
          <a:xfrm>
            <a:off x="0" y="1596960"/>
            <a:ext cx="9144000" cy="5108760"/>
            <a:chOff x="0" y="1596960"/>
            <a:chExt cx="9144000" cy="5108760"/>
          </a:xfrm>
        </p:grpSpPr>
        <p:pic>
          <p:nvPicPr>
            <p:cNvPr id="171" name="Oval 13" descr=""/>
            <p:cNvPicPr/>
            <p:nvPr/>
          </p:nvPicPr>
          <p:blipFill>
            <a:blip r:embed="rId5"/>
            <a:stretch/>
          </p:blipFill>
          <p:spPr>
            <a:xfrm>
              <a:off x="0" y="1596960"/>
              <a:ext cx="9144000" cy="510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ECB4C-DF7F-43A9-BF84-F8D104032A88}" type="slidenum">
              <a:rPr b="1" lang="en-US" sz="1200" spc="-1" strike="noStrike">
                <a:solidFill>
                  <a:srgbClr val="7f7f7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c2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4"/>
          <p:cNvSpPr/>
          <p:nvPr/>
        </p:nvSpPr>
        <p:spPr>
          <a:xfrm>
            <a:off x="3352680" y="304920"/>
            <a:ext cx="3429000" cy="8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pple Chancery"/>
                <a:ea typeface="Apple Chancery"/>
              </a:rPr>
              <a:t>Disruptive Studen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ristina Quinn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/Mid-Adolescent Development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304920" y="2057400"/>
            <a:ext cx="2361960" cy="3608640"/>
          </a:xfrm>
          <a:prstGeom prst="rect">
            <a:avLst/>
          </a:prstGeom>
          <a:noFill/>
          <a:ln w="9360">
            <a:solidFill>
              <a:srgbClr val="919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bservation!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 my observation I watched how kids behaved in a before and after care program called Latchkey. I observed mostly at a school called Ayer Elementary and also one called Locust Corner Elementary.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kids in these programs were 1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through 6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grade. As I was observing I paid special attention to students who were disruptive or behaving badly. I watched how the person in charge reacted to their behavior to change this.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 think I learned overall that you deal with each disruption differently. Or in other words, use a different strategy for dealing with the disruption based on the child and their personality.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304920" y="5334120"/>
            <a:ext cx="2361960" cy="1398960"/>
          </a:xfrm>
          <a:prstGeom prst="rect">
            <a:avLst/>
          </a:prstGeom>
          <a:noFill/>
          <a:ln w="9360">
            <a:solidFill>
              <a:srgbClr val="bee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yuthaya"/>
                <a:ea typeface="Ayuthaya"/>
              </a:rPr>
              <a:t>First Step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yuthaya"/>
                <a:ea typeface="Ayuthaya"/>
              </a:rPr>
              <a:t>The first step to deal with this issue is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yuthaya"/>
                <a:ea typeface="Ayuthaya"/>
              </a:rPr>
              <a:t>learn about your students</a:t>
            </a:r>
            <a:r>
              <a:rPr b="0" lang="en-US" sz="1100" spc="-1" strike="noStrike">
                <a:solidFill>
                  <a:srgbClr val="000000"/>
                </a:solidFill>
                <a:latin typeface="Ayuthaya"/>
                <a:ea typeface="Ayuthaya"/>
              </a:rPr>
              <a:t>. As a future teacher we will have to learn the reason behind the child's bad behavior first.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5791320" y="1143000"/>
            <a:ext cx="2971800" cy="2028240"/>
          </a:xfrm>
          <a:prstGeom prst="rect">
            <a:avLst/>
          </a:prstGeom>
          <a:noFill/>
          <a:ln w="9360">
            <a:solidFill>
              <a:srgbClr val="dcf7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Euphemia UCAS"/>
                <a:ea typeface="Euphemia UCAS"/>
              </a:rPr>
              <a:t>Common Causes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re are some basic common causes for bad behavior that a teacher can look for. We also looked at four basic categories and some causes for students to behave badly in each. 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hysical – Puberty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changes in neurons cause more responsive to excitatory neurotransmitters which causes a stronger reaction to stress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motional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gnitive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cial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3048120" y="1143000"/>
            <a:ext cx="2438280" cy="796680"/>
          </a:xfrm>
          <a:prstGeom prst="rect">
            <a:avLst/>
          </a:prstGeom>
          <a:noFill/>
          <a:ln w="9360">
            <a:solidFill>
              <a:srgbClr val="f9b3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Inquiry Ques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 would like to know how to deal with a student who constantly interrupts a teacher or disrupts class activity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6172200" y="1752480"/>
            <a:ext cx="266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Text Box 11"/>
          <p:cNvSpPr/>
          <p:nvPr/>
        </p:nvSpPr>
        <p:spPr>
          <a:xfrm>
            <a:off x="2971800" y="5105520"/>
            <a:ext cx="2057400" cy="666720"/>
          </a:xfrm>
          <a:prstGeom prst="rect">
            <a:avLst/>
          </a:prstGeom>
          <a:noFill/>
          <a:ln w="9360">
            <a:solidFill>
              <a:srgbClr val="dff5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Recourses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Berk, Laura E. </a:t>
            </a:r>
            <a:r>
              <a:rPr b="0" i="1" lang="en-US" sz="800" spc="-1" strike="noStrike">
                <a:solidFill>
                  <a:srgbClr val="000000"/>
                </a:solidFill>
                <a:latin typeface="Comic Sans MS"/>
              </a:rPr>
              <a:t>Exploring Lifespan Development</a:t>
            </a: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. Boston, MA: Allyn &amp; Bacon, 2010.</a:t>
            </a:r>
            <a:r>
              <a:rPr b="0" lang="en-US" sz="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Text Box 12"/>
          <p:cNvSpPr/>
          <p:nvPr/>
        </p:nvSpPr>
        <p:spPr>
          <a:xfrm>
            <a:off x="5791320" y="3657600"/>
            <a:ext cx="2895480" cy="2171160"/>
          </a:xfrm>
          <a:prstGeom prst="rect">
            <a:avLst/>
          </a:prstGeom>
          <a:noFill/>
          <a:ln w="9360">
            <a:solidFill>
              <a:srgbClr val="feff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honburi"/>
                <a:ea typeface="Thonburi"/>
              </a:rPr>
              <a:t>Solution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honburi"/>
                <a:ea typeface="Thonburi"/>
              </a:rPr>
              <a:t>Satiation- Make the child do the undisirable behavior until they get tired of it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honburi"/>
                <a:ea typeface="Thonburi"/>
              </a:rPr>
              <a:t>Positive Reinforcement-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honburi"/>
                <a:ea typeface="Thonburi"/>
              </a:rPr>
              <a:t>Negative Reinforcement- 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honburi"/>
                <a:ea typeface="Thonburi"/>
              </a:rPr>
              <a:t>Punshments – 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2819520" cy="2014560"/>
          </a:xfrm>
          <a:prstGeom prst="rect">
            <a:avLst/>
          </a:prstGeom>
          <a:ln w="0">
            <a:noFill/>
          </a:ln>
        </p:spPr>
      </p:pic>
      <p:sp>
        <p:nvSpPr>
          <p:cNvPr id="223" name="TextBox 2"/>
          <p:cNvSpPr/>
          <p:nvPr/>
        </p:nvSpPr>
        <p:spPr>
          <a:xfrm>
            <a:off x="3048120" y="1981080"/>
            <a:ext cx="2819160" cy="14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nitial Spark of Interest!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The reason I became interested was a boy named Tim. He was in a before and after program I worked at in an Elementary School called Ayer. He was constantly displaying bad behavior and I never understood why or learned how to react to his bad actions. 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4" name="Picture 3" descr="Ayer .jpg"/>
          <p:cNvPicPr/>
          <p:nvPr/>
        </p:nvPicPr>
        <p:blipFill>
          <a:blip r:embed="rId2"/>
          <a:stretch/>
        </p:blipFill>
        <p:spPr>
          <a:xfrm>
            <a:off x="3352680" y="3429000"/>
            <a:ext cx="1955880" cy="1467000"/>
          </a:xfrm>
          <a:prstGeom prst="rect">
            <a:avLst/>
          </a:prstGeom>
          <a:ln w="0">
            <a:noFill/>
          </a:ln>
        </p:spPr>
      </p:pic>
      <p:sp>
        <p:nvSpPr>
          <p:cNvPr id="225" name="TextBox 4"/>
          <p:cNvSpPr/>
          <p:nvPr/>
        </p:nvSpPr>
        <p:spPr>
          <a:xfrm>
            <a:off x="3048120" y="5842080"/>
            <a:ext cx="2819160" cy="11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chin"/>
                <a:ea typeface="Cochin"/>
              </a:rPr>
              <a:t>My Case Stud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chin"/>
                <a:ea typeface="Cochin"/>
              </a:rPr>
              <a:t>My case study was learning why Tim behaved as he did daily and how to deal with it. I believe he acted this way because ______ and the way to deal with this is _________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20:54:11Z</dcterms:created>
  <dc:creator>rogersne</dc:creator>
  <dc:description/>
  <dc:language>en-US</dc:language>
  <cp:lastModifiedBy>Christina Quinn</cp:lastModifiedBy>
  <cp:lastPrinted>2013-03-29T14:46:55Z</cp:lastPrinted>
  <dcterms:modified xsi:type="dcterms:W3CDTF">2013-10-21T19:31:13Z</dcterms:modified>
  <cp:revision>25</cp:revision>
  <dc:subject/>
  <dc:title>Poster Example</dc:title>
</cp:coreProperties>
</file>