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30C2-97BA-43F7-814F-D161DE7C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6CC-6DB2-46A6-965C-02FA5F99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330D-DC76-4324-A63D-40167A9F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9466-AB86-42AA-9452-EFBE8055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F521-6BE9-4145-8D34-EBD32105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554A-E6AA-4DFA-804C-D050FCD1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2585-A61A-4836-ABE7-230FF635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8EB0-FBBF-4A1B-843C-7F6360C2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9019-B28D-4C77-B5BA-E9AFEB13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7419-A1C6-4CB2-B6C4-AF23F8F6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4D60-36E8-458D-8E2A-BC5B981D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77F-B582-419A-9E0B-41C2A892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A07A-7F63-45D7-BF94-B6DFDE5C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C52D-2CB9-4B31-B0F6-D19F4514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6ED0-FEA2-4292-B7BE-8CDC85A4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9D38-7C82-4CAC-A460-631346FC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AF8A-1944-4CBE-86E3-E48E3254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DC95A-D75C-4FE3-AE18-0B026FFB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B0FE6-2EC1-431C-BFEF-52499399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23AAE-A843-472E-934A-730ADB32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8A132-9D0E-4F9A-A592-834F922E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3CC9D-997C-432C-8603-ACBB8EB7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806B-3451-4A70-B178-85231287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B8609-4E10-4A72-89C2-70F9C4F4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3F4F8-AA0B-4240-AE82-C1E6A559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44601-423B-4AA9-A7A9-E1457F77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1EADF-74F6-4805-A7A4-502CF849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A293C-D056-4909-91B4-9FA8F091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8574-ECBA-4D3D-AD32-E94F8759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41FCC-C336-49CE-8F54-2B57CB79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5B25A-B00C-4225-9211-00ABAE19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136D8-9953-4359-A148-B3FAAA0B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93F91-FF74-4A56-8D13-AA593EAA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504-ED58-4ADC-B832-B72C316D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854E6-26B3-4B2D-B34C-B9018A1B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F41E1-8518-4106-831F-2AA4DD9D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A68C7-3053-43F2-A7F0-37C43DD8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F02C7-B2ED-4A3D-BA94-EFBFE973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3E00C-40AE-46CA-B798-949D6B1E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E2911-79AB-4CB3-9C4C-5B72FB6B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BF03C-2614-4EC9-9244-9FC48F18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A7B3D-38D0-4519-8746-86FE2364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E0CB9-C3AE-4AB8-BC5D-05177217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BB4-FEE2-44A1-B56B-5C2DD092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2C3-4F13-45D4-9B9E-98ECCCF6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4764-6E28-4A21-9757-B53FD7FD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7E4-1439-4250-8F6C-A7382E42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F0F-6CAA-4164-B741-A27799AD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2280"/>
            <a:ext cx="9144000" cy="1755720"/>
            <a:chOff x="0" y="5102280"/>
            <a:chExt cx="9144000" cy="175572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2280"/>
              <a:ext cx="91440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D9FE-0511-4690-98BB-D8A10D0D8A73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70360"/>
            <a:chOff x="0" y="0"/>
            <a:chExt cx="9144000" cy="387036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A1C6-9BA7-4898-9541-A1A62FB97899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2280"/>
            <a:ext cx="9144000" cy="1755720"/>
            <a:chOff x="0" y="5102280"/>
            <a:chExt cx="9144000" cy="175572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2280"/>
              <a:ext cx="91440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70360"/>
            <a:chOff x="0" y="0"/>
            <a:chExt cx="9144000" cy="387036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5524-8A01-457E-AA94-85CDD7F0A2C2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70360"/>
            <a:chOff x="0" y="0"/>
            <a:chExt cx="9144000" cy="387036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4AB7-C35E-4536-9736-67DD847ED41C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2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3352680" y="304920"/>
            <a:ext cx="34290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ple Chancery"/>
                <a:ea typeface="Apple Chancery"/>
              </a:rPr>
              <a:t>Disruptive Stud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ristina Quin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/Mid-Adolescent Development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04920" y="2057400"/>
            <a:ext cx="2361960" cy="3608640"/>
          </a:xfrm>
          <a:prstGeom prst="rect">
            <a:avLst/>
          </a:prstGeom>
          <a:noFill/>
          <a:ln w="9360">
            <a:solidFill>
              <a:srgbClr val="919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ation!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my observation I watched how kids behaved in a before and after care program called Latchkey. I observed mostly at a school called Ayer Elementary and also one called Locust Corner Elementary.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kids in these programs were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hrough 6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rade. As I was observing I paid special attention to students who were disruptive or behaving badly. I watched how the person in charge reacted to their behavior to change this.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think I learned overall that you deal with each disruption differently. Or in other words, use a different strategy for dealing with the disruption based on the child and their personality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04920" y="5334120"/>
            <a:ext cx="2361960" cy="1398960"/>
          </a:xfrm>
          <a:prstGeom prst="rect">
            <a:avLst/>
          </a:prstGeom>
          <a:noFill/>
          <a:ln w="9360">
            <a:solidFill>
              <a:srgbClr val="bee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yuthaya"/>
                <a:ea typeface="Ayuthaya"/>
              </a:rPr>
              <a:t>First Ste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yuthaya"/>
                <a:ea typeface="Ayuthaya"/>
              </a:rPr>
              <a:t>The first step to deal with this issue is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yuthaya"/>
                <a:ea typeface="Ayuthaya"/>
              </a:rPr>
              <a:t>learn about your students</a:t>
            </a:r>
            <a:r>
              <a:rPr b="0" lang="en-US" sz="1100" spc="-1" strike="noStrike">
                <a:solidFill>
                  <a:srgbClr val="000000"/>
                </a:solidFill>
                <a:latin typeface="Ayuthaya"/>
                <a:ea typeface="Ayuthaya"/>
              </a:rPr>
              <a:t>. As a future teacher we will have to learn the reason behind the child's bad behavior first.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5791320" y="1143000"/>
            <a:ext cx="2971800" cy="2028240"/>
          </a:xfrm>
          <a:prstGeom prst="rect">
            <a:avLst/>
          </a:prstGeom>
          <a:noFill/>
          <a:ln w="9360">
            <a:solidFill>
              <a:srgbClr val="dcf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Euphemia UCAS"/>
                <a:ea typeface="Euphemia UCAS"/>
              </a:rPr>
              <a:t>Common Caus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re some basic common causes for bad behavior that a teacher can look for. We also looked at four basic categories and some causes for students to behave badly in each.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sical – Puberty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changes in neurons cause more responsive to excitatory neurotransmitters which causes a stronger reaction to stress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3048120" y="1143000"/>
            <a:ext cx="2438280" cy="796680"/>
          </a:xfrm>
          <a:prstGeom prst="rect">
            <a:avLst/>
          </a:prstGeom>
          <a:noFill/>
          <a:ln w="9360">
            <a:solidFill>
              <a:srgbClr val="f9b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Inquiry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 would like to know how to deal with a student who constantly interrupts a teacher or disrupts class activity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172200" y="175248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2971800" y="5105520"/>
            <a:ext cx="2057400" cy="666720"/>
          </a:xfrm>
          <a:prstGeom prst="rect">
            <a:avLst/>
          </a:prstGeom>
          <a:noFill/>
          <a:ln w="9360">
            <a:solidFill>
              <a:srgbClr val="dff5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ecours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Berk, Laura E. </a:t>
            </a:r>
            <a:r>
              <a:rPr b="0" i="1" lang="en-US" sz="800" spc="-1" strike="noStrike">
                <a:solidFill>
                  <a:srgbClr val="000000"/>
                </a:solidFill>
                <a:latin typeface="Comic Sans MS"/>
              </a:rPr>
              <a:t>Exploring Lifespan Development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. Boston, MA: Allyn &amp; Bacon, 2010.</a:t>
            </a: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5791320" y="3657600"/>
            <a:ext cx="2895480" cy="2171160"/>
          </a:xfrm>
          <a:prstGeom prst="rect">
            <a:avLst/>
          </a:prstGeom>
          <a:noFill/>
          <a:ln w="9360">
            <a:solidFill>
              <a:srgbClr val="fe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honburi"/>
                <a:ea typeface="Thonburi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Satiation- Make the child do the undisirable behavior until they get tired of it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Positive Reinforcement-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Negative Reinforcement-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Punshments –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20145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3048120" y="1981080"/>
            <a:ext cx="281916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itial Spark of Interest!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The reason I became interested was a boy named Tim. He was in a before and after program I worked at in an Elementary School called Ayer. He was constantly displaying bad behavior and I never understood why or learned how to react to his bad actions.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Picture 3" descr="Ayer .jpg"/>
          <p:cNvPicPr/>
          <p:nvPr/>
        </p:nvPicPr>
        <p:blipFill>
          <a:blip r:embed="rId2"/>
          <a:stretch/>
        </p:blipFill>
        <p:spPr>
          <a:xfrm>
            <a:off x="3352680" y="3429000"/>
            <a:ext cx="1955880" cy="14670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4"/>
          <p:cNvSpPr/>
          <p:nvPr/>
        </p:nvSpPr>
        <p:spPr>
          <a:xfrm>
            <a:off x="3048120" y="5842080"/>
            <a:ext cx="281916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chin"/>
                <a:ea typeface="Cochin"/>
              </a:rPr>
              <a:t>My Case Stud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chin"/>
                <a:ea typeface="Cochin"/>
              </a:rPr>
              <a:t>My case study was learning why Tim behaved as he did daily and how to deal with it. I believe he acted this way because ______ and the way to deal with this is _________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54:11Z</dcterms:created>
  <dc:creator>rogersne</dc:creator>
  <dc:description/>
  <dc:language>en-US</dc:language>
  <cp:lastModifiedBy>Christina Quinn</cp:lastModifiedBy>
  <cp:lastPrinted>2013-03-29T14:46:55Z</cp:lastPrinted>
  <dcterms:modified xsi:type="dcterms:W3CDTF">2013-10-21T19:31:13Z</dcterms:modified>
  <cp:revision>25</cp:revision>
  <dc:subject/>
  <dc:title>Poster Example</dc:title>
</cp:coreProperties>
</file>