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CC9D-045C-42DE-A9BC-2DF64A90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D156-74D4-47AD-9251-91AE7E4A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EDE-5292-4177-9DF1-64479C2A4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16A6-8A27-445B-9DA1-52771A68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5BF5-666F-4ED6-96F8-C631393EA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554D-5E7B-4E83-92F2-0E0A1C98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DB5B4-928C-448F-A7E9-5F039ABB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100E-F17E-488A-9D8F-EAF3E341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E3136-894D-413F-81A1-B4802855E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27F8-69F2-4459-AFAD-6E0AA742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D515-2E8D-4B64-B834-9ED209F6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D02E-B6F7-4BA9-964E-CA695E5A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2197-3E3B-4C40-B3C5-437D6977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161D-5513-4C0E-9901-8825CFC7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E4EF-96AA-4B69-99F1-19DB00C9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2A928-90DF-470F-8F88-99A7933A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4D35-CE0A-4156-9D1A-62057A869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053DF-7CEF-420B-AF6C-43E4A3D7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18F8B-227F-4ADF-8AFA-5096FD00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81AB46-BC22-495E-8793-29FD347B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82123-7041-4FE4-A705-665E4BBB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DCF9E-DE44-484A-B336-00D3F65E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7EF7-8BBB-49C5-BA3F-6C03AA69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B583A-522A-47F1-BEFD-9568BED2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3313A-C26A-414B-B233-8A7B8BF2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EF086-D46B-4A8F-92BF-14FFAB4A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F68E9-91A6-460C-950B-112B0BC4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B46BC-C022-47AB-B695-1B565A0D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62991-CA0A-4181-BD3E-F5A4F797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87FD9-7CEE-4383-8103-45CB41F1E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744EA-366B-4FAA-9C29-FE9726A2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B682F-789D-4EE0-B9BF-25E7AC37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D0834-313E-4C7E-A97A-D4C553F3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6690-3F00-4724-A0DD-2187C286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187CA-5D51-47BD-B706-CC47C979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13B55-EF18-4AA6-A4B0-8A9935A96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B6982-AFA1-40A7-8167-4235A662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BC6CA-778C-4934-AF48-008D0427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85D8A-AE4D-4539-AA37-03030FA1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889F4-0ADF-4674-A7BC-2D114855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EB169-366C-456D-A5A5-3B2060BB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A67A6-8211-4EFA-BA54-80CE267A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059F3-D9CE-43E4-99E1-A88253357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5A6F-4598-4FDC-A193-EDB5E4E5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356B-F0ED-406E-9A75-7131C4CD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A8B7-D2FD-44FC-B86E-3B9BE340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E7F7-B655-4FF1-AE97-AE3C9FB0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A1B9-36EF-459D-9D1E-D585E5D4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2280"/>
            <a:ext cx="9144000" cy="1755720"/>
            <a:chOff x="0" y="5102280"/>
            <a:chExt cx="9144000" cy="175572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2280"/>
              <a:ext cx="91440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9B26-2DAA-45E2-BC93-8638B013145E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7230-E937-468C-B66F-2FB47F17D604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2280"/>
            <a:ext cx="9144000" cy="1755720"/>
            <a:chOff x="0" y="5102280"/>
            <a:chExt cx="9144000" cy="175572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02280"/>
              <a:ext cx="91440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3BC9B-8F46-4A2D-BAD7-372738803C7F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0" y="0"/>
            <a:ext cx="9144000" cy="3870360"/>
            <a:chOff x="0" y="0"/>
            <a:chExt cx="9144000" cy="387036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7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0" y="1596960"/>
            <a:ext cx="9144000" cy="5108760"/>
            <a:chOff x="0" y="1596960"/>
            <a:chExt cx="9144000" cy="510876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0" y="1596960"/>
              <a:ext cx="9144000" cy="510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EE80-85AA-47C0-8DC0-8BC2C065031D}" type="slidenum">
              <a:rPr b="1" lang="en-US" sz="1200" spc="-1" strike="noStrike">
                <a:solidFill>
                  <a:srgbClr val="7f7f7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c2e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3352680" y="304920"/>
            <a:ext cx="342900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pple Chancery"/>
                <a:ea typeface="Apple Chancery"/>
              </a:rPr>
              <a:t>Disruptive Stud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ristina Quinn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/Mid-Adolescent Development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304920" y="2057400"/>
            <a:ext cx="2361960" cy="3608640"/>
          </a:xfrm>
          <a:prstGeom prst="rect">
            <a:avLst/>
          </a:prstGeom>
          <a:noFill/>
          <a:ln w="9360">
            <a:solidFill>
              <a:srgbClr val="919a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servation!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my observation I watched how kids behaved in a before and after care program called Latchkey. I observed mostly at a school called Ayer Elementary and also one called Locust Corner Elementary.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kids in these programs were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through 6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grade. As I was observing I paid special attention to students who were disruptive or behaving badly. I watched how the person in charge reacted to their behavior to change this.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 think I learned overall that you deal with each disruption differently. Or in other words, use a different strategy for dealing with the disruption based on the child and their personality.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304920" y="5334120"/>
            <a:ext cx="2361960" cy="1398960"/>
          </a:xfrm>
          <a:prstGeom prst="rect">
            <a:avLst/>
          </a:prstGeom>
          <a:noFill/>
          <a:ln w="9360">
            <a:solidFill>
              <a:srgbClr val="beeb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yuthaya"/>
                <a:ea typeface="Ayuthaya"/>
              </a:rPr>
              <a:t>First Step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yuthaya"/>
                <a:ea typeface="Ayuthaya"/>
              </a:rPr>
              <a:t>The first step to deal with this issue is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Ayuthaya"/>
                <a:ea typeface="Ayuthaya"/>
              </a:rPr>
              <a:t>learn about your students</a:t>
            </a:r>
            <a:r>
              <a:rPr b="0" lang="en-US" sz="1100" spc="-1" strike="noStrike">
                <a:solidFill>
                  <a:srgbClr val="000000"/>
                </a:solidFill>
                <a:latin typeface="Ayuthaya"/>
                <a:ea typeface="Ayuthaya"/>
              </a:rPr>
              <a:t>. As a future teacher we will have to learn the reason behind the child's bad behavior first.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5791320" y="1143000"/>
            <a:ext cx="2971800" cy="2028240"/>
          </a:xfrm>
          <a:prstGeom prst="rect">
            <a:avLst/>
          </a:prstGeom>
          <a:noFill/>
          <a:ln w="9360">
            <a:solidFill>
              <a:srgbClr val="dcf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Euphemia UCAS"/>
                <a:ea typeface="Euphemia UCAS"/>
              </a:rPr>
              <a:t>Common Caus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some basic common causes for bad behavior that a teacher can look for. We also looked at four basic categories and some causes for students to behave badly in each. 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hysical – Puberty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- changes in neurons cause more responsive to excitatory neurotransmitters which causes a stronger reaction to stress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motional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gnitive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3048120" y="1143000"/>
            <a:ext cx="2438280" cy="796680"/>
          </a:xfrm>
          <a:prstGeom prst="rect">
            <a:avLst/>
          </a:prstGeom>
          <a:noFill/>
          <a:ln w="9360">
            <a:solidFill>
              <a:srgbClr val="f9b3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merican Typewriter"/>
                <a:ea typeface="American Typewriter"/>
              </a:rPr>
              <a:t>Inquiry Ques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 would like to know how to deal with a student who constantly interrupts a teacher or disrupts class activity</a:t>
            </a: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6172200" y="175248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Text Box 11"/>
          <p:cNvSpPr/>
          <p:nvPr/>
        </p:nvSpPr>
        <p:spPr>
          <a:xfrm>
            <a:off x="2971800" y="5105520"/>
            <a:ext cx="2057400" cy="666720"/>
          </a:xfrm>
          <a:prstGeom prst="rect">
            <a:avLst/>
          </a:prstGeom>
          <a:noFill/>
          <a:ln w="9360">
            <a:solidFill>
              <a:srgbClr val="dff5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ecourses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Berk, Laura E. </a:t>
            </a:r>
            <a:r>
              <a:rPr b="0" i="1" lang="en-US" sz="800" spc="-1" strike="noStrike">
                <a:solidFill>
                  <a:srgbClr val="000000"/>
                </a:solidFill>
                <a:latin typeface="Comic Sans MS"/>
              </a:rPr>
              <a:t>Exploring Lifespan Development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. Boston, MA: Allyn &amp; Bacon, 2010.</a:t>
            </a:r>
            <a:r>
              <a:rPr b="0" lang="en-US" sz="7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Text Box 12"/>
          <p:cNvSpPr/>
          <p:nvPr/>
        </p:nvSpPr>
        <p:spPr>
          <a:xfrm>
            <a:off x="5791320" y="3657600"/>
            <a:ext cx="2895480" cy="2171160"/>
          </a:xfrm>
          <a:prstGeom prst="rect">
            <a:avLst/>
          </a:prstGeom>
          <a:noFill/>
          <a:ln w="9360">
            <a:solidFill>
              <a:srgbClr val="feff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honburi"/>
                <a:ea typeface="Thonburi"/>
              </a:rPr>
              <a:t>Solution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Satiation- Make the child do the undisirable behavior until they get tired of it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Positive Reinforcement-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Negative Reinforcement-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honburi"/>
                <a:ea typeface="Thonburi"/>
              </a:rPr>
              <a:t>Punshments –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20145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"/>
          <p:cNvSpPr/>
          <p:nvPr/>
        </p:nvSpPr>
        <p:spPr>
          <a:xfrm>
            <a:off x="3048120" y="1981080"/>
            <a:ext cx="2819160" cy="14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nitial Spark of Interest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100" spc="-1" strike="noStrike">
                <a:solidFill>
                  <a:srgbClr val="000000"/>
                </a:solidFill>
                <a:latin typeface="Comic Sans MS"/>
              </a:rPr>
              <a:t>The reason I became interested was a boy named Tim. He was in a before and after program I worked at in an Elementary School called Ayer. He was constantly displaying bad behavior and I never understood why or learned how to react to his bad actions. 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Picture 3" descr="Ayer .jpg"/>
          <p:cNvPicPr/>
          <p:nvPr/>
        </p:nvPicPr>
        <p:blipFill>
          <a:blip r:embed="rId2"/>
          <a:stretch/>
        </p:blipFill>
        <p:spPr>
          <a:xfrm>
            <a:off x="3352680" y="3429000"/>
            <a:ext cx="1955880" cy="14670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4"/>
          <p:cNvSpPr/>
          <p:nvPr/>
        </p:nvSpPr>
        <p:spPr>
          <a:xfrm>
            <a:off x="3048120" y="5842080"/>
            <a:ext cx="281916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chin"/>
                <a:ea typeface="Cochin"/>
              </a:rPr>
              <a:t>My Case Stud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chin"/>
                <a:ea typeface="Cochin"/>
              </a:rPr>
              <a:t>My case study was learning why Tim behaved as he did daily and how to deal with it. I believe he acted this way because ______ and the way to deal with this is _________</a:t>
            </a:r>
            <a:endParaRPr b="0" lang="en-US" sz="11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54:11Z</dcterms:created>
  <dc:creator>rogersne</dc:creator>
  <dc:description/>
  <dc:language>en-US</dc:language>
  <cp:lastModifiedBy>Christina Quinn</cp:lastModifiedBy>
  <cp:lastPrinted>2013-03-29T14:46:55Z</cp:lastPrinted>
  <dcterms:modified xsi:type="dcterms:W3CDTF">2013-10-21T19:31:13Z</dcterms:modified>
  <cp:revision>25</cp:revision>
  <dc:subject/>
  <dc:title>Poster Example</dc:title>
</cp:coreProperties>
</file>