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4EF65-7CDB-47B1-AC18-2D74B6FA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2844-C159-4D00-8083-825F1CDDD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277B5-1A92-4FA2-8C83-FC582686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5C65-FC9A-4EAC-A6F8-6081EAA37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D6E4CB-F214-4CC7-854A-ED13D709E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9172DE-FF83-48BA-AC12-2F417CD9F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EAE036-1C29-44C1-864A-61E08E378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509AEB-AFB3-404B-ABE5-0F76ABCFE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C31515-BD58-4452-B3CB-D9907A198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9BE7FA-B778-4335-AF89-E112FCED5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5FD5F6-18AB-4859-A7E6-965957EF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0EB4-5419-4B3B-927A-A4960542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761EF8-4C03-45B6-84E1-1E440253D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DD048C-4071-4E7A-88D3-C9BFF7CEC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ECFEA7-24CE-4149-8A78-9DC418E7C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3F3B04-8C67-4A75-B318-1923C811C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1650F34-EC7D-42B7-A542-E41EA0416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1B39C-8182-4203-BC14-33B25B9A3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550E2-4CE6-4BD1-8B93-D813436B3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F4A4D-2B25-4E6F-8F3F-61D514C0D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A409F-28E9-490E-8AE6-71DC35C93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5D4F8-CF98-4490-8288-32692BCEC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BC9D-AEBD-43EC-82DB-8D504207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F4296-5022-428C-94BF-0F7FCD2E6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A25BD-7235-43BD-AF93-DA01ABBEA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23C86-F6ED-42D2-BB73-173D03A57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37666-6C24-450D-8DD7-6A6B87F2B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C5F3E-B7B1-43AF-B65B-957E32150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E16F69-98C6-4057-93B6-712DF5762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D0A2EF-1FE4-44BE-9C98-ED65493478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AA26-3C77-4114-B09E-88EF6852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89D0-92EC-4E52-8D2B-8EB90A463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2092B-1A88-4813-92AE-A35862AD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A13C-DDE4-441C-88EA-985F7F19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2FA2A-0183-434B-AF14-AC72A9DB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A452-FAE9-4FB3-BB6E-624AD077B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0084-0B98-4CC3-A3D4-EF615C98BE6D}"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DCAB-3C74-4210-96B7-00F01B20F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7C70-0EEE-4EBD-B4E5-95D7A3D568BF}"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1A04-78F9-4421-8ABF-30ACF97C0693}"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9ACA-B377-40FC-BA30-D858B7C3D262}"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3F6C-6F68-4172-BE83-FF5B32299751}"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5"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6" name="Picture 7" descr="URY0010D"/>
          <p:cNvPicPr/>
          <p:nvPr/>
        </p:nvPicPr>
        <p:blipFill>
          <a:blip r:embed="rId1"/>
          <a:stretch/>
        </p:blipFill>
        <p:spPr>
          <a:xfrm>
            <a:off x="533520" y="2057400"/>
            <a:ext cx="2387520" cy="3938760"/>
          </a:xfrm>
          <a:prstGeom prst="rect">
            <a:avLst/>
          </a:prstGeom>
          <a:ln w="0">
            <a:noFill/>
          </a:ln>
        </p:spPr>
      </p:pic>
      <p:sp>
        <p:nvSpPr>
          <p:cNvPr id="187"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3"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19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8288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IT IN ROWS</a:t>
            </a:r>
            <a:br>
              <a:rPr sz="4000"/>
            </a:br>
            <a:br>
              <a:rPr sz="4000"/>
            </a:br>
            <a:r>
              <a:rPr b="1" lang="en-US" sz="4000" spc="-1" strike="noStrike">
                <a:solidFill>
                  <a:srgbClr val="e5e5ff"/>
                </a:solidFill>
                <a:latin typeface="Garamond"/>
              </a:rPr>
              <a:t>TAKE OUT </a:t>
            </a:r>
            <a:br>
              <a:rPr sz="4000"/>
            </a:br>
            <a:r>
              <a:rPr b="1" lang="en-US" sz="4000" spc="-1" strike="noStrike">
                <a:solidFill>
                  <a:srgbClr val="e5e5ff"/>
                </a:solidFill>
                <a:latin typeface="Garamond"/>
              </a:rPr>
              <a:t>A PEN AND PAPER</a:t>
            </a:r>
            <a:endParaRPr b="1" lang="en-US" sz="4000" spc="-1" strike="noStrike">
              <a:solidFill>
                <a:srgbClr val="e5e5ff"/>
              </a:solidFill>
              <a:latin typeface="Garamond"/>
            </a:endParaRPr>
          </a:p>
        </p:txBody>
      </p:sp>
      <p:sp>
        <p:nvSpPr>
          <p:cNvPr id="14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2"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06"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7" name="Picture 7" descr="dreamstime_9205495"/>
          <p:cNvPicPr/>
          <p:nvPr/>
        </p:nvPicPr>
        <p:blipFill>
          <a:blip r:embed="rId1"/>
          <a:stretch/>
        </p:blipFill>
        <p:spPr>
          <a:xfrm>
            <a:off x="2895480" y="3505320"/>
            <a:ext cx="3276720" cy="2636640"/>
          </a:xfrm>
          <a:prstGeom prst="rect">
            <a:avLst/>
          </a:prstGeom>
          <a:ln w="0">
            <a:noFill/>
          </a:ln>
        </p:spPr>
      </p:pic>
      <p:sp>
        <p:nvSpPr>
          <p:cNvPr id="208"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0"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3"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4" name="Picture 11" descr="dreamstime_9144548"/>
          <p:cNvPicPr/>
          <p:nvPr/>
        </p:nvPicPr>
        <p:blipFill>
          <a:blip r:embed="rId1"/>
          <a:stretch/>
        </p:blipFill>
        <p:spPr>
          <a:xfrm>
            <a:off x="5943600" y="2971800"/>
            <a:ext cx="2895480" cy="1981080"/>
          </a:xfrm>
          <a:prstGeom prst="rect">
            <a:avLst/>
          </a:prstGeom>
          <a:ln w="0">
            <a:noFill/>
          </a:ln>
        </p:spPr>
      </p:pic>
      <p:sp>
        <p:nvSpPr>
          <p:cNvPr id="225"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7"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1"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2" name="Picture 8" descr="dreamstime_5217365"/>
          <p:cNvPicPr/>
          <p:nvPr/>
        </p:nvPicPr>
        <p:blipFill>
          <a:blip r:embed="rId1"/>
          <a:stretch/>
        </p:blipFill>
        <p:spPr>
          <a:xfrm>
            <a:off x="457200" y="1828800"/>
            <a:ext cx="4038480" cy="2960640"/>
          </a:xfrm>
          <a:prstGeom prst="rect">
            <a:avLst/>
          </a:prstGeom>
          <a:ln w="0">
            <a:noFill/>
          </a:ln>
        </p:spPr>
      </p:pic>
      <p:sp>
        <p:nvSpPr>
          <p:cNvPr id="233"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f I asked you to stay like this for 3 hours, how would you react?</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36"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39"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0" name="Picture 8" descr="41071"/>
          <p:cNvPicPr/>
          <p:nvPr/>
        </p:nvPicPr>
        <p:blipFill>
          <a:blip r:embed="rId1"/>
          <a:stretch/>
        </p:blipFill>
        <p:spPr>
          <a:xfrm>
            <a:off x="6629400" y="1905120"/>
            <a:ext cx="2112840" cy="3519360"/>
          </a:xfrm>
          <a:prstGeom prst="rect">
            <a:avLst/>
          </a:prstGeom>
          <a:ln w="0">
            <a:noFill/>
          </a:ln>
        </p:spPr>
      </p:pic>
      <p:sp>
        <p:nvSpPr>
          <p:cNvPr id="241"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47"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48" name="Picture 8" descr="10258"/>
          <p:cNvPicPr/>
          <p:nvPr/>
        </p:nvPicPr>
        <p:blipFill>
          <a:blip r:embed="rId1"/>
          <a:stretch/>
        </p:blipFill>
        <p:spPr>
          <a:xfrm>
            <a:off x="609480" y="1905120"/>
            <a:ext cx="2463840" cy="4106880"/>
          </a:xfrm>
          <a:prstGeom prst="rect">
            <a:avLst/>
          </a:prstGeom>
          <a:ln w="0">
            <a:noFill/>
          </a:ln>
        </p:spPr>
      </p:pic>
      <p:sp>
        <p:nvSpPr>
          <p:cNvPr id="249"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52" name="Picture 10" descr="BKB09F04b"/>
          <p:cNvPicPr/>
          <p:nvPr/>
        </p:nvPicPr>
        <p:blipFill>
          <a:blip r:embed="rId1"/>
          <a:stretch/>
        </p:blipFill>
        <p:spPr>
          <a:xfrm>
            <a:off x="3124080" y="1676520"/>
            <a:ext cx="2793960" cy="4525920"/>
          </a:xfrm>
          <a:prstGeom prst="rect">
            <a:avLst/>
          </a:prstGeom>
          <a:ln w="0">
            <a:noFill/>
          </a:ln>
        </p:spPr>
      </p:pic>
      <p:sp>
        <p:nvSpPr>
          <p:cNvPr id="253"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6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26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71"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72" name="Picture 7" descr="URY0068D"/>
          <p:cNvPicPr/>
          <p:nvPr/>
        </p:nvPicPr>
        <p:blipFill>
          <a:blip r:embed="rId1"/>
          <a:stretch/>
        </p:blipFill>
        <p:spPr>
          <a:xfrm>
            <a:off x="6324480" y="1676520"/>
            <a:ext cx="2286000" cy="3771720"/>
          </a:xfrm>
          <a:prstGeom prst="rect">
            <a:avLst/>
          </a:prstGeom>
          <a:ln w="0">
            <a:noFill/>
          </a:ln>
        </p:spPr>
      </p:pic>
      <p:sp>
        <p:nvSpPr>
          <p:cNvPr id="273"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75"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7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91"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2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2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5"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0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1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1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2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2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6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killhaje</cp:lastModifiedBy>
  <cp:lastPrinted>2013-09-09T19:39:08Z</cp:lastPrinted>
  <dcterms:modified xsi:type="dcterms:W3CDTF">2013-09-09T19:43:22Z</dcterms:modified>
  <cp:revision>269</cp:revision>
  <dc:subject/>
  <dc:title>Development Through the Lifespan</dc:title>
</cp:coreProperties>
</file>