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F4984-35F0-4900-B724-CDC9F6804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E6146-DD03-42F1-BEAC-3A6A84143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266998-3134-410E-BCDD-331E53A21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207059-7306-4088-9135-3F4468F2B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480116A6-35D9-4AC2-BC47-FAD93E91C6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707170-2C5E-4A4F-9DCF-C90910AC6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F964474-DE86-4216-BB96-5DDE832DF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824E7A5-D203-43C4-9C28-21AE0DEBA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2A3561-EE01-41B1-A33C-9A22E5DBD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B079974-7377-4F5E-921B-6EA303AFFB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EDAAD-73BF-4748-9465-706A59F8E6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BFBF07-1446-47A2-BEE7-99C507A33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01EBCC4-AFE9-4B04-8CAE-38F79A5CAB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99E9FBE-7773-4F02-AC78-9F7653C84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DF10A50-2270-4FFB-8DD7-53DF2071D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FF90FAA-562C-4108-8B2C-9AB0046363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B254C86-260E-401A-828D-CC5263B558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749FFA-9F37-4CC4-8228-508592D7C7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6D6DB-F5D1-4664-9953-07BFDBD14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1C0C8E-2297-400B-9B35-FE2DD44726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371B70-00DE-465B-B91D-35BAA61DC7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1F677-4E2A-43F6-B9B0-EF5189EC95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F7273-5490-4A0B-A8F1-DE6FB9626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5B5264-B20B-45AA-BDA8-6854FBE00B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93CC58-454B-4974-B964-27A56A7F63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B3537-A914-44C0-945E-647A3B6ED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C23945-9C7C-43BF-846D-B4D4D745BE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04C3B-7070-4549-B7C9-6F328DE0F6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1D127-C44F-45CE-B2C7-87EBA4024A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A12E6-7770-4F05-A172-81548BD8E3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AD8AC-CC04-40CD-9909-DFC809F9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6ADDA-417F-4A9E-B2CC-13697AD6A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34DAF-C94D-42B4-982B-0DB6F433C3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56379-DD84-4E94-8612-36B7032D8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9ECC-FAC1-405C-B0E5-AC5B8947B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1AC17-A59C-482B-A5E8-4B05499D9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3CC7B-EBFE-4F8C-BF64-92BA1902FC53}"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0CCA-68ED-4943-8DC3-6CEE6491D1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5EB49-0CF2-4361-8334-5A27DB0AAA08}"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3376E-3FC4-4E7F-8038-05780025CA21}"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B933C-4803-4829-9E6D-BBAD977B2AEA}"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AE01-ADFA-41AB-B962-5C10154EEC94}"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9"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5"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6" name="Picture 7" descr="URY0010D"/>
          <p:cNvPicPr/>
          <p:nvPr/>
        </p:nvPicPr>
        <p:blipFill>
          <a:blip r:embed="rId1"/>
          <a:stretch/>
        </p:blipFill>
        <p:spPr>
          <a:xfrm>
            <a:off x="533520" y="2057400"/>
            <a:ext cx="2387520" cy="3938760"/>
          </a:xfrm>
          <a:prstGeom prst="rect">
            <a:avLst/>
          </a:prstGeom>
          <a:ln w="0">
            <a:noFill/>
          </a:ln>
        </p:spPr>
      </p:pic>
      <p:sp>
        <p:nvSpPr>
          <p:cNvPr id="187"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3"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196"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2120" y="1828800"/>
            <a:ext cx="7772400" cy="13622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SIT IN ROWS</a:t>
            </a:r>
            <a:br>
              <a:rPr sz="4000"/>
            </a:br>
            <a:br>
              <a:rPr sz="4000"/>
            </a:br>
            <a:r>
              <a:rPr b="1" lang="en-US" sz="4000" spc="-1" strike="noStrike">
                <a:solidFill>
                  <a:srgbClr val="e5e5ff"/>
                </a:solidFill>
                <a:latin typeface="Garamond"/>
              </a:rPr>
              <a:t>TAKE OUT </a:t>
            </a:r>
            <a:br>
              <a:rPr sz="4000"/>
            </a:br>
            <a:r>
              <a:rPr b="1" lang="en-US" sz="4000" spc="-1" strike="noStrike">
                <a:solidFill>
                  <a:srgbClr val="e5e5ff"/>
                </a:solidFill>
                <a:latin typeface="Garamond"/>
              </a:rPr>
              <a:t>A PEN AND PAPER</a:t>
            </a:r>
            <a:endParaRPr b="1" lang="en-US" sz="4000" spc="-1" strike="noStrike">
              <a:solidFill>
                <a:srgbClr val="e5e5ff"/>
              </a:solidFill>
              <a:latin typeface="Garamond"/>
            </a:endParaRPr>
          </a:p>
        </p:txBody>
      </p:sp>
      <p:sp>
        <p:nvSpPr>
          <p:cNvPr id="14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2"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06"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7" name="Picture 7" descr="dreamstime_9205495"/>
          <p:cNvPicPr/>
          <p:nvPr/>
        </p:nvPicPr>
        <p:blipFill>
          <a:blip r:embed="rId1"/>
          <a:stretch/>
        </p:blipFill>
        <p:spPr>
          <a:xfrm>
            <a:off x="2895480" y="3505320"/>
            <a:ext cx="3276720" cy="2636640"/>
          </a:xfrm>
          <a:prstGeom prst="rect">
            <a:avLst/>
          </a:prstGeom>
          <a:ln w="0">
            <a:noFill/>
          </a:ln>
        </p:spPr>
      </p:pic>
      <p:sp>
        <p:nvSpPr>
          <p:cNvPr id="208"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0"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19"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0"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3"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4" name="Picture 11" descr="dreamstime_9144548"/>
          <p:cNvPicPr/>
          <p:nvPr/>
        </p:nvPicPr>
        <p:blipFill>
          <a:blip r:embed="rId1"/>
          <a:stretch/>
        </p:blipFill>
        <p:spPr>
          <a:xfrm>
            <a:off x="5943600" y="2971800"/>
            <a:ext cx="2895480" cy="1981080"/>
          </a:xfrm>
          <a:prstGeom prst="rect">
            <a:avLst/>
          </a:prstGeom>
          <a:ln w="0">
            <a:noFill/>
          </a:ln>
        </p:spPr>
      </p:pic>
      <p:sp>
        <p:nvSpPr>
          <p:cNvPr id="225"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7"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1"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2" name="Picture 8" descr="dreamstime_5217365"/>
          <p:cNvPicPr/>
          <p:nvPr/>
        </p:nvPicPr>
        <p:blipFill>
          <a:blip r:embed="rId1"/>
          <a:stretch/>
        </p:blipFill>
        <p:spPr>
          <a:xfrm>
            <a:off x="457200" y="1828800"/>
            <a:ext cx="4038480" cy="2960640"/>
          </a:xfrm>
          <a:prstGeom prst="rect">
            <a:avLst/>
          </a:prstGeom>
          <a:ln w="0">
            <a:noFill/>
          </a:ln>
        </p:spPr>
      </p:pic>
      <p:sp>
        <p:nvSpPr>
          <p:cNvPr id="233"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If I asked you to stay like this for 3 hours, how would you react?</a:t>
            </a:r>
            <a:endParaRPr b="1" lang="en-US" sz="6000" spc="-1" strike="noStrike">
              <a:solidFill>
                <a:srgbClr val="e5e5ff"/>
              </a:solidFill>
              <a:latin typeface="Garamond"/>
            </a:endParaRPr>
          </a:p>
        </p:txBody>
      </p:sp>
      <p:sp>
        <p:nvSpPr>
          <p:cNvPr id="148"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36"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39"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0" name="Picture 8" descr="41071"/>
          <p:cNvPicPr/>
          <p:nvPr/>
        </p:nvPicPr>
        <p:blipFill>
          <a:blip r:embed="rId1"/>
          <a:stretch/>
        </p:blipFill>
        <p:spPr>
          <a:xfrm>
            <a:off x="6629400" y="1905120"/>
            <a:ext cx="2112840" cy="3519360"/>
          </a:xfrm>
          <a:prstGeom prst="rect">
            <a:avLst/>
          </a:prstGeom>
          <a:ln w="0">
            <a:noFill/>
          </a:ln>
        </p:spPr>
      </p:pic>
      <p:sp>
        <p:nvSpPr>
          <p:cNvPr id="241"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47"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48" name="Picture 8" descr="10258"/>
          <p:cNvPicPr/>
          <p:nvPr/>
        </p:nvPicPr>
        <p:blipFill>
          <a:blip r:embed="rId1"/>
          <a:stretch/>
        </p:blipFill>
        <p:spPr>
          <a:xfrm>
            <a:off x="609480" y="1905120"/>
            <a:ext cx="2463840" cy="4106880"/>
          </a:xfrm>
          <a:prstGeom prst="rect">
            <a:avLst/>
          </a:prstGeom>
          <a:ln w="0">
            <a:noFill/>
          </a:ln>
        </p:spPr>
      </p:pic>
      <p:sp>
        <p:nvSpPr>
          <p:cNvPr id="249"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52" name="Picture 10" descr="BKB09F04b"/>
          <p:cNvPicPr/>
          <p:nvPr/>
        </p:nvPicPr>
        <p:blipFill>
          <a:blip r:embed="rId1"/>
          <a:stretch/>
        </p:blipFill>
        <p:spPr>
          <a:xfrm>
            <a:off x="3124080" y="1676520"/>
            <a:ext cx="2793960" cy="4525920"/>
          </a:xfrm>
          <a:prstGeom prst="rect">
            <a:avLst/>
          </a:prstGeom>
          <a:ln w="0">
            <a:noFill/>
          </a:ln>
        </p:spPr>
      </p:pic>
      <p:sp>
        <p:nvSpPr>
          <p:cNvPr id="253"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25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265"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267"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71"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72" name="Picture 7" descr="URY0068D"/>
          <p:cNvPicPr/>
          <p:nvPr/>
        </p:nvPicPr>
        <p:blipFill>
          <a:blip r:embed="rId1"/>
          <a:stretch/>
        </p:blipFill>
        <p:spPr>
          <a:xfrm>
            <a:off x="6324480" y="1676520"/>
            <a:ext cx="2286000" cy="3771720"/>
          </a:xfrm>
          <a:prstGeom prst="rect">
            <a:avLst/>
          </a:prstGeom>
          <a:ln w="0">
            <a:noFill/>
          </a:ln>
        </p:spPr>
      </p:pic>
      <p:sp>
        <p:nvSpPr>
          <p:cNvPr id="273"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75"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76"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91"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2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29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29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4"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5"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08"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09"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1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2"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14"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1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8"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2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2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6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3"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killhaje</cp:lastModifiedBy>
  <cp:lastPrinted>2013-09-09T19:39:08Z</cp:lastPrinted>
  <dcterms:modified xsi:type="dcterms:W3CDTF">2013-09-09T19:43:22Z</dcterms:modified>
  <cp:revision>269</cp:revision>
  <dc:subject/>
  <dc:title>Development Through the Lifespan</dc:title>
</cp:coreProperties>
</file>