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5.xml.rels" ContentType="application/vnd.openxmlformats-package.relationships+xml"/>
  <Override PartName="/ppt/notesSlides/notesSlide49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4.wmf" ContentType="image/x-wmf"/>
  <Override PartName="/ppt/media/image17.jpeg" ContentType="image/jpeg"/>
  <Override PartName="/ppt/media/image3.png" ContentType="image/pn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258560" y="720360"/>
            <a:ext cx="4799160" cy="35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2C1BFAB4-C2A8-4F8B-B54F-1092C1BFF8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al self vs. real 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70AA7F64-CA98-4F98-83A0-888115CD6B45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ristin- connection between academic competence and physical competence perha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pid gains in emotional self-regulation occur in middle child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By age 10, most children are able to shift adaptively between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blem-centered cop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—through which 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raise a situation as changeable and decide what to do about it—and, if this is unsuccessful,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motion-cent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p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which is internal, private, and aimed at controlling distress when little can be done about an outco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When emotional self-regulation has developed well, school-age children acquire a sense of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motional selfefficacy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eeling of being in control of their emotional experience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fosters a favorable self-image and 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istic outl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poorly regulated children often experience hostile, dismissive parental reactions to distress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overwhelmed by negative emo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san- pay attention to this as you observe the different age gro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dle childhood brings major advances in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erspective tak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the capacity to imagine what other people may 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ing and feeling—changes that support many social ski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aw your attention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first, children have only a limited idea of what other people might be thinking and feeling, but later bec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aware that people can interpret the same event different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Soon, they can reflect on how another person might regard their own thoughts, feelings, and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Finally, older children and adolescents can evaluate two people’s perspectives simultaneous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age 7 to 8, children no longer believe that all truth-telling is good and all lying bad, but also consider proso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ntisocial inten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ing Individual Rights (p. 26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When children challenge adult authority, they typically do so within the personal domain, concerning cho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ch as hairstyle and frie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s early as age 6, children view freedom of speech and religion as individual rights—even if laws exist that de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righ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They also regard laws that discriminate against individuals as wrong and worthy of viol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Older school-age children place limits on individual choice, and prejudice usually declines in middle child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er Groups (pp. 264–26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middle childhood, children form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eer group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collectives that generate unique values and stand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behavior and a social structure of leaders and follow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“peer culture” of a peer group typically consists of a specialized vocabulary, dress code, and place to “hang out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Within the peer group, children acquire many social skills, including cooperation and leadershi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When children who are no longer “respected” are excluded from groups, they may turn to other low-status pe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group belonging, thereby reducing their opportunities to learn socially competent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Desire for group membership can also be satisfied through formal groups, such as scouting and religious youth gro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iendships (p. 26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middle childhood, friendship becomes more complex and psychologically based, providing children with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xt for the development of trust and sensitiv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Children tend to choose friends who are similar to themselves in age, sex, race, ethnicity, and SES, as well as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ity, popularity, academic achievement, and prosocial behavior. Yet friendship opportunities offer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ren’s environments also affect their choi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er Acceptance (pp. 265–26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eer acceptanc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s to likability—the extent to which a child is viewed by a group of agemates as a wort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part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Children’s self-reports reveal four broad categories of social accept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pular childre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 many positive votes (are well-like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jected childre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 many negative votes (are dislike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troversial childre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 many votes, both positive and 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glected childre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seldom chosen, either positively or negative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About two-thirds of pupils in typical elementary school classrooms fit one of these categories; one-third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verag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eer acceptance and do not receive extreme sco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Peer acceptance is a powerful predictor of psychological adjust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Rejected children are unhappy, disruptive, and low in self-este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Peer rejection in middle childhood is strongly associated with many problems, including poor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formance, antisocial behavior, delinquency in adolescence, and criminality in young adult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Earlier influences, such as parenting practices and family stress, may largely explain the link between p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ptance and adjust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erminants of Peer Accep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Social behavior plays a powerful role in determining why one child is liked and another reje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Popular Child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pular-prosocial childre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combine academic and social compet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pular-antisocial childre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be “tough” boys who are athletically skilled but are poor students w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use trouble and defy adult authority, or relationally aggressive boys and girls who ignore, exclude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ead rumors about other children as a way of enhancing their own sta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3) With age, peers like these high-status, aggressive youths less and l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Rejected Child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jected-aggressive childre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high rates of conflict, physical and relational aggression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peractive, inattentive, and impulsive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jected-withdrawn childre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passive, socially awkward, and overwhelmed by social anx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3) Rejected children generally have few or no friends, which results in severe adjustment difficul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Controversial and Neglected Child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Controversial children display both positive and negative social behaviors, engendering mixed p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inion. Though they have friends, they often bully others and engage in calculated relational aggres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Neglected children—once thought to be in need of treatment—are usually just as socially skilled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childr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ing Rejected Child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Most interventions to help rejected children involve coaching, modeling, and reinforcing positive soc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ki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Rejected children need help attributing their peer difficulties to internal, changeable cau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If socially incompetent behaviors originate in harsh, intrusive, authoritarian parenting, interventions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 on the child–parent interaction may be nee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der Identity and Behavior (pp. 268–26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From third to sixth grade, boys strengthen their identification with “masculine” personality traits, while girls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ication with “feminine” traits decli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Compared with boys, who usually stick to “masculine” pursuits, girls begin to experiment with a wider rang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ons and more often consider traditionally male future work ro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These changes reflect a mixture of cognitive and social for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School-age children are aware that society attaches greater prestige to “masculine” characterist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Parents, especially fathers, are more tolerant of girls than of boys crossing gender li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Gender identity expands to include self-evaluations, which greatly affect adjustmen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Gender typicality—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gree to which the child feels similar to others of the same ge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Gender contentednes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—the degree to which the child feels satisfied with his or her gender assig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elt pressure to conform to gender roles—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egree to which the child feels that parents and pe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approve of their gender-related tra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Some experts advocate using therapy to make gender-atypical children more gender-typical, while others sug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ing parents and peers accept the children’s gender-atypical behaviors and inter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Parent–Child Relationships (p. 26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In middle childhood, the amount of time children spend with parents declines dramatic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Reasoning is more effective with school-age children because of their greater capacity for logical thin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regula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—a form of supervision in which parents exercise general oversight while permitting children to 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harge of moment-by-moment decision making—grows out of a cooperative relationship between parent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and prepares the child for the greater freedom of adolesc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Parents tend to devote more time to children of their own se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Siblings (pp. 269–27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Sibling rivalry increases in middle childhood, when some parents compare siblings’ traits and accomplish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However, siblings are important sources of support for school-age childr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Siblings benefit when parents encourage warm, considerate sibling 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Only Children (p. 27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Sibling relationships are not essential for healthy develop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Only children have somewhat closer relationships with parents, but tend to be less well-accepted in the pe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up, perhaps because they have not had opportunities to practice conflict resolution skills with sibl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Favorable development also characterizes only children in China, where a one-child policy has existed for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20 ye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orce (pp. 270–272, 27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Currently, the divorce rate in the United States is the highest in the world, and of 45 percent of Ameri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riages that end in divorce, half involve childr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One-fourth of American children live in single-parent households, most with their mot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Children of divorce spend an average of five years in a single-parent ho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About two-thirds of divorced parents marry again, and half of their children eventually experience the end of the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s’ second marri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Although studies have reported that marital breakup is stressful for children, great individual differences exist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ell children f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ediate Consequ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In newly divorced households, family conflict often ri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Mother-headed households typically experience a sharp drop in income, and the majority of single m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young children live in pover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High maternal stress can lead to a disorganized family situation in which discipline may become harsh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nsist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Fathers who see their children only occasionally may be permissive, making the mother’s task even ha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 Children’s 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Younger children often blame themselves for a marital breakup and fear abandonment by both par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ended Families (pp. 272–27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lende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constituted, famil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e results from remarriage of a divorced parent that includes pare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, and new steprelati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Mother–Stepfather Famil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In this arrangement—the most common—boys usually adjust quickly, but girls often react with sulky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istant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Older school-age children and adolescents of both sexes find it harder to adjust to blended famil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Father–Stepmother Families: When fathers have custody, children typically react negatively to remarriage; girl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ecially, have a hard time getting along with their stepmot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Support for Blended Famil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Family life education and therapy can help parents and children adapt to the complexities of living in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ended fami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Stepparents do best when they move into their new roles gradu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rnal Employment and Dual-Earner Families (pp. 274–27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Today, more than three-fourths of either single or married mothers with school-age children are employ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Maternal Employment and Child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Children of mothers who enjoy their work and remain committed to parenting show favorable adjustme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especially positive outcomes for gir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Fathers in dual-earner households often take on greater child-rearing responsibilities; paternal involvemen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ociated with higher achievement and more mature soci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When the mother’s employment is overly stressful, children are at risk for ineffective parenting, especi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low-SES mothers spend long hours at low-paying, physically exhausting job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Part-time employment and flexible work schedules are associated with good child adjust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oups are the people you should contact first with clarifying questions or if you miss something in 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E5350B31-A5C0-4B92-B2EC-A0214845B35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ars and Anxieties (pp. 275, 27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s children begin to understand the realities of the wider world, the possibility of personal harm and media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uch as disasters) often trouble them, along with worries about academic failure, parents’ health, phys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juries, and peer rej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Most children can handle fears constructively, using emotional regulation strateg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About 5 percent of school-age youngsters develop a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hobi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—an intense, unmanageable fear; for example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,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phobi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severe apprehension about attending scho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Other childhood anxieties may arise from harsh living conditions—for example, those of war-torn areas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bout 90,000 cases of child sexual abuse occurred in the United States in the most recently reported ye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Characteristics of Abusers and Victi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Sexual abuse is committed more often against girls than boys, and most cases are reported in mid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Typically, the abuser is a male—a parent or someone whom the parent knows we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The Internet and mobile phones have become avenues through which other adults commit sexual ab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Abusers have great difficulty controlling their impulses and may suffer from psychological disorders. 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ten pick out children who are unlikely to defend themselves or be belie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 Reported cases of child sexual abuse are linked to poverty and marital instabi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Consequ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Adjustment problems of child sexual abuse victims include depression, low self-esteem, mistrust of adult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nger and hosti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Younger children may have sleep difficulties and generalized fearfuln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Adolescents may run away and show suicidal reactions and substance ab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Repeated sexual abuse is associated with central nervous system dam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 In adolescence, abused young people often become promiscuous and, as adults, show increased arrest r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ex crimes and prostit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. Abused girls often enter into abusive relationships as adults and may engage in irresponsible and coerc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Prevention and Trea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Long-term therapy with children and families is usually necess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Prevention is the best way to reduce the suffering of child sexual abuse victi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Courts are now prosecuting abusers more rigorously, and children’s testimony is being taken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ous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Educational programs can help children recognize inappropriate sex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stering Resilience in Middle Childhood (p. 27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Only a modest relationship exists between stressful life experiences and psychological disturbances in child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Four broad factors that consistently protect against maladjustment are the child’s personal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cluding easy temperament and a mastery-oriented approach to new situations), a warm parental relationship, 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ult outside the immediate family who offers a support system, and good community resour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esilienc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not a preexisting attribute but a capacity that develo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Families, schools, communities, and society can enhance or undermine school-age children’s suppor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onships and sense of compet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77EE2-1DEF-4F45-94E8-AE97B749A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3C039-32FA-45B4-A691-8D87CB75F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8AA2F-D4C8-4D1E-AA68-B378DA5B7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37999-2AD5-43A9-8FE2-92FC6464C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FF249-25CD-46DD-868E-A816A06F8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4E8AF-8DD1-4A04-B91B-AC293809B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2F8E0-51FA-4C90-BAD7-30C1E66F7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F8E6B-65C6-4C77-85E9-175967422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BE36A-3BBA-4B38-B6B1-F738A40B6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C6E56-DC3F-49AB-AE6B-55CFE6AE9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D5066-6169-4258-8900-D94DB253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89C9B-4595-4F14-9BDC-86E6F0A8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A4251-F679-47B0-B43E-9D44DB75AC04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CDC61-DB47-44DF-86F2-2CE4C42CBFB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1981080" y="6248160"/>
            <a:ext cx="5181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uc.edu/webapps/ucosmic/programs/detail.aspx?id=203" TargetMode="External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doodle.com/jenniferkillham" TargetMode="External"/><Relationship Id="rId2" Type="http://schemas.openxmlformats.org/officeDocument/2006/relationships/hyperlink" Target="http://doodle.com/jenniferkillham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libraries.uc.edu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4756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eat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" name="Footer Placeholder 2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3525840" y="4030560"/>
            <a:ext cx="1471680" cy="4597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Megan 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3525840" y="2254320"/>
            <a:ext cx="1192320" cy="4597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JeMa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95440" y="5819760"/>
            <a:ext cx="927000" cy="459720"/>
          </a:xfrm>
          <a:prstGeom prst="rect">
            <a:avLst/>
          </a:prstGeom>
          <a:solidFill>
            <a:srgbClr val="b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Edd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3794040" y="5776920"/>
            <a:ext cx="971640" cy="459720"/>
          </a:xfrm>
          <a:prstGeom prst="rect">
            <a:avLst/>
          </a:prstGeom>
          <a:solidFill>
            <a:srgbClr val="b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Sus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5410080" y="1550880"/>
            <a:ext cx="927360" cy="459720"/>
          </a:xfrm>
          <a:prstGeom prst="rect">
            <a:avLst/>
          </a:prstGeom>
          <a:solidFill>
            <a:srgbClr val="ff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Shih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2085840" y="4030560"/>
            <a:ext cx="1173240" cy="4597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Caitlin</a:t>
            </a: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Box 10"/>
          <p:cNvSpPr/>
          <p:nvPr/>
        </p:nvSpPr>
        <p:spPr>
          <a:xfrm>
            <a:off x="5119560" y="3255840"/>
            <a:ext cx="1509840" cy="459720"/>
          </a:xfrm>
          <a:prstGeom prst="rect">
            <a:avLst/>
          </a:prstGeom>
          <a:solidFill>
            <a:srgbClr val="ff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Megan 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Box 11"/>
          <p:cNvSpPr/>
          <p:nvPr/>
        </p:nvSpPr>
        <p:spPr>
          <a:xfrm>
            <a:off x="6994440" y="2311560"/>
            <a:ext cx="136692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Rachel 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Box 12"/>
          <p:cNvSpPr/>
          <p:nvPr/>
        </p:nvSpPr>
        <p:spPr>
          <a:xfrm>
            <a:off x="6994440" y="4125960"/>
            <a:ext cx="1233720" cy="825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Paige H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TextBox 14"/>
          <p:cNvSpPr/>
          <p:nvPr/>
        </p:nvSpPr>
        <p:spPr>
          <a:xfrm>
            <a:off x="3581280" y="4870440"/>
            <a:ext cx="110808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Kristin</a:t>
            </a: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Box 15"/>
          <p:cNvSpPr/>
          <p:nvPr/>
        </p:nvSpPr>
        <p:spPr>
          <a:xfrm>
            <a:off x="628560" y="4870440"/>
            <a:ext cx="89532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E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Box 16"/>
          <p:cNvSpPr/>
          <p:nvPr/>
        </p:nvSpPr>
        <p:spPr>
          <a:xfrm>
            <a:off x="539640" y="3255840"/>
            <a:ext cx="1135080" cy="45972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Wen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Box 17"/>
          <p:cNvSpPr/>
          <p:nvPr/>
        </p:nvSpPr>
        <p:spPr>
          <a:xfrm>
            <a:off x="588960" y="4033800"/>
            <a:ext cx="919080" cy="45972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Ima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TextBox 19"/>
          <p:cNvSpPr/>
          <p:nvPr/>
        </p:nvSpPr>
        <p:spPr>
          <a:xfrm>
            <a:off x="457200" y="533520"/>
            <a:ext cx="2362320" cy="4597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Teacher S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TextBox 20"/>
          <p:cNvSpPr/>
          <p:nvPr/>
        </p:nvSpPr>
        <p:spPr>
          <a:xfrm>
            <a:off x="5264280" y="2311560"/>
            <a:ext cx="1180800" cy="459720"/>
          </a:xfrm>
          <a:prstGeom prst="rect">
            <a:avLst/>
          </a:prstGeom>
          <a:solidFill>
            <a:srgbClr val="ff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Pame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TextBox 21"/>
          <p:cNvSpPr/>
          <p:nvPr/>
        </p:nvSpPr>
        <p:spPr>
          <a:xfrm>
            <a:off x="457200" y="2311560"/>
            <a:ext cx="1305000" cy="45972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Christi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Box 22"/>
          <p:cNvSpPr/>
          <p:nvPr/>
        </p:nvSpPr>
        <p:spPr>
          <a:xfrm>
            <a:off x="5264280" y="4102200"/>
            <a:ext cx="1180800" cy="459720"/>
          </a:xfrm>
          <a:prstGeom prst="rect">
            <a:avLst/>
          </a:prstGeom>
          <a:solidFill>
            <a:srgbClr val="ff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Land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Box 23"/>
          <p:cNvSpPr/>
          <p:nvPr/>
        </p:nvSpPr>
        <p:spPr>
          <a:xfrm>
            <a:off x="3697200" y="3255840"/>
            <a:ext cx="876240" cy="45972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Liz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Box 24"/>
          <p:cNvSpPr/>
          <p:nvPr/>
        </p:nvSpPr>
        <p:spPr>
          <a:xfrm>
            <a:off x="2035080" y="2271600"/>
            <a:ext cx="1063800" cy="4597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Cod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TextBox 25"/>
          <p:cNvSpPr/>
          <p:nvPr/>
        </p:nvSpPr>
        <p:spPr>
          <a:xfrm>
            <a:off x="2035080" y="3238560"/>
            <a:ext cx="1096920" cy="4597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Alys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Box 26"/>
          <p:cNvSpPr/>
          <p:nvPr/>
        </p:nvSpPr>
        <p:spPr>
          <a:xfrm>
            <a:off x="6927840" y="3244680"/>
            <a:ext cx="160020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Demetri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TextBox 27"/>
          <p:cNvSpPr/>
          <p:nvPr/>
        </p:nvSpPr>
        <p:spPr>
          <a:xfrm>
            <a:off x="7088040" y="1554120"/>
            <a:ext cx="68436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TextBox 28"/>
          <p:cNvSpPr/>
          <p:nvPr/>
        </p:nvSpPr>
        <p:spPr>
          <a:xfrm>
            <a:off x="2035080" y="4870440"/>
            <a:ext cx="101304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Jas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TextBox 29"/>
          <p:cNvSpPr/>
          <p:nvPr/>
        </p:nvSpPr>
        <p:spPr>
          <a:xfrm>
            <a:off x="4897440" y="4890960"/>
            <a:ext cx="157968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Rachel 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Box 30"/>
          <p:cNvSpPr/>
          <p:nvPr/>
        </p:nvSpPr>
        <p:spPr>
          <a:xfrm>
            <a:off x="1819440" y="5819760"/>
            <a:ext cx="1504800" cy="459720"/>
          </a:xfrm>
          <a:prstGeom prst="rect">
            <a:avLst/>
          </a:prstGeom>
          <a:solidFill>
            <a:srgbClr val="b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Rachel 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Box 31"/>
          <p:cNvSpPr/>
          <p:nvPr/>
        </p:nvSpPr>
        <p:spPr>
          <a:xfrm>
            <a:off x="471600" y="1495440"/>
            <a:ext cx="1203120" cy="45972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Paige 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Box 32"/>
          <p:cNvSpPr/>
          <p:nvPr/>
        </p:nvSpPr>
        <p:spPr>
          <a:xfrm>
            <a:off x="3463920" y="1486080"/>
            <a:ext cx="1341360" cy="4597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Mered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TextBox 33"/>
          <p:cNvSpPr/>
          <p:nvPr/>
        </p:nvSpPr>
        <p:spPr>
          <a:xfrm>
            <a:off x="2041560" y="1508040"/>
            <a:ext cx="1138320" cy="4597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Claire</a:t>
            </a: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Exploring </a:t>
            </a:r>
            <a:br>
              <a:rPr sz="4800"/>
            </a:b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Lifespan Development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50960" y="1913040"/>
            <a:ext cx="4335480" cy="53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Chapter 10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motional and Social Development in Middle Childhoo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multimedia product and its contents are protected under copyright law. The following are prohibited by law: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-22860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y public performance or display, including transmission of any image over a network;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-22860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paration of any derivative work, including the extraction, in whole or in part, of any images;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-228600">
              <a:lnSpc>
                <a:spcPct val="100000"/>
              </a:lnSpc>
              <a:spcBef>
                <a:spcPts val="3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y rental, lease, or lending of the program.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4" descr="Berk-0205748597"/>
          <p:cNvPicPr/>
          <p:nvPr/>
        </p:nvPicPr>
        <p:blipFill>
          <a:blip r:embed="rId1"/>
          <a:stretch/>
        </p:blipFill>
        <p:spPr>
          <a:xfrm>
            <a:off x="762120" y="2057400"/>
            <a:ext cx="31240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Quiz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struction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rst, refresh your memories on your inquiry question. Keep this in min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 your desk (closed-book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5 minutes to complete the quiz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http://www.online-stopwatch.com/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will pull a name card to determine who shares their answer for question 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4756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tner U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Footer Placeholder 2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3813120" y="4086360"/>
            <a:ext cx="1471680" cy="4597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Megan K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Box 5"/>
          <p:cNvSpPr/>
          <p:nvPr/>
        </p:nvSpPr>
        <p:spPr>
          <a:xfrm>
            <a:off x="4137120" y="2330280"/>
            <a:ext cx="1191960" cy="4597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JeMa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TextBox 6"/>
          <p:cNvSpPr/>
          <p:nvPr/>
        </p:nvSpPr>
        <p:spPr>
          <a:xfrm>
            <a:off x="595440" y="5819760"/>
            <a:ext cx="927000" cy="459720"/>
          </a:xfrm>
          <a:prstGeom prst="rect">
            <a:avLst/>
          </a:prstGeom>
          <a:solidFill>
            <a:srgbClr val="b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Edd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TextBox 7"/>
          <p:cNvSpPr/>
          <p:nvPr/>
        </p:nvSpPr>
        <p:spPr>
          <a:xfrm>
            <a:off x="4390920" y="5332320"/>
            <a:ext cx="971640" cy="459720"/>
          </a:xfrm>
          <a:prstGeom prst="rect">
            <a:avLst/>
          </a:prstGeom>
          <a:solidFill>
            <a:srgbClr val="b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Sus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Box 8"/>
          <p:cNvSpPr/>
          <p:nvPr/>
        </p:nvSpPr>
        <p:spPr>
          <a:xfrm>
            <a:off x="5410080" y="1550880"/>
            <a:ext cx="927360" cy="459720"/>
          </a:xfrm>
          <a:prstGeom prst="rect">
            <a:avLst/>
          </a:prstGeom>
          <a:solidFill>
            <a:srgbClr val="ff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Shih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Box 9"/>
          <p:cNvSpPr/>
          <p:nvPr/>
        </p:nvSpPr>
        <p:spPr>
          <a:xfrm>
            <a:off x="1498680" y="4033800"/>
            <a:ext cx="1173240" cy="4597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Caitlin</a:t>
            </a: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Box 10"/>
          <p:cNvSpPr/>
          <p:nvPr/>
        </p:nvSpPr>
        <p:spPr>
          <a:xfrm>
            <a:off x="5119560" y="3255840"/>
            <a:ext cx="1509840" cy="459720"/>
          </a:xfrm>
          <a:prstGeom prst="rect">
            <a:avLst/>
          </a:prstGeom>
          <a:solidFill>
            <a:srgbClr val="ff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Megan 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Box 11"/>
          <p:cNvSpPr/>
          <p:nvPr/>
        </p:nvSpPr>
        <p:spPr>
          <a:xfrm>
            <a:off x="6994440" y="2311560"/>
            <a:ext cx="136692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Rachel 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Box 12"/>
          <p:cNvSpPr/>
          <p:nvPr/>
        </p:nvSpPr>
        <p:spPr>
          <a:xfrm>
            <a:off x="6994440" y="4125960"/>
            <a:ext cx="1233720" cy="825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Paige H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Box 14"/>
          <p:cNvSpPr/>
          <p:nvPr/>
        </p:nvSpPr>
        <p:spPr>
          <a:xfrm>
            <a:off x="3773520" y="4890960"/>
            <a:ext cx="110808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Kristin</a:t>
            </a: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extBox 15"/>
          <p:cNvSpPr/>
          <p:nvPr/>
        </p:nvSpPr>
        <p:spPr>
          <a:xfrm>
            <a:off x="628560" y="4870440"/>
            <a:ext cx="89532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E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Box 16"/>
          <p:cNvSpPr/>
          <p:nvPr/>
        </p:nvSpPr>
        <p:spPr>
          <a:xfrm>
            <a:off x="539640" y="3255840"/>
            <a:ext cx="1135080" cy="45972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Wen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Box 17"/>
          <p:cNvSpPr/>
          <p:nvPr/>
        </p:nvSpPr>
        <p:spPr>
          <a:xfrm>
            <a:off x="588960" y="4033800"/>
            <a:ext cx="919080" cy="45972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Ima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Box 20"/>
          <p:cNvSpPr/>
          <p:nvPr/>
        </p:nvSpPr>
        <p:spPr>
          <a:xfrm>
            <a:off x="5264280" y="2311560"/>
            <a:ext cx="1180800" cy="459720"/>
          </a:xfrm>
          <a:prstGeom prst="rect">
            <a:avLst/>
          </a:prstGeom>
          <a:solidFill>
            <a:srgbClr val="ff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Pame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Box 21"/>
          <p:cNvSpPr/>
          <p:nvPr/>
        </p:nvSpPr>
        <p:spPr>
          <a:xfrm>
            <a:off x="457200" y="2311560"/>
            <a:ext cx="1305000" cy="45972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Christi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Box 22"/>
          <p:cNvSpPr/>
          <p:nvPr/>
        </p:nvSpPr>
        <p:spPr>
          <a:xfrm>
            <a:off x="5264280" y="4102200"/>
            <a:ext cx="1180800" cy="459720"/>
          </a:xfrm>
          <a:prstGeom prst="rect">
            <a:avLst/>
          </a:prstGeom>
          <a:solidFill>
            <a:srgbClr val="ff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Land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Box 23"/>
          <p:cNvSpPr/>
          <p:nvPr/>
        </p:nvSpPr>
        <p:spPr>
          <a:xfrm>
            <a:off x="4327560" y="3244680"/>
            <a:ext cx="876240" cy="45972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Liz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Box 24"/>
          <p:cNvSpPr/>
          <p:nvPr/>
        </p:nvSpPr>
        <p:spPr>
          <a:xfrm>
            <a:off x="1674720" y="2311560"/>
            <a:ext cx="1063800" cy="4597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Cod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Box 25"/>
          <p:cNvSpPr/>
          <p:nvPr/>
        </p:nvSpPr>
        <p:spPr>
          <a:xfrm>
            <a:off x="1641600" y="3263760"/>
            <a:ext cx="1096920" cy="4597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Alys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Box 26"/>
          <p:cNvSpPr/>
          <p:nvPr/>
        </p:nvSpPr>
        <p:spPr>
          <a:xfrm>
            <a:off x="6878520" y="3654360"/>
            <a:ext cx="160020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Demetri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Box 27"/>
          <p:cNvSpPr/>
          <p:nvPr/>
        </p:nvSpPr>
        <p:spPr>
          <a:xfrm>
            <a:off x="7162920" y="1849320"/>
            <a:ext cx="68400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TextBox 28"/>
          <p:cNvSpPr/>
          <p:nvPr/>
        </p:nvSpPr>
        <p:spPr>
          <a:xfrm>
            <a:off x="1498680" y="4870440"/>
            <a:ext cx="101268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Jas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Box 29"/>
          <p:cNvSpPr/>
          <p:nvPr/>
        </p:nvSpPr>
        <p:spPr>
          <a:xfrm>
            <a:off x="4897440" y="4890960"/>
            <a:ext cx="1579680" cy="4597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Rachel 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Box 30"/>
          <p:cNvSpPr/>
          <p:nvPr/>
        </p:nvSpPr>
        <p:spPr>
          <a:xfrm>
            <a:off x="1498680" y="5819760"/>
            <a:ext cx="1504800" cy="459720"/>
          </a:xfrm>
          <a:prstGeom prst="rect">
            <a:avLst/>
          </a:prstGeom>
          <a:solidFill>
            <a:srgbClr val="b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Rachel 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Box 31"/>
          <p:cNvSpPr/>
          <p:nvPr/>
        </p:nvSpPr>
        <p:spPr>
          <a:xfrm>
            <a:off x="471600" y="1495440"/>
            <a:ext cx="1203120" cy="459720"/>
          </a:xfrm>
          <a:prstGeom prst="rect">
            <a:avLst/>
          </a:prstGeom>
          <a:solidFill>
            <a:srgbClr val="a3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Paige 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Box 32"/>
          <p:cNvSpPr/>
          <p:nvPr/>
        </p:nvSpPr>
        <p:spPr>
          <a:xfrm>
            <a:off x="4094280" y="1495440"/>
            <a:ext cx="1341360" cy="4597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Meredi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Box 33"/>
          <p:cNvSpPr/>
          <p:nvPr/>
        </p:nvSpPr>
        <p:spPr>
          <a:xfrm>
            <a:off x="1569960" y="1486080"/>
            <a:ext cx="1138320" cy="4597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Claire</a:t>
            </a:r>
            <a:r>
              <a:rPr b="0" lang="en-US" sz="2400" spc="-1" strike="noStrike">
                <a:solidFill>
                  <a:srgbClr val="000514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witch quizzes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with your partn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Quiz Resul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0" name="Content Placeholder 2" descr=""/>
          <p:cNvPicPr/>
          <p:nvPr/>
        </p:nvPicPr>
        <p:blipFill>
          <a:blip r:embed="rId1"/>
          <a:stretch/>
        </p:blipFill>
        <p:spPr>
          <a:xfrm>
            <a:off x="378000" y="1511280"/>
            <a:ext cx="8546760" cy="4614840"/>
          </a:xfrm>
          <a:prstGeom prst="rect">
            <a:avLst/>
          </a:prstGeom>
          <a:ln w="0">
            <a:noFill/>
          </a:ln>
        </p:spPr>
      </p:pic>
      <p:sp>
        <p:nvSpPr>
          <p:cNvPr id="151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tay with your partner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95360" y="68580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According to Erikson’s theory, what is the 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psychological </a:t>
            </a: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conflict of middle childhood? 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TextBox 1"/>
          <p:cNvSpPr/>
          <p:nvPr/>
        </p:nvSpPr>
        <p:spPr>
          <a:xfrm>
            <a:off x="1752480" y="4786200"/>
            <a:ext cx="57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dustry vs. Inferior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tner Wor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mmarize Erikson’s Theory of Industry vs. Inferiority (p. 257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e major personality changes in middle childhood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tinguish between Industry vs. Inferior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ording to Erikson, how is the conflict of industry versus inferiority resolved?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scribe Erikson’s stage of industry versus inferiority 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Distinguish Between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dustry versus Inferiority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457200" y="1600200"/>
            <a:ext cx="83059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ustry combin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 realistic self-concep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ide in accomplish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oral responsi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ooperation with agema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ample of opportunities to foster for industr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yssa- with volleyball coaching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ailtin- with Ohio Read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JeMarr- mentoring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4572000" y="1600200"/>
            <a:ext cx="40384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gend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nnouncements/Orientin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ver Ch. 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quiry ques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omework overview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Distinguish Between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dustry versus Inferiority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457200" y="1600200"/>
            <a:ext cx="83059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ferior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ssimism and lack of confidence in own ability to do things wel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ink/apply: Rachel/Q- how does skill competency influence to intrinsic motiva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mily environment, teachers, and peers can contribute to negative feeling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ink/apply: Liza, JeMarr, Rachel T., Q- How does this fit in relation to your question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4572000" y="1600200"/>
            <a:ext cx="40384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5360" y="68580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According to Erikson, how is the conflict of industry versus inferiority resolved?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TextBox 1"/>
          <p:cNvSpPr/>
          <p:nvPr/>
        </p:nvSpPr>
        <p:spPr>
          <a:xfrm>
            <a:off x="1219320" y="3733920"/>
            <a:ext cx="6705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y developing a sense of competence at useful skill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Liza/JeMarr- philosophi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Describe school-age children’s self-concept and self-esteem, and discuss factors that affect their achievement-related</a:t>
            </a:r>
            <a:br>
              <a:rPr sz="4400"/>
            </a:br>
            <a:r>
              <a:rPr b="0" lang="en-US" sz="4400" spc="-1" strike="noStrike">
                <a:solidFill>
                  <a:srgbClr val="e5e5ff"/>
                </a:solidFill>
                <a:latin typeface="Garamond"/>
              </a:rPr>
              <a:t>attributions. (pp. 257–261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457200" y="3808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ith your partner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When school-age children provide descriptions of themselves, the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Rectangle 1"/>
          <p:cNvSpPr/>
          <p:nvPr/>
        </p:nvSpPr>
        <p:spPr>
          <a:xfrm>
            <a:off x="459000" y="1991880"/>
            <a:ext cx="1807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br>
              <a:rPr sz="700"/>
            </a:b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19040" y="2819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What impacts this girl’s description of herself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(running for student council)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ttp://www.youtube.com/watch?v=bDkUOydks3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(Susan- interesting to ask all four of the children you are observing this question)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ocial comparisons (p. 258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37720" y="1828440"/>
            <a:ext cx="76201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J is trying to understand competition better (pros/cons related to development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achel C. is trying to understand insecuriti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do EJ/Rachel C. need to consider in regard to social comparisons?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Arial"/>
              </a:rPr>
              <a:t>Make notes:</a:t>
            </a:r>
            <a:br>
              <a:rPr sz="3600"/>
            </a:br>
            <a:r>
              <a:rPr b="1" lang="en-US" sz="3600" spc="-1" strike="noStrike">
                <a:solidFill>
                  <a:srgbClr val="e5e5ff"/>
                </a:solidFill>
                <a:latin typeface="Arial"/>
              </a:rPr>
              <a:t>Achievement-Related Attributions</a:t>
            </a:r>
            <a:r>
              <a:rPr b="1" lang="en-US" sz="14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1" lang="en-US" sz="1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380880" y="1905120"/>
          <a:ext cx="8305920" cy="3779640"/>
        </p:xfrm>
        <a:graphic>
          <a:graphicData uri="http://schemas.openxmlformats.org/drawingml/2006/table">
            <a:tbl>
              <a:tblPr/>
              <a:tblGrid>
                <a:gridCol w="2278080"/>
                <a:gridCol w="1955880"/>
                <a:gridCol w="4071960"/>
              </a:tblGrid>
              <a:tr h="103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son for Succes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son for Failu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</a:tr>
              <a:tr h="132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ter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1840" indent="-2318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14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arned helplessnes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Mastery-oriented vs. learned helplessness </a:t>
            </a:r>
            <a:br>
              <a:rPr sz="3600"/>
            </a:br>
            <a:r>
              <a:rPr b="1" lang="en-US" sz="2000" spc="-1" strike="noStrike">
                <a:solidFill>
                  <a:srgbClr val="e5e5ff"/>
                </a:solidFill>
                <a:latin typeface="Garamond"/>
              </a:rPr>
              <a:t>(pp. 260-261)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stery oriented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credit their success to ability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(student council video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earned helplessness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focus on external factors and can’t be improved through try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any of you are asking questions about why students respond certain ways and how to interact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ad this section with your partner with an eye towards your questio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16680" indent="-23724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hare connections by saying, “The book says ‘parents of children with a learned helplessness style usually believe their child is incapable.’ I wonder if this influences the difference between home and school with Tre (Imari).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When faced with disappointment or failure on an academic task, mastery-oriented children are most likely to attribute their failure to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…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1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Picture 6" descr="http://wps.ablongman.com/wps/media/styles/1480/_skins_/D/default_blue/problem_type_4.gif"/>
          <p:cNvPicPr/>
          <p:nvPr/>
        </p:nvPicPr>
        <p:blipFill>
          <a:blip r:embed="rId1"/>
          <a:stretch/>
        </p:blipFill>
        <p:spPr>
          <a:xfrm>
            <a:off x="0" y="0"/>
            <a:ext cx="352440" cy="2476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 txBox="1"/>
          <p:nvPr/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malicious intent of another pers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ack of natural ability to succeed at such task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sufficient effort on their par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d luck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4" name="DefaultOcx" descr=""/>
          <p:cNvPicPr/>
          <p:nvPr/>
        </p:nvPicPr>
        <p:blipFill>
          <a:blip r:embed="rId2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195" name="HTMLOption1" descr=""/>
          <p:cNvPicPr/>
          <p:nvPr/>
        </p:nvPicPr>
        <p:blipFill>
          <a:blip r:embed="rId3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196" name="HTMLOption2" descr=""/>
          <p:cNvPicPr/>
          <p:nvPr/>
        </p:nvPicPr>
        <p:blipFill>
          <a:blip r:embed="rId4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197" name="HTMLOption3" descr=""/>
          <p:cNvPicPr/>
          <p:nvPr/>
        </p:nvPicPr>
        <p:blipFill>
          <a:blip r:embed="rId5"/>
          <a:stretch/>
        </p:blipFill>
        <p:spPr>
          <a:xfrm>
            <a:off x="0" y="0"/>
            <a:ext cx="137160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hen faced with disappointment or failure on an academic task, mastery-oriented children are most likely to attribute their failure to…</a:t>
            </a:r>
            <a:br>
              <a:rPr sz="4800"/>
            </a:b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403812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: insufficient effort on their par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Revisit: Achievement-Related Attributions</a:t>
            </a:r>
            <a:r>
              <a:rPr b="1" lang="en-US" sz="1800" spc="-1" strike="noStrike">
                <a:solidFill>
                  <a:srgbClr val="ff0000"/>
                </a:solidFill>
                <a:latin typeface="Garamond"/>
              </a:rPr>
              <a:t> </a:t>
            </a:r>
            <a:endParaRPr b="1" lang="en-US" sz="18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80880" y="1905120"/>
          <a:ext cx="8305920" cy="3779640"/>
        </p:xfrm>
        <a:graphic>
          <a:graphicData uri="http://schemas.openxmlformats.org/drawingml/2006/table">
            <a:tbl>
              <a:tblPr/>
              <a:tblGrid>
                <a:gridCol w="2278080"/>
                <a:gridCol w="1955880"/>
                <a:gridCol w="4071960"/>
              </a:tblGrid>
              <a:tr h="103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son for Succes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ason for Failu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</a:tr>
              <a:tr h="132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ster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il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31840" indent="-23184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ollable facto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231840" indent="-23184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 be changed by working h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14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arned helplessnes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ternal factor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25360" indent="-22536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il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225360" indent="-22536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anno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be changed by working h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nnouncem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fluences Attribu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361960" y="1066680"/>
            <a:ext cx="6476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ents influence learned helplessnes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94440" indent="-296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o-high standard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4440" indent="-296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lieve child incapab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4440" indent="-2966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xed trait statement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42560" indent="-29664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You’re so smart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der influen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S, ethnicit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tural value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ttp://www.youtube.com/watch?v=SlTIfG0sQHo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7" name="Picture 7" descr="41120"/>
          <p:cNvPicPr/>
          <p:nvPr/>
        </p:nvPicPr>
        <p:blipFill>
          <a:blip r:embed="rId1"/>
          <a:stretch/>
        </p:blipFill>
        <p:spPr>
          <a:xfrm>
            <a:off x="457200" y="2057400"/>
            <a:ext cx="1676520" cy="29718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8"/>
          <p:cNvSpPr/>
          <p:nvPr/>
        </p:nvSpPr>
        <p:spPr>
          <a:xfrm>
            <a:off x="-152280" y="5029200"/>
            <a:ext cx="228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hotodis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elf-Concept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During Middle Childhoo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9520" y="1828440"/>
            <a:ext cx="4800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ttp://abavtooldev.pearsoncmg.com/sbx_videoplayer_v2/singleplay.php?projectID=BerkLifespan5&amp;clipID=020_self-concept.fl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2" name="Picture 11" descr="URY0061E"/>
          <p:cNvPicPr/>
          <p:nvPr/>
        </p:nvPicPr>
        <p:blipFill>
          <a:blip r:embed="rId1"/>
          <a:stretch/>
        </p:blipFill>
        <p:spPr>
          <a:xfrm>
            <a:off x="457200" y="2438280"/>
            <a:ext cx="3200400" cy="234648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12"/>
          <p:cNvSpPr/>
          <p:nvPr/>
        </p:nvSpPr>
        <p:spPr>
          <a:xfrm>
            <a:off x="380880" y="4876920"/>
            <a:ext cx="32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rbis Royalty Fre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hanges in Self-Concept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During Middle Childhoo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809520" y="1828440"/>
            <a:ext cx="4800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balanced, less all-or-none descrip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cial comparis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 and real sel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 social group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tural variation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7720" indent="-34776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narrow your question- identify which culture you are referring to)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7" name="Picture 11" descr="URY0061E"/>
          <p:cNvPicPr/>
          <p:nvPr/>
        </p:nvPicPr>
        <p:blipFill>
          <a:blip r:embed="rId1"/>
          <a:stretch/>
        </p:blipFill>
        <p:spPr>
          <a:xfrm>
            <a:off x="457200" y="2438280"/>
            <a:ext cx="3200400" cy="234648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12"/>
          <p:cNvSpPr/>
          <p:nvPr/>
        </p:nvSpPr>
        <p:spPr>
          <a:xfrm>
            <a:off x="380880" y="4876920"/>
            <a:ext cx="32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rbis Royalty Fre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Arial"/>
              </a:rPr>
              <a:t>Hierarchical Structure of Self-Esteem in </a:t>
            </a:r>
            <a:br>
              <a:rPr sz="2800"/>
            </a:br>
            <a:r>
              <a:rPr b="1" lang="en-US" sz="2800" spc="-1" strike="noStrike">
                <a:solidFill>
                  <a:srgbClr val="e5e5ff"/>
                </a:solidFill>
                <a:latin typeface="Arial"/>
              </a:rPr>
              <a:t>Middle Childhood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5791320" y="632448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igure 10.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Picture 6" descr="BKB10F01"/>
          <p:cNvPicPr/>
          <p:nvPr/>
        </p:nvPicPr>
        <p:blipFill>
          <a:blip r:embed="rId1"/>
          <a:stretch/>
        </p:blipFill>
        <p:spPr>
          <a:xfrm>
            <a:off x="457200" y="1523880"/>
            <a:ext cx="8153280" cy="4840560"/>
          </a:xfrm>
          <a:prstGeom prst="rect">
            <a:avLst/>
          </a:prstGeom>
          <a:ln w="0">
            <a:noFill/>
          </a:ln>
        </p:spPr>
      </p:pic>
      <p:sp>
        <p:nvSpPr>
          <p:cNvPr id="223" name="Right Arrow 1"/>
          <p:cNvSpPr/>
          <p:nvPr/>
        </p:nvSpPr>
        <p:spPr>
          <a:xfrm>
            <a:off x="228600" y="2362320"/>
            <a:ext cx="1371600" cy="99216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66cc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514"/>
                </a:solidFill>
                <a:latin typeface="Times New Roman"/>
              </a:rPr>
              <a:t>Caitlin (Reading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514"/>
                </a:solidFill>
                <a:latin typeface="Times New Roman"/>
              </a:rPr>
              <a:t>Cody (ADHD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fluences on Self-Este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1532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ltur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pp. 258-259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ndy- what culture are you focused on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does the book say about Asian culture vs. American culture?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iho, what can you add from your experience tutoring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der stereotyping can impact self-esteem. What does the book say? Eddie/Wendy connections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fluences on Self-Este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1532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ild-rearing practic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p. 259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thoritative vs. controlling (JeMarr/Liza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uthoritative = warm, positive, firm but appropriate expectations backed with explanations help youth evaluate behavior against reasonable standard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ing = communicate a sense of inadequacy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tributions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as discussed earlier)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stery-oriented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arned helplessnes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0" name="Picture 7" descr="FL_55L"/>
          <p:cNvPicPr/>
          <p:nvPr/>
        </p:nvPicPr>
        <p:blipFill>
          <a:blip r:embed="rId1"/>
          <a:stretch/>
        </p:blipFill>
        <p:spPr>
          <a:xfrm>
            <a:off x="5715000" y="4403880"/>
            <a:ext cx="3048120" cy="20653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8"/>
          <p:cNvSpPr/>
          <p:nvPr/>
        </p:nvSpPr>
        <p:spPr>
          <a:xfrm>
            <a:off x="6248520" y="6537240"/>
            <a:ext cx="259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ubberBall Production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Role of Parenting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 Self-Esteem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04812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oritative style be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courage goal-setting to boost self-estee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TextBox 1"/>
          <p:cNvSpPr/>
          <p:nvPr/>
        </p:nvSpPr>
        <p:spPr>
          <a:xfrm>
            <a:off x="1143000" y="1752480"/>
            <a:ext cx="685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Turn to p. 216 Table 8.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hat are the distinctions styles? Which one is best?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Emotional Development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 Middle Childhoo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33720" indent="-33372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lf-conscious emotions more governed by personal responsibility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66440" indent="-3229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pride and guilt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3720" indent="-33372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motional understanding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66440" indent="-3229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y explain emotion using internal state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66440" indent="-3229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understand mixed emotions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66440" indent="-3229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rise in empathy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66440" indent="-3229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supported by cognitive development and social experience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33720" indent="-33372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motional self-regulation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1" marL="766440" indent="-3229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motivated by self-esteem and peer approval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lvl="1" marL="766440" indent="-3229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motional self-efficacy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oping Strateg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457200" y="1447920"/>
            <a:ext cx="41148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Problem-Centered Cop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Rectangle 4"/>
          <p:cNvSpPr/>
          <p:nvPr/>
        </p:nvSpPr>
        <p:spPr>
          <a:xfrm>
            <a:off x="4495680" y="1447920"/>
            <a:ext cx="403884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Emotion-Centered Cop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457200" y="2514600"/>
            <a:ext cx="38862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tuation is seen as change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y is identif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ision made on what to 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4572000" y="2514600"/>
            <a:ext cx="41911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d if problem-centered coping does not 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al, private, aimed at controlling distress when little can be done about outc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al is emotional self-efficac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elman’s Stages of Perspective Tak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304920" y="2057400"/>
          <a:ext cx="8458200" cy="4048200"/>
        </p:xfrm>
        <a:graphic>
          <a:graphicData uri="http://schemas.openxmlformats.org/drawingml/2006/table">
            <a:tbl>
              <a:tblPr/>
              <a:tblGrid>
                <a:gridCol w="1720800"/>
                <a:gridCol w="3662280"/>
                <a:gridCol w="3075120"/>
              </a:tblGrid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vel 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differentiate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–6 yea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vel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cial-information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–9 yea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75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vel 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lf-reflect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–12 yea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vel 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rd-part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–15 yea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vel 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ciet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 years to adul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48" name="TextBox 2"/>
          <p:cNvSpPr/>
          <p:nvPr/>
        </p:nvSpPr>
        <p:spPr>
          <a:xfrm>
            <a:off x="228600" y="304920"/>
            <a:ext cx="106668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Paige S: think about possible connection between perspective taking when you observ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WWW.UC.EDU/WEBAPPS/UCOSMIC/PROGRAMS/DETAIL.ASPX?ID=203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5331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7000"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Ecuador Study Abroad 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hanges in Moral Views </a:t>
            </a:r>
            <a:r>
              <a:rPr b="1" lang="en-US" sz="3200" spc="-1" strike="noStrike">
                <a:solidFill>
                  <a:srgbClr val="e5e5ff"/>
                </a:solidFill>
                <a:latin typeface="Arial"/>
              </a:rPr>
              <a:t>(p. 263)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exible moral rul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ying not always ba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uth not always goo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ttp://abavtooldev.pearsoncmg.com/sbx_videoplayer_v2/singleplay.php?projectID=BerkLifespan5&amp;clipID=021_moral_reasoning.fl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Understanding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dividual Righ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llenge adult authority within personal domai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JeMarr/Liza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ew denials of personal choices as wro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ever, place limits on individual choi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ically decide in favor of kindness and fairn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1676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Peer Grou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79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ed from proximity, similarity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7720" indent="-347760">
              <a:lnSpc>
                <a:spcPct val="100000"/>
              </a:lnSpc>
              <a:spcBef>
                <a:spcPts val="349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Josh at playground- what do you notice. Limitations to observation?)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er cultu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7720" indent="-3477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havior, vocabulary, dress cod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7720" indent="-3477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include relational aggression and exclus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ari, what to you know about Tre’s peer group at home vs. school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58" name="Picture 12" descr="41094"/>
          <p:cNvPicPr/>
          <p:nvPr/>
        </p:nvPicPr>
        <p:blipFill>
          <a:blip r:embed="rId1"/>
          <a:stretch/>
        </p:blipFill>
        <p:spPr>
          <a:xfrm>
            <a:off x="6686640" y="152280"/>
            <a:ext cx="2076480" cy="137160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13"/>
          <p:cNvSpPr/>
          <p:nvPr/>
        </p:nvSpPr>
        <p:spPr>
          <a:xfrm>
            <a:off x="7007400" y="160020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hotodis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riendship (p. 265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 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Garamond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graders http://abavtooldev.pearsoncmg.com/sbx_videoplayer_v2/singleplay.php?projectID=BERK&amp;clipID=friendship.fl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cross cultur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ttp://visual.pearsoncmg.com/mydevelopmentlab/crosscultural/episode07/web_index.html?clip=2&amp;tab=tab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Friendship in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Middle Childhoo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al qualities, trust become importa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selective in choosing friend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ose friends similar to self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iendships can last several year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st learn to resolve disput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 of friends influences developmen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gressive friends often magnify antisocial act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Rectangle 6"/>
          <p:cNvSpPr/>
          <p:nvPr/>
        </p:nvSpPr>
        <p:spPr>
          <a:xfrm>
            <a:off x="533520" y="1905120"/>
            <a:ext cx="8305560" cy="46479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Peer Accepta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533520" y="2133720"/>
          <a:ext cx="8067600" cy="3371760"/>
        </p:xfrm>
        <a:graphic>
          <a:graphicData uri="http://schemas.openxmlformats.org/drawingml/2006/table">
            <a:tbl>
              <a:tblPr/>
              <a:tblGrid>
                <a:gridCol w="2971800"/>
                <a:gridCol w="5095800"/>
              </a:tblGrid>
              <a:tr h="10281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pul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pular-prosoci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pular-antisocial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1152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ject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jected-aggressiv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jected-withdraw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518400"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oversi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2840"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glecte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0514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Bullies and Victi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457200" y="1600200"/>
            <a:ext cx="4038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Bull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are bo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ally, relationally aggressi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-status, power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pul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ost eventually become dislik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457200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Victi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sive when active behavior expec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 in to deman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k defen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hibited tempera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ally fra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protected, controlled by par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er Harrassment (p. 267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ttp://abavtooldev.pearsoncmg.com/sbx_videoplayer_v2/singleplay.php?projectID=BerkLifespan5&amp;clipID=022_Bullying.fl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Helping Rejected Child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5720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itive social skill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ach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l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inforc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rove academic achieve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vene with harsh parenting practi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80" name="Picture 6" descr="URY0070E"/>
          <p:cNvPicPr/>
          <p:nvPr/>
        </p:nvPicPr>
        <p:blipFill>
          <a:blip r:embed="rId1"/>
          <a:stretch/>
        </p:blipFill>
        <p:spPr>
          <a:xfrm>
            <a:off x="5181480" y="2209680"/>
            <a:ext cx="3429000" cy="251460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7"/>
          <p:cNvSpPr/>
          <p:nvPr/>
        </p:nvSpPr>
        <p:spPr>
          <a:xfrm>
            <a:off x="6019920" y="4800600"/>
            <a:ext cx="26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rbis Royalty Fre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Gender Typing in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Middle Childhoo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5562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der identity (3rd–4th grad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ys strengthen identification with “masculine” trait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irls’ identification with “feminine” traits decline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ltural and social facto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85" name="Picture 10" descr="10326"/>
          <p:cNvPicPr/>
          <p:nvPr/>
        </p:nvPicPr>
        <p:blipFill>
          <a:blip r:embed="rId1"/>
          <a:stretch/>
        </p:blipFill>
        <p:spPr>
          <a:xfrm>
            <a:off x="6248520" y="1828800"/>
            <a:ext cx="2590560" cy="182880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11"/>
          <p:cNvSpPr/>
          <p:nvPr/>
        </p:nvSpPr>
        <p:spPr>
          <a:xfrm>
            <a:off x="6477120" y="3657600"/>
            <a:ext cx="2438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ports and Recre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ringing it Back to the Tex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have asked EJ if he can redirect us if we get too opinionated and need to reference the tex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Gender Identity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f-evaluations affect adjustmen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der typical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der contentednes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lt pressure to conform to gender rol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90" name="Picture 7" descr="dreamstime_7744292"/>
          <p:cNvPicPr/>
          <p:nvPr/>
        </p:nvPicPr>
        <p:blipFill>
          <a:blip r:embed="rId1"/>
          <a:stretch/>
        </p:blipFill>
        <p:spPr>
          <a:xfrm>
            <a:off x="5638680" y="1828800"/>
            <a:ext cx="3124440" cy="2421000"/>
          </a:xfrm>
          <a:prstGeom prst="rect">
            <a:avLst/>
          </a:prstGeom>
          <a:ln w="0">
            <a:noFill/>
          </a:ln>
        </p:spPr>
      </p:pic>
      <p:sp>
        <p:nvSpPr>
          <p:cNvPr id="291" name="Text Box 8"/>
          <p:cNvSpPr/>
          <p:nvPr/>
        </p:nvSpPr>
        <p:spPr>
          <a:xfrm>
            <a:off x="6781680" y="434340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Tony Dudley/Dreamstim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ideo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37160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hild answering question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ttp://www.youtube.com/watch?v=ucOvO2RCkh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ocial Emotional Learning in Austin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ttp://www.youtube.com/watch?v=2tB9X_XqvU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4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Family Relationshi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495680" y="1523520"/>
            <a:ext cx="4191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egul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bling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val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nionship and assista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41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ed parental encourage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98" name="Picture 10" descr="dreamstime_7582175"/>
          <p:cNvPicPr/>
          <p:nvPr/>
        </p:nvPicPr>
        <p:blipFill>
          <a:blip r:embed="rId1"/>
          <a:stretch/>
        </p:blipFill>
        <p:spPr>
          <a:xfrm>
            <a:off x="609480" y="2019240"/>
            <a:ext cx="3733920" cy="273852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11"/>
          <p:cNvSpPr/>
          <p:nvPr/>
        </p:nvSpPr>
        <p:spPr>
          <a:xfrm>
            <a:off x="609480" y="4800600"/>
            <a:ext cx="3810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Hongqi Zhang/Dreamstim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Only Childre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5715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 in self-esteem, achievement motiv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er relationships with par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sure for maste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er acceptance may be a problem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k of practice in conflict resolu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03" name="Picture 9" descr="07627FCH"/>
          <p:cNvPicPr/>
          <p:nvPr/>
        </p:nvPicPr>
        <p:blipFill>
          <a:blip r:embed="rId1"/>
          <a:stretch/>
        </p:blipFill>
        <p:spPr>
          <a:xfrm>
            <a:off x="6324480" y="1600200"/>
            <a:ext cx="2319480" cy="385596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10"/>
          <p:cNvSpPr/>
          <p:nvPr/>
        </p:nvSpPr>
        <p:spPr>
          <a:xfrm>
            <a:off x="6019920" y="5486400"/>
            <a:ext cx="266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ynamic Graphic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ternational Divorce Rat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307" name="Picture 5" descr="BKB10F03"/>
          <p:cNvPicPr/>
          <p:nvPr/>
        </p:nvPicPr>
        <p:blipFill>
          <a:blip r:embed="rId1"/>
          <a:stretch/>
        </p:blipFill>
        <p:spPr>
          <a:xfrm>
            <a:off x="2666880" y="1752480"/>
            <a:ext cx="3668760" cy="411480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6"/>
          <p:cNvSpPr/>
          <p:nvPr/>
        </p:nvSpPr>
        <p:spPr>
          <a:xfrm>
            <a:off x="4648320" y="594360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igure 10.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onsequences of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Parental Divor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1" name="Rectangle 3"/>
          <p:cNvSpPr/>
          <p:nvPr/>
        </p:nvSpPr>
        <p:spPr>
          <a:xfrm>
            <a:off x="457200" y="1600200"/>
            <a:ext cx="4038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Immedi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ability, conflict, drop in inc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ental stress, disorganiz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equences affected b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mpera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0280" indent="-28584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x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Rectangle 4"/>
          <p:cNvSpPr/>
          <p:nvPr/>
        </p:nvSpPr>
        <p:spPr>
          <a:xfrm>
            <a:off x="4572000" y="1600200"/>
            <a:ext cx="40384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Long-Ter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d adjustment after 2 y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ys and children with difficult temperaments more likely to have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ther’s involvement affects adjust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ivorce (p. 271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ttp://abavtooldev.pearsoncmg.com/sbx_videoplayer_v2/singleplay.php?projectID=BerkLifespan5&amp;clipID=023_divorce.fl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5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Helping Families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Through Divor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55760" indent="-455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ield children from conflict.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5760" indent="-455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continuity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5760" indent="-455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ain divor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5760" indent="-455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phasize the permanence of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tuatio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5760" indent="-455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mpathize with feeling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5760" indent="-455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authoritative parent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5760" indent="-455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mote both parental relationship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Blended Famil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1" name="Rectangle 3"/>
          <p:cNvSpPr/>
          <p:nvPr/>
        </p:nvSpPr>
        <p:spPr>
          <a:xfrm>
            <a:off x="457200" y="1447920"/>
            <a:ext cx="40384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Mother–Stepfa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frequ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ys usually adjust quick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rls adapt less favorab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lder children and adolescents of both sexes display more problem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Rectangle 4"/>
          <p:cNvSpPr/>
          <p:nvPr/>
        </p:nvSpPr>
        <p:spPr>
          <a:xfrm>
            <a:off x="4419720" y="1447920"/>
            <a:ext cx="40384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Father–Stepmo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ten leads to reduced father–child cont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ildren in fathers’ custody often react negativel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rls and stepmothers slow to get along at first, more positive interaction l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Maternal Employment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and Child Developm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457200" y="1600200"/>
            <a:ext cx="4038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Benefi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gher self-este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itive family and peer rel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wer gender stereoty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tter gr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father involv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4572000" y="1600200"/>
            <a:ext cx="403848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Drawbac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ss time for childr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 of ineffective paren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roup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egan, Meredith, JeMarr, Liz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ason, Kristen, EJ, Rachel 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ige H., Demetrius, Q, Rachel 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ige S., Imari, Christina, Wendy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mela, Shiho, Megan C., Land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dy, Caitlin, Alyssa, Clai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ddie, Susan, Rachel C., Shayn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upport for Working Par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5562360" cy="45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exible schedules, job shari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ck leav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olvement of other par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qual pay and opportunit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ality child ca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30" name="Picture 6" descr="dreamstime_4301854"/>
          <p:cNvPicPr/>
          <p:nvPr/>
        </p:nvPicPr>
        <p:blipFill>
          <a:blip r:embed="rId1"/>
          <a:stretch/>
        </p:blipFill>
        <p:spPr>
          <a:xfrm>
            <a:off x="6248520" y="1676520"/>
            <a:ext cx="2438280" cy="365760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7"/>
          <p:cNvSpPr/>
          <p:nvPr/>
        </p:nvSpPr>
        <p:spPr>
          <a:xfrm>
            <a:off x="6477120" y="5410080"/>
            <a:ext cx="228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©Edward Bock/Dreamstim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Fears and Anxieties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n Middle Childhoo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ars of dark, thunder, lightning, and supernatural beings persist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ars based on the wider world emerge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y are media-fuele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osure to frightening event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ool phob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–7 years: separation from hom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–13: particular aspects of schoo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rsh living conditions promote severe anxieti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Ethnic and Political Viol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ronically dangerous environmen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2360" indent="-3002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ss of feelings of safe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2360" indent="-3002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ensitization to violen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2360" indent="-3002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aired moral reason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2360" indent="-3002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pelessness for futur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ents, schools, and communities must provide security, reassurance, and interventio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2360" indent="-3002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 to preserve physical, psychological, and educational well-be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533520" y="1523880"/>
          <a:ext cx="8076960" cy="4800600"/>
        </p:xfrm>
        <a:graphic>
          <a:graphicData uri="http://schemas.openxmlformats.org/drawingml/2006/table">
            <a:tbl>
              <a:tblPr/>
              <a:tblGrid>
                <a:gridCol w="2819160"/>
                <a:gridCol w="5257800"/>
              </a:tblGrid>
              <a:tr h="1200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racteristic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f victim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re often fema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ported in middle childhood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1200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racteristic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f abus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ually ma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 or known by pare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y use technology to lur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1200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equenc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motional reaction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hysical symptom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ffects on behavi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  <a:tr h="1199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vention and treat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vention: educatio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7760" indent="-347760">
                        <a:lnSpc>
                          <a:spcPct val="100000"/>
                        </a:lnSpc>
                        <a:buClr>
                          <a:srgbClr val="ffcc00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eatment: long-term therap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40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hild Sexual Abus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Sexual Abuse (p. 275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ttp://abavtooldev.pearsoncmg.com/sbx_videoplayer_v2/singleplay.php?projectID=BERK&amp;clipID=prev_child_sex.flv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3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Factors Related to Resili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200400" y="1523880"/>
            <a:ext cx="54864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al characteristic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y temperam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98480" indent="-3366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tery orient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rm parental relationshi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rtive adult outside fami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7760" indent="-3477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ty resourc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47" name="Picture 8" descr="URY0025D"/>
          <p:cNvPicPr/>
          <p:nvPr/>
        </p:nvPicPr>
        <p:blipFill>
          <a:blip r:embed="rId1"/>
          <a:stretch/>
        </p:blipFill>
        <p:spPr>
          <a:xfrm>
            <a:off x="609480" y="1600200"/>
            <a:ext cx="2386080" cy="393876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9"/>
          <p:cNvSpPr/>
          <p:nvPr/>
        </p:nvSpPr>
        <p:spPr>
          <a:xfrm>
            <a:off x="838080" y="5562720"/>
            <a:ext cx="221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rbis Royalty Free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0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does this material relate to your inquiry questions?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can you refine your inquiry question?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(Susan)</a:t>
            </a:r>
            <a:br>
              <a:rPr sz="4400"/>
            </a:br>
            <a:br>
              <a:rPr sz="4400"/>
            </a:b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(Discuss with partner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0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253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</a:t>
            </a: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inding reputable resources: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would you locate the following journal?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ddle School Journ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3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Inquiry Ques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n the wiki: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nder ‘what you want to know?’ limit your post to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on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inquiry question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rase the other two question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fine the wording of your question to reflect our in-class discussions, the readings, and my feedback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(This will be in HW reminder email)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aking responsibility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or your learni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f you are confused or having trouble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sponding late to my instructor feedback about your work/participation with “I’m confused” is not acceptable, and will be reflected in your grade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t up a time to meet with me (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doodle.com/jenniferkillham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Garamond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ince we only meet once per week, we will have two breaks scheduled each class period, which will be 10 minutes each (4:50-5pm/5:50-6pm)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601"/>
              </a:spcBef>
              <a:buClr>
                <a:srgbClr val="ff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e break is longer than usual to facilitate troubleshooting and questions, as well as I want to check in and prompt you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Demonstrate searching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for articl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091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libraries.uc.edu/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Search terms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gnition in adolescence and physical activity (Jaso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Journal search in Summon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iddle School Journ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ADHD within this journal (Cody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  <a:ea typeface="Arial"/>
              </a:rPr>
              <a:t>Latest issue (e.g. September 2013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Footer Placeholder 3"/>
          <p:cNvSpPr/>
          <p:nvPr/>
        </p:nvSpPr>
        <p:spPr>
          <a:xfrm>
            <a:off x="1981080" y="6248520"/>
            <a:ext cx="5181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pyright © 2011 Pearson Education, Inc. All Rights Reserved.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6T20:01:00Z</dcterms:created>
  <dc:creator>Sheralee Connors</dc:creator>
  <dc:description/>
  <dc:language>en-US</dc:language>
  <cp:lastModifiedBy>Windows User</cp:lastModifiedBy>
  <cp:lastPrinted>2006-06-21T21:22:15Z</cp:lastPrinted>
  <dcterms:modified xsi:type="dcterms:W3CDTF">2013-09-23T18:34:01Z</dcterms:modified>
  <cp:revision>294</cp:revision>
  <dc:subject/>
  <dc:title>Development Through the Lifespan</dc:title>
</cp:coreProperties>
</file>