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63C8C-69E5-4952-B6DA-3C34C704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5955C-EC45-4FBB-935C-FE330C5F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DCD19-2A1B-49DA-B082-1FEA6B49B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55336D-9473-4DA2-99F0-EF519BFB2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594A2-A692-4CA3-B664-34CAD6C9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9A4EA-3457-47C4-AEA6-71919E6B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93995-3D95-4143-ACB1-88C7267A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E46E1-81E3-4EE4-81B9-C54B4BB3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2AF91-EC1F-49A1-9B06-A9872E6E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796D3-464E-48B7-B187-BBD12B0A7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BEDA5-AF8C-4DD3-BAC0-8D4FAC6E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2F827-805F-41EA-94EA-E3AE2B0B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C658-A49E-4942-924F-A4CA9DAD9C3E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A7EE-8855-4EA6-91D5-8ECB79FA57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1981080" y="6248160"/>
            <a:ext cx="5181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Exploring </a:t>
            </a: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Lifespan Developmen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50960" y="1913040"/>
            <a:ext cx="4335480" cy="53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apter 1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otional and Social Development in Middle Childh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public performance or display, including transmission of any image over a network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ation of any derivative work, including the extraction, in whole or in part, of any images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3" name="Picture 4" descr="Berk-0205748597"/>
          <p:cNvPicPr/>
          <p:nvPr/>
        </p:nvPicPr>
        <p:blipFill>
          <a:blip r:embed="rId1"/>
          <a:stretch/>
        </p:blipFill>
        <p:spPr>
          <a:xfrm>
            <a:off x="762120" y="20574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ping Strateg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57200" y="1447920"/>
            <a:ext cx="4114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oblem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495680" y="1447920"/>
            <a:ext cx="40388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motion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457200" y="251460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uation is seen as change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s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 made on what to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4572000" y="2514600"/>
            <a:ext cx="4191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f problem-centered coping does not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, private, aimed at controlling distress when little can be done about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is emotional self-effic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elman’s Stages of Perspective Ta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04920" y="2057400"/>
          <a:ext cx="8458200" cy="4048200"/>
        </p:xfrm>
        <a:graphic>
          <a:graphicData uri="http://schemas.openxmlformats.org/drawingml/2006/table">
            <a:tbl>
              <a:tblPr/>
              <a:tblGrid>
                <a:gridCol w="1720800"/>
                <a:gridCol w="3662280"/>
                <a:gridCol w="307512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ifferenti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–6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-information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–9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-refl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–12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-par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–15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e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years to 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Moral View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moral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ing not always b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th not always g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rify link between moral imperative and social conven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respect for conventions with purpos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inten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Understand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ividual Righ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 adult authority within personal domai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 denials of personal choices as wro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place limits on individual cho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decide in favor of kindness and fair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ed from proximity, simila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, vocabulary, dress c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include relational aggression and exclu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2" descr="41094"/>
          <p:cNvPicPr/>
          <p:nvPr/>
        </p:nvPicPr>
        <p:blipFill>
          <a:blip r:embed="rId1"/>
          <a:stretch/>
        </p:blipFill>
        <p:spPr>
          <a:xfrm>
            <a:off x="5486400" y="2133720"/>
            <a:ext cx="3276720" cy="21636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3"/>
          <p:cNvSpPr/>
          <p:nvPr/>
        </p:nvSpPr>
        <p:spPr>
          <a:xfrm>
            <a:off x="7010280" y="43434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riendship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qualities, trust become import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selective in choosing frie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friends similar to sel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ndships can last several ye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learn to resolve disp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friends influences develop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ssive friends often magnify antisocial a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33520" y="1905120"/>
            <a:ext cx="8305560" cy="4647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Accept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3520" y="2133720"/>
          <a:ext cx="8067600" cy="3371760"/>
        </p:xfrm>
        <a:graphic>
          <a:graphicData uri="http://schemas.openxmlformats.org/drawingml/2006/table">
            <a:tbl>
              <a:tblPr/>
              <a:tblGrid>
                <a:gridCol w="2971800"/>
                <a:gridCol w="5095800"/>
              </a:tblGrid>
              <a:tr h="1027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pro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anti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15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aggress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withdra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vers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1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l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ullies and Victi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ul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re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, relationally 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status, power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st eventually become disli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45720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ict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when active behavior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in to dem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defen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ibited temper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 fr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protected, controlled by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Rejected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572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ocial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ch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inforc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academic achie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e with harsh parenting pract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6" descr="URY0070E"/>
          <p:cNvPicPr/>
          <p:nvPr/>
        </p:nvPicPr>
        <p:blipFill>
          <a:blip r:embed="rId1"/>
          <a:stretch/>
        </p:blipFill>
        <p:spPr>
          <a:xfrm>
            <a:off x="5181480" y="2209680"/>
            <a:ext cx="3429000" cy="25146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6019920" y="48006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Typing i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stereotyp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tend stereotypes to include personalities and school subjec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flexible about what males and female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n actually d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identity (3rd–4th grad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ys strengthen identification with “masculine” trai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rls’ identification with “feminine” traits declin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al and social fac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10326"/>
          <p:cNvPicPr/>
          <p:nvPr/>
        </p:nvPicPr>
        <p:blipFill>
          <a:blip r:embed="rId1"/>
          <a:stretch/>
        </p:blipFill>
        <p:spPr>
          <a:xfrm>
            <a:off x="6248520" y="1828800"/>
            <a:ext cx="2590560" cy="18288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11"/>
          <p:cNvSpPr/>
          <p:nvPr/>
        </p:nvSpPr>
        <p:spPr>
          <a:xfrm>
            <a:off x="6477120" y="36576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ports and Recre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rikson’s Theory: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ustry versus Inferiorit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du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ing a sense of competence at useful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provides many opportun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feri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ssimism and lack of confidence in own ability to do things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environment, teachers, and peers can contribute to negative feel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Ident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-evaluations affect adjust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typic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contented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t pressure to conform to gender ro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7" descr="dreamstime_7744292"/>
          <p:cNvPicPr/>
          <p:nvPr/>
        </p:nvPicPr>
        <p:blipFill>
          <a:blip r:embed="rId1"/>
          <a:stretch/>
        </p:blipFill>
        <p:spPr>
          <a:xfrm>
            <a:off x="5638680" y="1828800"/>
            <a:ext cx="3124440" cy="2421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8"/>
          <p:cNvSpPr/>
          <p:nvPr/>
        </p:nvSpPr>
        <p:spPr>
          <a:xfrm>
            <a:off x="6781680" y="434340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Tony Dudley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mily Relationshi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95680" y="15235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g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bl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al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ionship and assist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parental encour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10" descr="dreamstime_7582175"/>
          <p:cNvPicPr/>
          <p:nvPr/>
        </p:nvPicPr>
        <p:blipFill>
          <a:blip r:embed="rId1"/>
          <a:stretch/>
        </p:blipFill>
        <p:spPr>
          <a:xfrm>
            <a:off x="609480" y="2019240"/>
            <a:ext cx="3733920" cy="27385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1"/>
          <p:cNvSpPr/>
          <p:nvPr/>
        </p:nvSpPr>
        <p:spPr>
          <a:xfrm>
            <a:off x="609480" y="4800600"/>
            <a:ext cx="381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Hongqi Zhang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nly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in self-esteem, achievement motiv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r relationships with 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 for mast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acceptance may be a probl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practice in conflict re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07627FCH"/>
          <p:cNvPicPr/>
          <p:nvPr/>
        </p:nvPicPr>
        <p:blipFill>
          <a:blip r:embed="rId1"/>
          <a:stretch/>
        </p:blipFill>
        <p:spPr>
          <a:xfrm>
            <a:off x="6324480" y="1600200"/>
            <a:ext cx="2319480" cy="38559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0"/>
          <p:cNvSpPr/>
          <p:nvPr/>
        </p:nvSpPr>
        <p:spPr>
          <a:xfrm>
            <a:off x="6019920" y="54864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ynamic Graph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ternational Divorce R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4" name="Picture 5" descr="BKB10F03"/>
          <p:cNvPicPr/>
          <p:nvPr/>
        </p:nvPicPr>
        <p:blipFill>
          <a:blip r:embed="rId1"/>
          <a:stretch/>
        </p:blipFill>
        <p:spPr>
          <a:xfrm>
            <a:off x="2666880" y="1752480"/>
            <a:ext cx="366876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4648320" y="594360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nsequences of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arental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mmed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bility, conflict, drop in in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al stress, disorga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quences affected b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mpera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-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adjustment after 2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and children with difficult temperaments more likely to have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her’s involvement affects adjus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Famil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hrough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eld children from conflict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continu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divor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ze the permanence o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u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athize with feeli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uthoritative paren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both parental relationshi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lended Famil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other–Stepf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qu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usually adjust quick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dapt less favorab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children and adolescents of both sexes display more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4419720" y="144792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ther–Stepm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leads to reduced father–child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in fathers’ custody often react negativ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nd stepmothers slow to get along at first, more positive interaction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aternal Employ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d Child Develop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self-este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amily and peer re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er gender stereo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father invol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time for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ineffective pare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ort for Working Par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556236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schedules, job sha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ck lea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ment of other par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l pay and opportun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child c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6" descr="dreamstime_4301854"/>
          <p:cNvPicPr/>
          <p:nvPr/>
        </p:nvPicPr>
        <p:blipFill>
          <a:blip r:embed="rId1"/>
          <a:stretch/>
        </p:blipFill>
        <p:spPr>
          <a:xfrm>
            <a:off x="6248520" y="1676520"/>
            <a:ext cx="2438280" cy="36576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6477120" y="541008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Edward Bock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ears and Anxiet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of dark, thunder, lightning, and supernatural beings persis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based on the wider world emer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are media-fuel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ure to frightening ev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phob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–7 years: separation from ho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–13: particular aspects of scho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sh living conditions promote severe anxiet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Self-Concep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uring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9520" y="1828440"/>
            <a:ext cx="4800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balanced, less all-or-none descrip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comparis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 and real sel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ocial grou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ria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11" descr="URY0061E"/>
          <p:cNvPicPr/>
          <p:nvPr/>
        </p:nvPicPr>
        <p:blipFill>
          <a:blip r:embed="rId1"/>
          <a:stretch/>
        </p:blipFill>
        <p:spPr>
          <a:xfrm>
            <a:off x="457200" y="2438280"/>
            <a:ext cx="3200400" cy="23464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2"/>
          <p:cNvSpPr/>
          <p:nvPr/>
        </p:nvSpPr>
        <p:spPr>
          <a:xfrm>
            <a:off x="380880" y="48769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thnic and Political Viol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ally dangerous environ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feelings of safe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nsitization to viol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moral reaso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lessness for fu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, schools, and communities must provide security, reassurance, and interven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to preserve physical, psychological, and educational well-be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3520" y="1523880"/>
          <a:ext cx="8076960" cy="4800600"/>
        </p:xfrm>
        <a:graphic>
          <a:graphicData uri="http://schemas.openxmlformats.org/drawingml/2006/table">
            <a:tbl>
              <a:tblPr/>
              <a:tblGrid>
                <a:gridCol w="2819160"/>
                <a:gridCol w="5257800"/>
              </a:tblGrid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victi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often fe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ed in middle child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abus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 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 or known by par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use technology to 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otional rea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sympt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s on 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19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 and treat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: edu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: long-term thera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7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ild Sexual Ab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tors Related to Resili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200400" y="1523880"/>
            <a:ext cx="5486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characte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empera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y ori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parental relationsh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ve adult outside fami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8" name="Picture 8" descr="URY0025D"/>
          <p:cNvPicPr/>
          <p:nvPr/>
        </p:nvPicPr>
        <p:blipFill>
          <a:blip r:embed="rId1"/>
          <a:stretch/>
        </p:blipFill>
        <p:spPr>
          <a:xfrm>
            <a:off x="609480" y="1600200"/>
            <a:ext cx="2386080" cy="393876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9"/>
          <p:cNvSpPr/>
          <p:nvPr/>
        </p:nvSpPr>
        <p:spPr>
          <a:xfrm>
            <a:off x="838080" y="5562720"/>
            <a:ext cx="22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erarchical Structure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f Self-Esteem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791320" y="63244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Picture 6" descr="BKB10F01"/>
          <p:cNvPicPr/>
          <p:nvPr/>
        </p:nvPicPr>
        <p:blipFill>
          <a:blip r:embed="rId1"/>
          <a:stretch/>
        </p:blipFill>
        <p:spPr>
          <a:xfrm>
            <a:off x="1066680" y="2133720"/>
            <a:ext cx="701064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487692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-rearing pract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ribu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y-orient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ed helpless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0" name="Picture 7" descr="FL_55L"/>
          <p:cNvPicPr/>
          <p:nvPr/>
        </p:nvPicPr>
        <p:blipFill>
          <a:blip r:embed="rId1"/>
          <a:stretch/>
        </p:blipFill>
        <p:spPr>
          <a:xfrm>
            <a:off x="5715000" y="2133720"/>
            <a:ext cx="3048120" cy="20653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6248520" y="4267080"/>
            <a:ext cx="25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ubberBall Produ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ole of Paren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ative style b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n cultural values focus on self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lead to overindulg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dox: less achievement behaviors, more antisocial behavi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goal-setting to boost self-este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chievement-Related Attributions</a:t>
            </a: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380880" y="1905120"/>
          <a:ext cx="8305920" cy="3779640"/>
        </p:xfrm>
        <a:graphic>
          <a:graphicData uri="http://schemas.openxmlformats.org/drawingml/2006/table">
            <a:tbl>
              <a:tblPr/>
              <a:tblGrid>
                <a:gridCol w="2278080"/>
                <a:gridCol w="1955880"/>
                <a:gridCol w="4071960"/>
              </a:tblGrid>
              <a:tr h="10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Suc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</a:tr>
              <a:tr h="13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te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lable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4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d helpless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rnal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Achievement-Related At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90920" y="1752480"/>
            <a:ext cx="5943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-high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ve child incap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it statemen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0200" indent="-337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ing vs. performance goa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 influ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, ethn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lu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1" name="Picture 7" descr="41120"/>
          <p:cNvPicPr/>
          <p:nvPr/>
        </p:nvPicPr>
        <p:blipFill>
          <a:blip r:embed="rId1"/>
          <a:stretch/>
        </p:blipFill>
        <p:spPr>
          <a:xfrm>
            <a:off x="685800" y="2057400"/>
            <a:ext cx="1676520" cy="2971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152280" y="502920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motional Develop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lf-conscious emotions more governed by personal responsibilit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de and guil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understandin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xplain emotion using internal stat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derstand mixed emotion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se in empath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orted by cognitive development and social experien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self-regula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tivated by self-esteem and peer approv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otional self-efficac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20:01:00Z</dcterms:created>
  <dc:creator>Sheralee Connors</dc:creator>
  <dc:description/>
  <dc:language>en-US</dc:language>
  <cp:lastModifiedBy>Windows User</cp:lastModifiedBy>
  <cp:lastPrinted>2006-06-21T21:22:15Z</cp:lastPrinted>
  <dcterms:modified xsi:type="dcterms:W3CDTF">2013-09-16T20:33:56Z</dcterms:modified>
  <cp:revision>231</cp:revision>
  <dc:subject/>
  <dc:title>Development Through the Lifespan</dc:title>
</cp:coreProperties>
</file>