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DF0A69A-9003-4B59-AD10-E872DDB86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self vs. real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B0C2F3C-EC6A-4012-AD63-6105E71418A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istin- connection between academic competence and physical competence perh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ains in emotional self-regulation occur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y age 10, most children are able to shift adaptively betwe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-centered 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rough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aise a situation as changeable and decide what to do about it—and, if this is unsuccessful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otion-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is internal, private, and aimed at controlling distress when little can be done about an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en emotional self-regulation has developed well, school-age children acquire a sen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otional selfefficacy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eling of being in control of their emotional experienc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osters a favorable self-image an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stic outl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orly regulated children often experience hostile, dismissive parental reactions to distres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overwhelmed by negative e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- pay attention to this as you observe the different ag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childhood brings major advance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pective t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capacity to imagine what other people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and feeling—changes that support many social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your attention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, children have only a limited idea of what other people might be thinking and feeling, but later be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ware that people can interpret the same event diffe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on, they can reflect on how another person might regard their own thoughts, feelings,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older children and adolescents can evaluate two people’s perspectives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ge 7 to 8, children no longer believe that all truth-telling is good and all lying bad, but also consider pro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tisocial inten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Individual Rights (p. 2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en children challenge adult authority, they typically do so within the personal domain, concerning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hairstyle and fri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s early as age 6, children view freedom of speech and religion as individual rights—even if laws exist that d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r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y also regard laws that discriminate against individuals as wrong and worthy of viol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lder school-age children place limits on individual choice, and prejudice usually declines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Groups (pp. 264–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middle childhood, children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llectives that generate unique values an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havior and a social structure of leaders and fol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“peer culture” of a peer group typically consists of a specialized vocabulary, dress code, and place to “hang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ithin the peer group, children acquire many social skills, including cooperation and leade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children who are no longer “respected” are excluded from groups, they may turn to other low-status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group belonging, thereby reducing their opportunities to learn socially compet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esire for group membership can also be satisfied through formal groups, such as scouting and religious youth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ndships (p. 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middle childhood, friendship becomes more complex and psychologically based, providing children with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for the development of trust and sensi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 tend to choose friends who are similar to themselves in age, sex, race, ethnicity, and SES, as well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, popularity, academic achievement, and prosocial behavior. Yet friendship opportunities off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 environments also affect their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Acceptance (pp. 265–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accep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s to likability—the extent to which a child is viewed by a group of agemates as a wor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’s self-reports reveal four broad categories of social accep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positive votes (are well-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many negative votes (are dis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vers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votes, both positive and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ldom chosen, either positively or nega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two-thirds of pupils in typical elementary school classrooms fit one of these categories; one-third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er acceptance and do not receive extreme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eer acceptance is a powerful predictor of psychological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Rejected children are unhappy, disruptive, and low in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eer rejection in middle childhood is strongly associated with many problems, including po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, antisocial behavior, delinquency in adolescence, and criminality in young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arlier influences, such as parenting practices and family stress, may largely explain the link between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n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s of Peer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ocial behavior plays a powerful role in determining why one child is liked and another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opular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pro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combine academic and social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anti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“tough” boys who are athletically skilled but are poor students 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trouble and defy adult authority, or relationally aggressive boys and girls who ignore, exclud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rumors about other children as a way of enhancing their own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With age, peers like these high-status, aggressive youths less and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aggressive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igh rates of conflict, physical and relational aggress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active, inattentive, and impulsive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withdrawn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ssive, socially awkward, and overwhelmed by social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Rejected children generally have few or no friends, which results in severe adjustment difficul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troversial and Negl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ntroversial children display both positive and negative social behaviors, engendering mixed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nion. Though they have friends, they often bully others and engage in calculated relational agg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glected children—once thought to be in need of treatment—are usually just as socially skill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ost interventions to help rejected children involve coaching, modeling, and reinforcing positive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Rejected children need help attributing their peer difficulties to internal, changeable ca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f socially incompetent behaviors originate in harsh, intrusive, authoritarian parenting, interventio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child–parent interaction may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Identity and Behavior (pp. 268–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rom third to sixth grade, boys strengthen their identification with “masculine” personality traits, while girl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cation with “feminine” traits dec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ared with boys, who usually stick to “masculine” pursuits, girls begin to experiment with a wider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 and more often consider traditionally male future work 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se changes reflect a mixture of cognitive and social fo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chool-age children are aware that society attaches greater prestige to “masculine”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arents, especially fathers, are more tolerant of girls than of boys crossing gender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Gender identity expands to include self-evaluations, which greatly affect adjust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typicality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similar to others of the same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contented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e degree to which the child feels satisfied with his or her gender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elt pressure to conform to gender roles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that parents and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rove of their gender-relate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ome experts advocate using therapy to make gender-atypical children more gender-typical, while others sug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parents and peers accept the children’s gender-atypical behaviors and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Parent–Child Relationships (p. 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 middle childhood, the amount of time children spend with parents declines dra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asoning is more effective with school-age children because of their greater capacity for logical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eg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 form of supervision in which parents exercise general oversight while permitting children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arge of moment-by-moment decision making—grows out of a cooperative relationship between pare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and prepares the child for the greater freedom of adolesc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rents tend to devote more time to children of their ow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iblings (pp. 269–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ivalry increases in middle childhood, when some parents compare siblings’ traits and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owever, siblings are important sources of support for school-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blings benefit when parents encourage warm, considerate sibling 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Only Children (p. 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elationships are not essential for healthy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ly children have somewhat closer relationships with parents, but tend to be less well-accepted in the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, perhaps because they have not had opportunities to practice conflict resolution skills with sibl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vorable development also characterizes only children in China, where a one-child policy has existed f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orce (pp. 270–272, 2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urrently, the divorce rate in the United States is the highest in the world, and of 45 percent of 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iages that end in divorce, half involv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e-fourth of American children live in single-parent households, most with their 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hildren of divorce spend an average of five years in a single-paren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bout two-thirds of divorced parents marry again, and half of their children eventually experience the end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’ second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lthough studies have reported that marital breakup is stressful for children, great individual differences ex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children 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newly divorced households, family conflict often 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other-headed households typically experience a sharp drop in income, and the majority of single m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young children live in pov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High maternal stress can lead to a disorganized family situation in which discipline may become harsh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Fathers who see their children only occasionally may be permissive, making the mother’s task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hildren’s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Younger children often blame themselves for a marital breakup and fear abandonment by both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ies (pp. 272–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e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nstituted, fami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results from remarriage of a divorced parent that includes par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, and new steprel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ther–Stepfather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this arrangement—the most common—boys usually adjust quickly, but girls often react with sul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Older school-age children and adolescents of both sexes find it harder to adjust to blend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ther–Stepmother Families: When fathers have custody, children typically react negatively to remarriage; gir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, have a hard time getting along with their step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upport for Blended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amily life education and therapy can help parents and children adapt to the complexities of liv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tepparents do best when they move into their new roles gra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Employment and Dual-Earner Families (pp. 274–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day, more than three-fourths of either single or married mothers with school-age children are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aternal Employment and Chil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Children of mothers who enjoy their work and remain committed to parenting show favorable adjust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specially positive outcomes for gi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thers in dual-earner households often take on greater child-rearing responsibilities; paternal involve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with higher achievement and more mature soci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hen the mother’s employment is overly stressful, children are at risk for ineffective parenting, espec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ow-SES mothers spend long hours at low-paying, physically exhausting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Part-time employment and flexible work schedules are associated with good chil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oups are the people you should contact first with clarifying questions or if you miss something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54F6CB4-30DB-4393-8B9E-4626DF06A1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s and Anxieties (pp. 275, 2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s children begin to understand the realities of the wider world, the possibility of personal harm and media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ch as disasters) often trouble them, along with worries about academic failure, parents’ health,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ies, and peer re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st children can handle fears constructively, using emotional regul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5 percent of school-age youngsters develop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n intense, unmanageable fear; for examp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b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vere apprehension about attending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ther childhood anxieties may arise from harsh living conditions—for example, those of war-torn area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bout 90,000 cases of child sexual abuse occurred in the United States in the most recently reported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racteristics of Abusers and Vict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exual abuse is committed more often against girls than boys, and most cases are reported in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ypically, the abuser is a male—a parent or someone whom the parent know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Internet and mobile phones have become avenues through which other adults commit sexual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busers have great difficulty controlling their impulses and may suffer from psychological disorders.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pick out children who are unlikely to defend themselves or be bel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Reported cases of child sexual abuse are linked to poverty and marital in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djustment problems of child sexual abuse victims include depression, low self-esteem, mistrust of ad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ger and hos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Younger children may have sleep difficulties and generalized fearfu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dolescents may run away and show suicidal reactions and substance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peated sexual abuse is associated with central nervous system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In adolescence, abused young people often become promiscuous and, as adults, show increased arres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ex crimes and prostit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Abused girls often enter into abusive relationships as adults and may engage in irresponsible and coerc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vention and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ong-term therapy with children and families is usually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revention is the best way to reduce the suffering of child sexual abuse vict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urts are now prosecuting abusers more rigorously, and children’s testimony is being take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Educational programs can help children recognize inappropriate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ing Resilience in Middle Childhood (p. 27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nly a modest relationship exists between stressful life experiences and psychological disturbances in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our broad factors that consistently protect against maladjustment are the child’s person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easy temperament and a mastery-oriented approach to new situations), a warm parental relationship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outside the immediate family who offers a support system, and good community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ili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preexisting attribute but a capacity that devel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amilies, schools, communities, and society can enhance or undermine school-age children’s suppor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nd sense of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090F-04F2-4BBE-83E8-5304BC41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ECC1-43FD-49C4-A24E-B8D25565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44D6-0E73-4F3E-AF59-A67D05F8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8D80-B566-4079-B7CD-AF00DABA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4EA9-9C2F-4B71-AD2E-C1B4991E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96CB-E35F-4888-85BE-389CAC7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758A-A92F-4A22-8243-FA2FA1E1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E86E-52E7-4C8D-89B2-2D3D6D28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E2B7-0D81-4EB4-AE05-D7FAAFB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3F77-2FC3-49D3-810A-4FA16B1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F1EB-71A6-41FD-AC9D-8802534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74FA-0EC3-42D3-9D4B-6A29779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2E2B-E764-415E-B11B-2978535A02E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F8C-E816-41C2-8F9C-88B75AEED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.edu/webapps/ucosmic/programs/detail.aspx?id=203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odle.com/jenniferkillham" TargetMode="External"/><Relationship Id="rId2" Type="http://schemas.openxmlformats.org/officeDocument/2006/relationships/hyperlink" Target="http://doodle.com/jenniferkillha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ies.uc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a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25840" y="40305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25840" y="2254320"/>
            <a:ext cx="119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794040" y="57769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085840" y="403056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81280" y="487044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457200" y="533520"/>
            <a:ext cx="236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Teach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3697200" y="325584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035080" y="227160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2035080" y="32385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927840" y="324468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7088040" y="1554120"/>
            <a:ext cx="684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2035080" y="4870440"/>
            <a:ext cx="10130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181944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3463920" y="148608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3"/>
          <p:cNvSpPr/>
          <p:nvPr/>
        </p:nvSpPr>
        <p:spPr>
          <a:xfrm>
            <a:off x="2041560" y="150804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refresh your memories on your inquiry question. Keep this in m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your desk (closed-bo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minutes to complete the qui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http://www.online-stopwatch.com/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ill pull a name card to determine who shares their answer for questi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813120" y="40863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137120" y="2330280"/>
            <a:ext cx="11919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390920" y="53323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498680" y="403380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773520" y="489096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327560" y="324468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1674720" y="231156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41600" y="32637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878520" y="365436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7162920" y="1849320"/>
            <a:ext cx="68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498680" y="4870440"/>
            <a:ext cx="1012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149868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2"/>
          <p:cNvSpPr/>
          <p:nvPr/>
        </p:nvSpPr>
        <p:spPr>
          <a:xfrm>
            <a:off x="4094280" y="149544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569960" y="148608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witch quizz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2" descr=""/>
          <p:cNvPicPr/>
          <p:nvPr/>
        </p:nvPicPr>
        <p:blipFill>
          <a:blip r:embed="rId1"/>
          <a:stretch/>
        </p:blipFill>
        <p:spPr>
          <a:xfrm>
            <a:off x="378000" y="1511280"/>
            <a:ext cx="854676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y 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’s theory, what is the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sychological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onflict of middle childhood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752480" y="4786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 vs. Inferio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Erikson’s Theory of Industry vs. Inferiority (p. 25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major personality changes in middle childhoo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guish between Industry vs. Infe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Erikson, how is the conflict of industry versus inferiority resolve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Erikson’s stage of industry versus inferiorit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mbi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alistic self-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de in 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al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with age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opportunities to foster for indus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yssa- with volleyball coa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ltin- with Ohio Re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Marr- mento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/Orien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Ch.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y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ver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Rachel/Q- how does skill competency influence to intrinsic motiv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Liza, JeMarr, Rachel T., Q- How does this fit in relation to your questi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, how is the conflict of industry versus inferiority resolv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219320" y="373392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developing a sense of competence at useful ski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za/JeMarr- philosoph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scribe school-age children’s self-concept and self-esteem, and discuss factors that affect their achievement-relate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ttributions. (pp. 257–26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57200" y="38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your partn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en school-age children provide descriptions of themselves, th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59000" y="19918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904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mpacts this girl’s description of herself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running for student council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DkUOydks3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usan- interesting to ask all four of the children you are observing this ques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comparisons (p. 258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 is trying to understand competition better (pros/cons related to develop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hel C. is trying to understand insecu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EJ/Rachel C. need to consider in regard to social comparisons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Make notes: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stery-oriented vs. learned helplessness 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pp. 260-261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y orient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redit their success to abilit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student council vide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ed helpless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cus on external factors and can’t be improved through tr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you are asking questions about why students respond certain ways and how to inter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is section with your partner with an eye towards your ques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e connections by saying, “The book says ‘parents of children with a learned helplessness style usually believe their child is incapable.’ I wonder if this influences the difference between home and school with Tre (Imari)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wps.ablongman.com/wps/media/styles/1480/_skins_/D/default_blue/problem_type_4.gif"/>
          <p:cNvPicPr/>
          <p:nvPr/>
        </p:nvPicPr>
        <p:blipFill>
          <a:blip r:embed="rId1"/>
          <a:stretch/>
        </p:blipFill>
        <p:spPr>
          <a:xfrm>
            <a:off x="0" y="0"/>
            <a:ext cx="352440" cy="24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licious intent of another pers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natural ability to succeed at such tas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 lu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HTMLOption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HTMLOption2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HTMLOption3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…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: 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visit: 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nounc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influence learned help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trait stat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2560" indent="-2966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You’re so smar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youtube.com/watch?v=SlTIfG0sQH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7" descr="41120"/>
          <p:cNvPicPr/>
          <p:nvPr/>
        </p:nvPicPr>
        <p:blipFill>
          <a:blip r:embed="rId1"/>
          <a:stretch/>
        </p:blipFill>
        <p:spPr>
          <a:xfrm>
            <a:off x="4572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0_self-concept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narrow your question- identify which culture you are referring to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Hierarchical Structure of Self-Esteem in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BKB10F01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8405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"/>
          <p:cNvSpPr/>
          <p:nvPr/>
        </p:nvSpPr>
        <p:spPr>
          <a:xfrm>
            <a:off x="228600" y="2362320"/>
            <a:ext cx="1371600" cy="9921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aitlin (Read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ody (ADH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p. 258-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dy- what culture are you focused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book say about Asian culture vs. American cultur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ho, what can you add from your experience tutor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stereotyping can impact self-esteem. What does the book say? Eddie/Wendy connection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. 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vs. controlling (JeMarr/Liz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= warm, positive, firm but appropriate expectations backed with explanations help youth evaluate behavior against reasonable standard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= communicate a sense of inadequa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s discussed earlier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7" descr="FL_55L"/>
          <p:cNvPicPr/>
          <p:nvPr/>
        </p:nvPicPr>
        <p:blipFill>
          <a:blip r:embed="rId1"/>
          <a:stretch/>
        </p:blipFill>
        <p:spPr>
          <a:xfrm>
            <a:off x="5715000" y="440388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248520" y="65372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143000" y="17524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to p. 216 Table 8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are the distinctions styles? Which one is bes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TextBox 2"/>
          <p:cNvSpPr/>
          <p:nvPr/>
        </p:nvSpPr>
        <p:spPr>
          <a:xfrm>
            <a:off x="2286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ige S: think about possible connection between perspective taking when you obse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UC.EDU/WEBAPPS/UCOSMIC/PROGRAMS/DETAIL.ASPX?ID=2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cuador Study Abroad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 </a:t>
            </a: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(p. 263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1_moral_reason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eMarr/Liz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Josh at playground- what do you notice. Limitations to observation?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ri, what to you know about Tre’s peer group at home vs.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12" descr="41094"/>
          <p:cNvPicPr/>
          <p:nvPr/>
        </p:nvPicPr>
        <p:blipFill>
          <a:blip r:embed="rId1"/>
          <a:stretch/>
        </p:blipFill>
        <p:spPr>
          <a:xfrm>
            <a:off x="6686640" y="152280"/>
            <a:ext cx="20764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700740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iendship (p. 26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aders http://abavtooldev.pearsoncmg.com/sbx_videoplayer_v2/singleplay.php?projectID=BERK&amp;clipID=friendship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ross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visual.pearsoncmg.com/mydevelopmentlab/crosscultural/episode07/web_index.html?clip=2&amp;tab=tab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18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er Harrassment (p. 267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2_Bully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nging it Back to the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have asked EJ if he can redirect us if we get too opinionated and need to reference the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 answer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ucOvO2RCk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Emotional Learning in Aus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2tB9X_XqvU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7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orce (p. 27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3_divorce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gan, Meredith, JeMarr, 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on, Kristen, EJ, Rachel 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H., Demetrius, Q, Rachel 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S., Imari, Christina, Wend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mela, Shiho, Megan C., Land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y, Caitlin, Alyssa, Cl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die, Susan, Rachel C., Shay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xual Abuse (p. 27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&amp;clipID=prev_child_sex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does this material relate to your inquiry questions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can you refine your inquiry question?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Susan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Discuss with partner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ding reputable resources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ould you locate the following journal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quiry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wik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‘what you want to know?’ limit your post t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quiry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ase the other two ques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e the wording of your question to reflect our in-class discussions, the readings, and my feed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This will be in HW reminder email)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king responsibility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you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are confused or having trou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ding late to my instructor feedback about your work/participation with “I’m confused” is not acceptable, and will be reflected in your grad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up a time to meet with m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oodle.com/jenniferkillh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we only meet once per week, we will have two breaks scheduled each class period, which will be 10 minutes each (4:50-5pm/5:50-6pm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eak is longer than usual to facilitate troubleshooting and questions, as well as I want to check in and prompt y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e search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arti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libraries.uc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arch ter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on in adolescence and physical activity (Jas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urnal search in Summ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DHD within this journal (Cod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Latest issue (e.g. September 201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23T18:34:01Z</dcterms:modified>
  <cp:revision>294</cp:revision>
  <dc:subject/>
  <dc:title>Development Through the Lifespan</dc:title>
</cp:coreProperties>
</file>