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45.xml.rels" ContentType="application/vnd.openxmlformats-package.relationships+xml"/>
  <Override PartName="/ppt/notesSlides/notesSlide49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4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jpeg" ContentType="image/jpeg"/>
  <Override PartName="/ppt/media/image4.wmf" ContentType="image/x-wmf"/>
  <Override PartName="/ppt/media/image17.jpeg" ContentType="image/jpeg"/>
  <Override PartName="/ppt/media/image3.png" ContentType="image/pn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62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Img"/>
          </p:nvPr>
        </p:nvSpPr>
        <p:spPr>
          <a:xfrm>
            <a:off x="1258560" y="720360"/>
            <a:ext cx="4799160" cy="359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ftr" idx="5"/>
          </p:nvPr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 type="sldNum" idx="6"/>
          </p:nvPr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fld id="{8475863D-0823-4E9C-B3EC-0485CDE17DE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deal self vs. real sel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fld id="{D67240A6-FB7A-4E68-A439-0A8D5AC75351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ristin- connection between academic competence and physical competence perha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pid gains in emotional self-regulation occur in middle child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By age 10, most children are able to shift adaptively between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oblem-centered cop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—through which th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raise a situation as changeable and decide what to do about it—and, if this is unsuccessful,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motion-cente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p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which is internal, private, and aimed at controlling distress when little can be done about an outco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When emotional self-regulation has developed well, school-age children acquire a sense of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emotional selfefficacy—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feeling of being in control of their emotional experience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—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fosters a favorable self-image and 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mistic outl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poorly regulated children often experience hostile, dismissive parental reactions to distress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overwhelmed by negative emo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san- pay attention to this as you observe the different age group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ddle childhood brings major advances in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erspective tak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the capacity to imagine what other people may 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nking and feeling—changes that support many social skil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aw your attention t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first, children have only a limited idea of what other people might be thinking and feeling, but later bec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aware that people can interpret the same event different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Soon, they can reflect on how another person might regard their own thoughts, feelings, and behavi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Finally, older children and adolescents can evaluate two people’s perspectives simultaneous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age 7 to 8, children no longer believe that all truth-telling is good and all lying bad, but also consider prosoc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antisocial inten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derstanding Individual Rights (p. 26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When children challenge adult authority, they typically do so within the personal domain, concerning cho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ch as hairstyle and frien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As early as age 6, children view freedom of speech and religion as individual rights—even if laws exist that de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se righ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They also regard laws that discriminate against individuals as wrong and worthy of violat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Older school-age children place limits on individual choice, and prejudice usually declines in middle child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er Groups (pp. 264–26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the end of middle childhood, children form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eer group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collectives that generate unique values and standa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behavior and a social structure of leaders and follow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e “peer culture” of a peer group typically consists of a specialized vocabulary, dress code, and place to “hang out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Within the peer group, children acquire many social skills, including cooperation and leadershi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When children who are no longer “respected” are excluded from groups, they may turn to other low-status pe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group belonging, thereby reducing their opportunities to learn socially competent behavi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Desire for group membership can also be satisfied through formal groups, such as scouting and religious youth group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iendships (p. 26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ring middle childhood, friendship becomes more complex and psychologically based, providing children with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ext for the development of trust and sensitiv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Children tend to choose friends who are similar to themselves in age, sex, race, ethnicity, and SES, as well as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sonality, popularity, academic achievement, and prosocial behavior. Yet friendship opportunities offered b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ldren’s environments also affect their choic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er Acceptance (pp. 265–267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eer acceptanc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ers to likability—the extent to which a child is viewed by a group of agemates as a worth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cial partn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Children’s self-reports reveal four broad categories of social acceptan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opular children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eive many positive votes (are well-liked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jected children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t many negative votes (are disliked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.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ntroversial children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eive many votes, both positive and negat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.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eglected children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seldom chosen, either positively or negative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About two-thirds of pupils in typical elementary school classrooms fit one of these categories; one-third 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verag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peer acceptance and do not receive extreme sco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Peer acceptance is a powerful predictor of psychological adjust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Rejected children are unhappy, disruptive, and low in self-este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 Peer rejection in middle childhood is strongly associated with many problems, including poor sch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formance, antisocial behavior, delinquency in adolescence, and criminality in young adult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. Earlier influences, such as parenting practices and family stress, may largely explain the link between pe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ceptance and adjust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terminants of Peer Accep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Social behavior plays a powerful role in determining why one child is liked and another rejec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 Popular Childr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opular-prosocial children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ually combine academic and social competen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opular-antisocial children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y be “tough” boys who are athletically skilled but are poor students w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use trouble and defy adult authority, or relationally aggressive boys and girls who ignore, exclude,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read rumors about other children as a way of enhancing their own stat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3) With age, peers like these high-status, aggressive youths less and le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. Rejected Childr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jected-aggressive children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w high rates of conflict, physical and relational aggression,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peractive, inattentive, and impulsive behavi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jected-withdrawn children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passive, socially awkward, and overwhelmed by social anxie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3) Rejected children generally have few or no friends, which results in severe adjustment difficult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. Controversial and Neglected Childr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Controversial children display both positive and negative social behaviors, engendering mixed pe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inion. Though they have friends, they often bully others and engage in calculated relational aggress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Neglected children—once thought to be in need of treatment—are usually just as socially skilled 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erage childr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ping Rejected Childr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Most interventions to help rejected children involve coaching, modeling, and reinforcing positive soc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kil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 Rejected children need help attributing their peer difficulties to internal, changeable caus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. If socially incompetent behaviors originate in harsh, intrusive, authoritarian parenting, interventions th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 on the child–parent interaction may be need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der Identity and Behavior (pp. 268–269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From third to sixth grade, boys strengthen their identification with “masculine” personality traits, while girls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dentification with “feminine” traits declin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Compared with boys, who usually stick to “masculine” pursuits, girls begin to experiment with a wider range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ons and more often consider traditionally male future work ro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These changes reflect a mixture of cognitive and social forc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School-age children are aware that society attaches greater prestige to “masculine” characteristi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 Parents, especially fathers, are more tolerant of girls than of boys crossing gender lin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Gender identity expands to include self-evaluations, which greatly affect adjustmen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Gender typicality—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egree to which the child feels similar to others of the same gen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Gender contentednes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—the degree to which the child feels satisfied with his or her gender assign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.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elt pressure to conform to gender roles—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egree to which the child feels that parents and pe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approve of their gender-related tra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Some experts advocate using therapy to make gender-atypical children more gender-typical, while others sug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ping parents and peers accept the children’s gender-atypical behaviors and interes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Parent–Child Relationships (p. 269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In middle childhood, the amount of time children spend with parents declines dramatical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Reasoning is more effective with school-age children because of their greater capacity for logical think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regulati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—a form of supervision in which parents exercise general oversight while permitting children to 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charge of moment-by-moment decision making—grows out of a cooperative relationship between parent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ld and prepares the child for the greater freedom of adolescen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Parents tend to devote more time to children of their own sex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 Siblings (pp. 269–270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Sibling rivalry increases in middle childhood, when some parents compare siblings’ traits and accomplishm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However, siblings are important sources of support for school-age childr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Siblings benefit when parents encourage warm, considerate sibling t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. Only Children (p. 270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Sibling relationships are not essential for healthy develop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Only children have somewhat closer relationships with parents, but tend to be less well-accepted in the pe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oup, perhaps because they have not had opportunities to practice conflict resolution skills with sibl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Favorable development also characterizes only children in China, where a one-child policy has existed for m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n 20 yea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vorce (pp. 270–272, 27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Currently, the divorce rate in the United States is the highest in the world, and of 45 percent of Ameri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riages that end in divorce, half involve childr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One-fourth of American children live in single-parent households, most with their moth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Children of divorce spend an average of five years in a single-parent ho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About two-thirds of divorced parents marry again, and half of their children eventually experience the end of the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ents’ second marria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Although studies have reported that marital breakup is stressful for children, great individual differences exist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well children fa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mediate Consequ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In newly divorced households, family conflict often ris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 Mother-headed households typically experience a sharp drop in income, and the majority of single moth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young children live in pover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. High maternal stress can lead to a disorganized family situation in which discipline may become harsh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onsist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. Fathers who see their children only occasionally may be permissive, making the mother’s task even hard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 Children’s 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Younger children often blame themselves for a marital breakup and fear abandonment by both par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ended Families (pp. 272–27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A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lende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or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constituted, family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ucture results from remarriage of a divorced parent that includes paren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ld, and new steprelativ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Mother–Stepfather Famil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In this arrangement—the most common—boys usually adjust quickly, but girls often react with sulky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istant behavi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 Older school-age children and adolescents of both sexes find it harder to adjust to blended famil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Father–Stepmother Families: When fathers have custody, children typically react negatively to remarriage; girls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pecially, have a hard time getting along with their stepmoth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Support for Blended Famil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Family life education and therapy can help parents and children adapt to the complexities of living in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ended fami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 Stepparents do best when they move into their new roles gradual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ernal Employment and Dual-Earner Families (pp. 274–27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Today, more than three-fourths of either single or married mothers with school-age children are employ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Maternal Employment and Child Develop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Children of mothers who enjoy their work and remain committed to parenting show favorable adjustmen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especially positive outcomes for gir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 Fathers in dual-earner households often take on greater child-rearing responsibilities; paternal involvement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sociated with higher achievement and more mature social behavi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. When the mother’s employment is overly stressful, children are at risk for ineffective parenting, especi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low-SES mothers spend long hours at low-paying, physically exhausting job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. Part-time employment and flexible work schedules are associated with good child adjust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Groups are the people you should contact first with clarifying questions or if you miss something in cl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fld id="{CC009EAB-6FAC-4DE7-AE33-D9C42F01DB3A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ars and Anxieties (pp. 275, 27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As children begin to understand the realities of the wider world, the possibility of personal harm and media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uch as disasters) often trouble them, along with worries about academic failure, parents’ health, phys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juries, and peer reje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Most children can handle fears constructively, using emotional regulation strateg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About 5 percent of school-age youngsters develop a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hobi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—an intense, unmanageable fear; for example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, sch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phobia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severe apprehension about attending schoo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Other childhood anxieties may arise from harsh living conditions—for example, those of war-torn areas of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l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About 90,000 cases of child sexual abuse occurred in the United States in the most recently reported yea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Characteristics of Abusers and Victi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Sexual abuse is committed more often against girls than boys, and most cases are reported in midd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ld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 Typically, the abuser is a male—a parent or someone whom the parent knows wel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. The Internet and mobile phones have become avenues through which other adults commit sexual abu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. Abusers have great difficulty controlling their impulses and may suffer from psychological disorders. Th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ten pick out children who are unlikely to defend themselves or be belie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 Reported cases of child sexual abuse are linked to poverty and marital instabi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Consequ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Adjustment problems of child sexual abuse victims include depression, low self-esteem, mistrust of adults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anger and hosti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 Younger children may have sleep difficulties and generalized fearfulne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. Adolescents may run away and show suicidal reactions and substance abu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. Repeated sexual abuse is associated with central nervous system dama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 In adolescence, abused young people often become promiscuous and, as adults, show increased arrest r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sex crimes and prostitu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. Abused girls often enter into abusive relationships as adults and may engage in irresponsible and coerc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ent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Prevention and Treat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Long-term therapy with children and families is usually necessa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 Prevention is the best way to reduce the suffering of child sexual abuse victi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Courts are now prosecuting abusers more rigorously, and children’s testimony is being taken m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rious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Educational programs can help children recognize inappropriate sexu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stering Resilience in Middle Childhood (p. 277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Only a modest relationship exists between stressful life experiences and psychological disturbances in child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Four broad factors that consistently protect against maladjustment are the child’s personal character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cluding easy temperament and a mastery-oriented approach to new situations), a warm parental relationship, 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ult outside the immediate family who offers a support system, and good community resourc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Resilienc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not a preexisting attribute but a capacity that develop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Families, schools, communities, and society can enhance or undermine school-age children’s suppor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ationships and sense of competen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7B5128-D1D1-4A00-B89E-70A1E3732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C37C55-1F9B-4DC2-B588-85DEA0179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8A78CD-79FB-40EB-A4C2-A1425CC75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39E74E-3AF3-472D-ADF8-0BE59B91B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735FA4-C4EB-4136-A34C-7C7ABB396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63F358-ED6B-4544-B02A-CA5231933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3B0445-4C92-4C0A-9876-0A98A68C8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A9D3E0-E984-4F8E-B0BE-B29E19E5F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DAF0D7-CD05-449A-A89D-D9675933C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6F2953-E1A4-4AAD-B7CA-8AB7D7FEF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166E50-CCFE-4FEB-AC81-30BBB4BB7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838FD6-44E5-47BF-97A8-D997BF3B8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CE85C-B9CF-434B-8AAE-E0D4618816E6}" type="datetime">
              <a:rPr b="0" lang="en-US" sz="1200" spc="-1" strike="noStrike">
                <a:solidFill>
                  <a:srgbClr val="ffffff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3DC67-5C74-4FB2-AA91-A42EC0B177A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1981080" y="6248160"/>
            <a:ext cx="5181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uc.edu/webapps/ucosmic/programs/detail.aspx?id=203" TargetMode="External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doodle.com/jenniferkillham" TargetMode="External"/><Relationship Id="rId2" Type="http://schemas.openxmlformats.org/officeDocument/2006/relationships/hyperlink" Target="http://doodle.com/jenniferkillham" TargetMode="Externa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libraries.uc.edu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4756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eating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8" name="Footer Placeholder 2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TextBox 4"/>
          <p:cNvSpPr/>
          <p:nvPr/>
        </p:nvSpPr>
        <p:spPr>
          <a:xfrm>
            <a:off x="3525840" y="4030560"/>
            <a:ext cx="1471680" cy="4597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Megan K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TextBox 5"/>
          <p:cNvSpPr/>
          <p:nvPr/>
        </p:nvSpPr>
        <p:spPr>
          <a:xfrm>
            <a:off x="3525840" y="2254320"/>
            <a:ext cx="1192320" cy="4597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JeMar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TextBox 6"/>
          <p:cNvSpPr/>
          <p:nvPr/>
        </p:nvSpPr>
        <p:spPr>
          <a:xfrm>
            <a:off x="595440" y="5819760"/>
            <a:ext cx="927000" cy="459720"/>
          </a:xfrm>
          <a:prstGeom prst="rect">
            <a:avLst/>
          </a:prstGeom>
          <a:solidFill>
            <a:srgbClr val="b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Eddi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TextBox 7"/>
          <p:cNvSpPr/>
          <p:nvPr/>
        </p:nvSpPr>
        <p:spPr>
          <a:xfrm>
            <a:off x="3794040" y="5776920"/>
            <a:ext cx="971640" cy="459720"/>
          </a:xfrm>
          <a:prstGeom prst="rect">
            <a:avLst/>
          </a:prstGeom>
          <a:solidFill>
            <a:srgbClr val="b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Sus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TextBox 8"/>
          <p:cNvSpPr/>
          <p:nvPr/>
        </p:nvSpPr>
        <p:spPr>
          <a:xfrm>
            <a:off x="5410080" y="1550880"/>
            <a:ext cx="927360" cy="459720"/>
          </a:xfrm>
          <a:prstGeom prst="rect">
            <a:avLst/>
          </a:prstGeom>
          <a:solidFill>
            <a:srgbClr val="ff8f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Shih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TextBox 9"/>
          <p:cNvSpPr/>
          <p:nvPr/>
        </p:nvSpPr>
        <p:spPr>
          <a:xfrm>
            <a:off x="2085840" y="4030560"/>
            <a:ext cx="1173240" cy="45972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Caitlin</a:t>
            </a:r>
            <a:r>
              <a:rPr b="0" lang="en-US" sz="24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TextBox 10"/>
          <p:cNvSpPr/>
          <p:nvPr/>
        </p:nvSpPr>
        <p:spPr>
          <a:xfrm>
            <a:off x="5119560" y="3255840"/>
            <a:ext cx="1509840" cy="459720"/>
          </a:xfrm>
          <a:prstGeom prst="rect">
            <a:avLst/>
          </a:prstGeom>
          <a:solidFill>
            <a:srgbClr val="ff8f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Megan 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TextBox 11"/>
          <p:cNvSpPr/>
          <p:nvPr/>
        </p:nvSpPr>
        <p:spPr>
          <a:xfrm>
            <a:off x="6994440" y="2311560"/>
            <a:ext cx="1366920" cy="459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Rachel 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TextBox 12"/>
          <p:cNvSpPr/>
          <p:nvPr/>
        </p:nvSpPr>
        <p:spPr>
          <a:xfrm>
            <a:off x="6994440" y="4125960"/>
            <a:ext cx="1233720" cy="8254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Paige H.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TextBox 14"/>
          <p:cNvSpPr/>
          <p:nvPr/>
        </p:nvSpPr>
        <p:spPr>
          <a:xfrm>
            <a:off x="3581280" y="4870440"/>
            <a:ext cx="1108080" cy="4597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Kristin</a:t>
            </a:r>
            <a:r>
              <a:rPr b="0" lang="en-US" sz="24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TextBox 15"/>
          <p:cNvSpPr/>
          <p:nvPr/>
        </p:nvSpPr>
        <p:spPr>
          <a:xfrm>
            <a:off x="628560" y="4870440"/>
            <a:ext cx="895320" cy="4597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EJ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TextBox 16"/>
          <p:cNvSpPr/>
          <p:nvPr/>
        </p:nvSpPr>
        <p:spPr>
          <a:xfrm>
            <a:off x="539640" y="3255840"/>
            <a:ext cx="1135080" cy="459720"/>
          </a:xfrm>
          <a:prstGeom prst="rect">
            <a:avLst/>
          </a:prstGeom>
          <a:solidFill>
            <a:srgbClr val="a3e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Wend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TextBox 17"/>
          <p:cNvSpPr/>
          <p:nvPr/>
        </p:nvSpPr>
        <p:spPr>
          <a:xfrm>
            <a:off x="588960" y="4033800"/>
            <a:ext cx="919080" cy="459720"/>
          </a:xfrm>
          <a:prstGeom prst="rect">
            <a:avLst/>
          </a:prstGeom>
          <a:solidFill>
            <a:srgbClr val="a3e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Imar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TextBox 19"/>
          <p:cNvSpPr/>
          <p:nvPr/>
        </p:nvSpPr>
        <p:spPr>
          <a:xfrm>
            <a:off x="457200" y="533520"/>
            <a:ext cx="2362320" cy="4597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Teacher St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TextBox 20"/>
          <p:cNvSpPr/>
          <p:nvPr/>
        </p:nvSpPr>
        <p:spPr>
          <a:xfrm>
            <a:off x="5264280" y="2311560"/>
            <a:ext cx="1180800" cy="459720"/>
          </a:xfrm>
          <a:prstGeom prst="rect">
            <a:avLst/>
          </a:prstGeom>
          <a:solidFill>
            <a:srgbClr val="ff8f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Pamel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TextBox 21"/>
          <p:cNvSpPr/>
          <p:nvPr/>
        </p:nvSpPr>
        <p:spPr>
          <a:xfrm>
            <a:off x="457200" y="2311560"/>
            <a:ext cx="1305000" cy="459720"/>
          </a:xfrm>
          <a:prstGeom prst="rect">
            <a:avLst/>
          </a:prstGeom>
          <a:solidFill>
            <a:srgbClr val="a3e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Christi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TextBox 22"/>
          <p:cNvSpPr/>
          <p:nvPr/>
        </p:nvSpPr>
        <p:spPr>
          <a:xfrm>
            <a:off x="5264280" y="4102200"/>
            <a:ext cx="1180800" cy="459720"/>
          </a:xfrm>
          <a:prstGeom prst="rect">
            <a:avLst/>
          </a:prstGeom>
          <a:solidFill>
            <a:srgbClr val="ff8f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Land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TextBox 23"/>
          <p:cNvSpPr/>
          <p:nvPr/>
        </p:nvSpPr>
        <p:spPr>
          <a:xfrm>
            <a:off x="3697200" y="3255840"/>
            <a:ext cx="876240" cy="459720"/>
          </a:xfrm>
          <a:prstGeom prst="rect">
            <a:avLst/>
          </a:prstGeom>
          <a:solidFill>
            <a:srgbClr val="a3a3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Liz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TextBox 24"/>
          <p:cNvSpPr/>
          <p:nvPr/>
        </p:nvSpPr>
        <p:spPr>
          <a:xfrm>
            <a:off x="2035080" y="2271600"/>
            <a:ext cx="1063800" cy="45972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Cody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TextBox 25"/>
          <p:cNvSpPr/>
          <p:nvPr/>
        </p:nvSpPr>
        <p:spPr>
          <a:xfrm>
            <a:off x="2035080" y="3238560"/>
            <a:ext cx="1096920" cy="45972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Alyss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TextBox 26"/>
          <p:cNvSpPr/>
          <p:nvPr/>
        </p:nvSpPr>
        <p:spPr>
          <a:xfrm>
            <a:off x="6927840" y="3244680"/>
            <a:ext cx="1600200" cy="459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Demetri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TextBox 27"/>
          <p:cNvSpPr/>
          <p:nvPr/>
        </p:nvSpPr>
        <p:spPr>
          <a:xfrm>
            <a:off x="7088040" y="1554120"/>
            <a:ext cx="684360" cy="459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TextBox 28"/>
          <p:cNvSpPr/>
          <p:nvPr/>
        </p:nvSpPr>
        <p:spPr>
          <a:xfrm>
            <a:off x="2035080" y="4870440"/>
            <a:ext cx="1013040" cy="4597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Jas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TextBox 29"/>
          <p:cNvSpPr/>
          <p:nvPr/>
        </p:nvSpPr>
        <p:spPr>
          <a:xfrm>
            <a:off x="4897440" y="4890960"/>
            <a:ext cx="1579680" cy="4597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Rachel 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TextBox 30"/>
          <p:cNvSpPr/>
          <p:nvPr/>
        </p:nvSpPr>
        <p:spPr>
          <a:xfrm>
            <a:off x="1819440" y="5819760"/>
            <a:ext cx="1504800" cy="459720"/>
          </a:xfrm>
          <a:prstGeom prst="rect">
            <a:avLst/>
          </a:prstGeom>
          <a:solidFill>
            <a:srgbClr val="b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Rachel 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TextBox 31"/>
          <p:cNvSpPr/>
          <p:nvPr/>
        </p:nvSpPr>
        <p:spPr>
          <a:xfrm>
            <a:off x="471600" y="1495440"/>
            <a:ext cx="1203120" cy="459720"/>
          </a:xfrm>
          <a:prstGeom prst="rect">
            <a:avLst/>
          </a:prstGeom>
          <a:solidFill>
            <a:srgbClr val="a3e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Paige 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TextBox 32"/>
          <p:cNvSpPr/>
          <p:nvPr/>
        </p:nvSpPr>
        <p:spPr>
          <a:xfrm>
            <a:off x="3463920" y="1486080"/>
            <a:ext cx="1341360" cy="4597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Meredi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TextBox 33"/>
          <p:cNvSpPr/>
          <p:nvPr/>
        </p:nvSpPr>
        <p:spPr>
          <a:xfrm>
            <a:off x="2041560" y="1508040"/>
            <a:ext cx="1138320" cy="45972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Claire</a:t>
            </a:r>
            <a:r>
              <a:rPr b="0" lang="en-US" sz="24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00"/>
                </a:solidFill>
                <a:latin typeface="Arial"/>
              </a:rPr>
              <a:t>Exploring </a:t>
            </a:r>
            <a:br>
              <a:rPr sz="4800"/>
            </a:br>
            <a:r>
              <a:rPr b="1" lang="en-US" sz="4800" spc="-1" strike="noStrike">
                <a:solidFill>
                  <a:srgbClr val="ffcc00"/>
                </a:solidFill>
                <a:latin typeface="Arial"/>
              </a:rPr>
              <a:t>Lifespan Development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350960" y="1913040"/>
            <a:ext cx="4335480" cy="53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Chapter 10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motional and Social Development in Middle Childhoo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multimedia product and its contents are protected under copyright law. The following are prohibited by law: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-228600">
              <a:lnSpc>
                <a:spcPct val="100000"/>
              </a:lnSpc>
              <a:spcBef>
                <a:spcPts val="3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y public performance or display, including transmission of any image over a network;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-228600">
              <a:lnSpc>
                <a:spcPct val="100000"/>
              </a:lnSpc>
              <a:spcBef>
                <a:spcPts val="3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eparation of any derivative work, including the extraction, in whole or in part, of any images;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-228600">
              <a:lnSpc>
                <a:spcPct val="100000"/>
              </a:lnSpc>
              <a:spcBef>
                <a:spcPts val="3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y rental, lease, or lending of the program.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3" name="Picture 4" descr="Berk-0205748597"/>
          <p:cNvPicPr/>
          <p:nvPr/>
        </p:nvPicPr>
        <p:blipFill>
          <a:blip r:embed="rId1"/>
          <a:stretch/>
        </p:blipFill>
        <p:spPr>
          <a:xfrm>
            <a:off x="762120" y="2057400"/>
            <a:ext cx="31240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Quiz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struction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rst, refresh your memories on your inquiry question. Keep this in min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 your desk (closed-book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15 minutes to complete the quiz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http://www.online-stopwatch.com/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 will pull a name card to determine who shares their answer for question 10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4756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tner Up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Footer Placeholder 2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TextBox 4"/>
          <p:cNvSpPr/>
          <p:nvPr/>
        </p:nvSpPr>
        <p:spPr>
          <a:xfrm>
            <a:off x="3813120" y="4086360"/>
            <a:ext cx="1471680" cy="4597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Megan K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TextBox 5"/>
          <p:cNvSpPr/>
          <p:nvPr/>
        </p:nvSpPr>
        <p:spPr>
          <a:xfrm>
            <a:off x="4137120" y="2330280"/>
            <a:ext cx="1191960" cy="4597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JeMar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TextBox 6"/>
          <p:cNvSpPr/>
          <p:nvPr/>
        </p:nvSpPr>
        <p:spPr>
          <a:xfrm>
            <a:off x="595440" y="5819760"/>
            <a:ext cx="927000" cy="459720"/>
          </a:xfrm>
          <a:prstGeom prst="rect">
            <a:avLst/>
          </a:prstGeom>
          <a:solidFill>
            <a:srgbClr val="b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Eddi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TextBox 7"/>
          <p:cNvSpPr/>
          <p:nvPr/>
        </p:nvSpPr>
        <p:spPr>
          <a:xfrm>
            <a:off x="4390920" y="5332320"/>
            <a:ext cx="971640" cy="459720"/>
          </a:xfrm>
          <a:prstGeom prst="rect">
            <a:avLst/>
          </a:prstGeom>
          <a:solidFill>
            <a:srgbClr val="b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Sus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TextBox 8"/>
          <p:cNvSpPr/>
          <p:nvPr/>
        </p:nvSpPr>
        <p:spPr>
          <a:xfrm>
            <a:off x="5410080" y="1550880"/>
            <a:ext cx="927360" cy="459720"/>
          </a:xfrm>
          <a:prstGeom prst="rect">
            <a:avLst/>
          </a:prstGeom>
          <a:solidFill>
            <a:srgbClr val="ff8f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Shih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TextBox 9"/>
          <p:cNvSpPr/>
          <p:nvPr/>
        </p:nvSpPr>
        <p:spPr>
          <a:xfrm>
            <a:off x="1498680" y="4033800"/>
            <a:ext cx="1173240" cy="45972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Caitlin</a:t>
            </a:r>
            <a:r>
              <a:rPr b="0" lang="en-US" sz="24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TextBox 10"/>
          <p:cNvSpPr/>
          <p:nvPr/>
        </p:nvSpPr>
        <p:spPr>
          <a:xfrm>
            <a:off x="5119560" y="3255840"/>
            <a:ext cx="1509840" cy="459720"/>
          </a:xfrm>
          <a:prstGeom prst="rect">
            <a:avLst/>
          </a:prstGeom>
          <a:solidFill>
            <a:srgbClr val="ff8f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Megan 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TextBox 11"/>
          <p:cNvSpPr/>
          <p:nvPr/>
        </p:nvSpPr>
        <p:spPr>
          <a:xfrm>
            <a:off x="6994440" y="2311560"/>
            <a:ext cx="1366920" cy="459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Rachel 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TextBox 12"/>
          <p:cNvSpPr/>
          <p:nvPr/>
        </p:nvSpPr>
        <p:spPr>
          <a:xfrm>
            <a:off x="6994440" y="4125960"/>
            <a:ext cx="1233720" cy="8254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Paige H.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TextBox 14"/>
          <p:cNvSpPr/>
          <p:nvPr/>
        </p:nvSpPr>
        <p:spPr>
          <a:xfrm>
            <a:off x="3773520" y="4890960"/>
            <a:ext cx="1108080" cy="4597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Kristin</a:t>
            </a:r>
            <a:r>
              <a:rPr b="0" lang="en-US" sz="24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TextBox 15"/>
          <p:cNvSpPr/>
          <p:nvPr/>
        </p:nvSpPr>
        <p:spPr>
          <a:xfrm>
            <a:off x="628560" y="4870440"/>
            <a:ext cx="895320" cy="4597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EJ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TextBox 16"/>
          <p:cNvSpPr/>
          <p:nvPr/>
        </p:nvSpPr>
        <p:spPr>
          <a:xfrm>
            <a:off x="539640" y="3255840"/>
            <a:ext cx="1135080" cy="459720"/>
          </a:xfrm>
          <a:prstGeom prst="rect">
            <a:avLst/>
          </a:prstGeom>
          <a:solidFill>
            <a:srgbClr val="a3e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Wend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TextBox 17"/>
          <p:cNvSpPr/>
          <p:nvPr/>
        </p:nvSpPr>
        <p:spPr>
          <a:xfrm>
            <a:off x="588960" y="4033800"/>
            <a:ext cx="919080" cy="459720"/>
          </a:xfrm>
          <a:prstGeom prst="rect">
            <a:avLst/>
          </a:prstGeom>
          <a:solidFill>
            <a:srgbClr val="a3e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Imar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TextBox 20"/>
          <p:cNvSpPr/>
          <p:nvPr/>
        </p:nvSpPr>
        <p:spPr>
          <a:xfrm>
            <a:off x="5264280" y="2311560"/>
            <a:ext cx="1180800" cy="459720"/>
          </a:xfrm>
          <a:prstGeom prst="rect">
            <a:avLst/>
          </a:prstGeom>
          <a:solidFill>
            <a:srgbClr val="ff8f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Pamel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TextBox 21"/>
          <p:cNvSpPr/>
          <p:nvPr/>
        </p:nvSpPr>
        <p:spPr>
          <a:xfrm>
            <a:off x="457200" y="2311560"/>
            <a:ext cx="1305000" cy="459720"/>
          </a:xfrm>
          <a:prstGeom prst="rect">
            <a:avLst/>
          </a:prstGeom>
          <a:solidFill>
            <a:srgbClr val="a3e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Christi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TextBox 22"/>
          <p:cNvSpPr/>
          <p:nvPr/>
        </p:nvSpPr>
        <p:spPr>
          <a:xfrm>
            <a:off x="5264280" y="4102200"/>
            <a:ext cx="1180800" cy="459720"/>
          </a:xfrm>
          <a:prstGeom prst="rect">
            <a:avLst/>
          </a:prstGeom>
          <a:solidFill>
            <a:srgbClr val="ff8f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Land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TextBox 23"/>
          <p:cNvSpPr/>
          <p:nvPr/>
        </p:nvSpPr>
        <p:spPr>
          <a:xfrm>
            <a:off x="4327560" y="3244680"/>
            <a:ext cx="876240" cy="459720"/>
          </a:xfrm>
          <a:prstGeom prst="rect">
            <a:avLst/>
          </a:prstGeom>
          <a:solidFill>
            <a:srgbClr val="a3a3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Liz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TextBox 24"/>
          <p:cNvSpPr/>
          <p:nvPr/>
        </p:nvSpPr>
        <p:spPr>
          <a:xfrm>
            <a:off x="1674720" y="2311560"/>
            <a:ext cx="1063800" cy="45972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Cody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TextBox 25"/>
          <p:cNvSpPr/>
          <p:nvPr/>
        </p:nvSpPr>
        <p:spPr>
          <a:xfrm>
            <a:off x="1641600" y="3263760"/>
            <a:ext cx="1096920" cy="45972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Alyss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TextBox 26"/>
          <p:cNvSpPr/>
          <p:nvPr/>
        </p:nvSpPr>
        <p:spPr>
          <a:xfrm>
            <a:off x="6878520" y="3654360"/>
            <a:ext cx="1600200" cy="459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Demetri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TextBox 27"/>
          <p:cNvSpPr/>
          <p:nvPr/>
        </p:nvSpPr>
        <p:spPr>
          <a:xfrm>
            <a:off x="7162920" y="1849320"/>
            <a:ext cx="684000" cy="459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TextBox 28"/>
          <p:cNvSpPr/>
          <p:nvPr/>
        </p:nvSpPr>
        <p:spPr>
          <a:xfrm>
            <a:off x="1498680" y="4870440"/>
            <a:ext cx="1012680" cy="4597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Jas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TextBox 29"/>
          <p:cNvSpPr/>
          <p:nvPr/>
        </p:nvSpPr>
        <p:spPr>
          <a:xfrm>
            <a:off x="4897440" y="4890960"/>
            <a:ext cx="1579680" cy="4597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Rachel 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TextBox 30"/>
          <p:cNvSpPr/>
          <p:nvPr/>
        </p:nvSpPr>
        <p:spPr>
          <a:xfrm>
            <a:off x="1498680" y="5819760"/>
            <a:ext cx="1504800" cy="459720"/>
          </a:xfrm>
          <a:prstGeom prst="rect">
            <a:avLst/>
          </a:prstGeom>
          <a:solidFill>
            <a:srgbClr val="b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Rachel 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TextBox 31"/>
          <p:cNvSpPr/>
          <p:nvPr/>
        </p:nvSpPr>
        <p:spPr>
          <a:xfrm>
            <a:off x="471600" y="1495440"/>
            <a:ext cx="1203120" cy="459720"/>
          </a:xfrm>
          <a:prstGeom prst="rect">
            <a:avLst/>
          </a:prstGeom>
          <a:solidFill>
            <a:srgbClr val="a3e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Paige 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TextBox 32"/>
          <p:cNvSpPr/>
          <p:nvPr/>
        </p:nvSpPr>
        <p:spPr>
          <a:xfrm>
            <a:off x="4094280" y="1495440"/>
            <a:ext cx="1341360" cy="4597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Meredi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TextBox 33"/>
          <p:cNvSpPr/>
          <p:nvPr/>
        </p:nvSpPr>
        <p:spPr>
          <a:xfrm>
            <a:off x="1569960" y="1486080"/>
            <a:ext cx="1138320" cy="45972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Claire</a:t>
            </a:r>
            <a:r>
              <a:rPr b="0" lang="en-US" sz="24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witch quizzes 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with your partner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8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Quiz Resul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50" name="Content Placeholder 2" descr=""/>
          <p:cNvPicPr/>
          <p:nvPr/>
        </p:nvPicPr>
        <p:blipFill>
          <a:blip r:embed="rId1"/>
          <a:stretch/>
        </p:blipFill>
        <p:spPr>
          <a:xfrm>
            <a:off x="378000" y="1511280"/>
            <a:ext cx="8546760" cy="4614840"/>
          </a:xfrm>
          <a:prstGeom prst="rect">
            <a:avLst/>
          </a:prstGeom>
          <a:ln w="0">
            <a:noFill/>
          </a:ln>
        </p:spPr>
      </p:pic>
      <p:sp>
        <p:nvSpPr>
          <p:cNvPr id="151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tay with your partner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4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95360" y="685800"/>
            <a:ext cx="8229600" cy="353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According to Erikson’s theory, what is the  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psychological </a:t>
            </a:r>
            <a:r>
              <a:rPr b="1" lang="en-US" sz="4000" spc="-1" strike="noStrike">
                <a:solidFill>
                  <a:srgbClr val="e5e5ff"/>
                </a:solidFill>
                <a:latin typeface="Arial"/>
              </a:rPr>
              <a:t>conflict of middle childhood? 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7" name="TextBox 1"/>
          <p:cNvSpPr/>
          <p:nvPr/>
        </p:nvSpPr>
        <p:spPr>
          <a:xfrm>
            <a:off x="1752480" y="4786200"/>
            <a:ext cx="5715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dustry vs. Inferiorit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tner Wor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mmarize Erikson’s Theory of Industry vs. Inferiority (p. 257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e major personality changes in middle childhood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stinguish between Industry vs. Inferiorit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cording to Erikson, how is the conflict of industry versus inferiority resolved?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0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Describe Erikson’s stage of industry versus inferiority </a:t>
            </a:r>
            <a:br>
              <a:rPr sz="4400"/>
            </a:b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3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Distinguish Between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Industry versus Inferiority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6" name="Rectangle 3"/>
          <p:cNvSpPr/>
          <p:nvPr/>
        </p:nvSpPr>
        <p:spPr>
          <a:xfrm>
            <a:off x="457200" y="1600200"/>
            <a:ext cx="830592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dustry combine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 realistic self-concep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ide in accomplish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oral responsibil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ooperation with agema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ample of opportunities to foster for industry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lyssa- with volleyball coaching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ailtin- with Ohio Reads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JeMarr- mentoring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Rectangle 4"/>
          <p:cNvSpPr/>
          <p:nvPr/>
        </p:nvSpPr>
        <p:spPr>
          <a:xfrm>
            <a:off x="4572000" y="1600200"/>
            <a:ext cx="403848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genda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nnouncements/Orienting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ver Ch. 10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quiry question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omework overview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Distinguish Between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Industry versus Inferiority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0" name="Rectangle 3"/>
          <p:cNvSpPr/>
          <p:nvPr/>
        </p:nvSpPr>
        <p:spPr>
          <a:xfrm>
            <a:off x="457200" y="1600200"/>
            <a:ext cx="830592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ferior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ssimism and lack of confidence in own ability to do things well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hink/apply: Rachel/Q- how does skill competency influence to intrinsic motivation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mily environment, teachers, and peers can contribute to negative feeling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hink/apply: Liza, JeMarr, Rachel T., Q- How does this fit in relation to your question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Rectangle 4"/>
          <p:cNvSpPr/>
          <p:nvPr/>
        </p:nvSpPr>
        <p:spPr>
          <a:xfrm>
            <a:off x="4572000" y="1600200"/>
            <a:ext cx="403848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95360" y="685800"/>
            <a:ext cx="8229600" cy="353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According to Erikson, how is the conflict of industry versus inferiority resolved?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4" name="TextBox 1"/>
          <p:cNvSpPr/>
          <p:nvPr/>
        </p:nvSpPr>
        <p:spPr>
          <a:xfrm>
            <a:off x="1219320" y="3733920"/>
            <a:ext cx="6705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y developing a sense of competence at useful skills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Liza/JeMarr- philosophie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e5ff"/>
                </a:solidFill>
                <a:latin typeface="Garamond"/>
              </a:rPr>
              <a:t>Describe school-age children’s self-concept and self-esteem, and discuss factors that affect their achievement-related</a:t>
            </a:r>
            <a:br>
              <a:rPr sz="4400"/>
            </a:br>
            <a:r>
              <a:rPr b="0" lang="en-US" sz="4400" spc="-1" strike="noStrike">
                <a:solidFill>
                  <a:srgbClr val="e5e5ff"/>
                </a:solidFill>
                <a:latin typeface="Garamond"/>
              </a:rPr>
              <a:t>attributions. (pp. 257–261)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6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457200" y="38088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With your partner: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92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When school-age children provide descriptions of themselves, the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9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Rectangle 1"/>
          <p:cNvSpPr/>
          <p:nvPr/>
        </p:nvSpPr>
        <p:spPr>
          <a:xfrm>
            <a:off x="459000" y="1991880"/>
            <a:ext cx="1807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br>
              <a:rPr sz="700"/>
            </a:b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19040" y="2819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What impacts this girl’s description of herself?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(running for student council)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http://www.youtube.com/watch?v=bDkUOydks3c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(Susan- interesting to ask all four of the children you are observing this question)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ocial comparisons (p. 258)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837720" y="1828440"/>
            <a:ext cx="762012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-457200">
              <a:spcBef>
                <a:spcPts val="799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J is trying to understand competition better (pros/cons related to development)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799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achel C. is trying to understand insecuriti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799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hat do EJ/Rachel C. need to consider in regard to social comparisons?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4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Arial"/>
              </a:rPr>
              <a:t>Make notes:</a:t>
            </a:r>
            <a:br>
              <a:rPr sz="3600"/>
            </a:br>
            <a:r>
              <a:rPr b="1" lang="en-US" sz="3600" spc="-1" strike="noStrike">
                <a:solidFill>
                  <a:srgbClr val="e5e5ff"/>
                </a:solidFill>
                <a:latin typeface="Arial"/>
              </a:rPr>
              <a:t>Achievement-Related Attributions</a:t>
            </a:r>
            <a:r>
              <a:rPr b="1" lang="en-US" sz="1400" spc="-1" strike="noStrike">
                <a:solidFill>
                  <a:srgbClr val="ff0000"/>
                </a:solidFill>
                <a:latin typeface="Garamond"/>
              </a:rPr>
              <a:t> </a:t>
            </a:r>
            <a:endParaRPr b="1" lang="en-US" sz="14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380880" y="1905120"/>
          <a:ext cx="8305920" cy="3779640"/>
        </p:xfrm>
        <a:graphic>
          <a:graphicData uri="http://schemas.openxmlformats.org/drawingml/2006/table">
            <a:tbl>
              <a:tblPr/>
              <a:tblGrid>
                <a:gridCol w="2278080"/>
                <a:gridCol w="1955880"/>
                <a:gridCol w="4071960"/>
              </a:tblGrid>
              <a:tr h="1039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514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ason for Succes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514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ason for Failur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514">
                        <a:alpha val="50000"/>
                      </a:srgbClr>
                    </a:solidFill>
                  </a:tcPr>
                </a:tc>
              </a:tr>
              <a:tr h="1322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ster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66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31840" indent="-23184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1417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earned helplessnes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6666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25360" indent="-22536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Garamond"/>
              </a:rPr>
              <a:t>Mastery-oriented vs. learned helplessness </a:t>
            </a:r>
            <a:br>
              <a:rPr sz="3600"/>
            </a:br>
            <a:r>
              <a:rPr b="1" lang="en-US" sz="2000" spc="-1" strike="noStrike">
                <a:solidFill>
                  <a:srgbClr val="e5e5ff"/>
                </a:solidFill>
                <a:latin typeface="Garamond"/>
              </a:rPr>
              <a:t>(pp. 260-261)</a:t>
            </a:r>
            <a:endParaRPr b="1" lang="en-US" sz="2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astery oriented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credit their success to ability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(student council video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84400" indent="-2844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earned helplessness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focus on external factors and can’t be improved through tryi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84400" indent="-2844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284400" indent="-2844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any of you are asking questions about why students respond certain ways and how to interact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16680" indent="-237240"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Read this section with your partner with an eye towards your question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16680" indent="-237240"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hare connections by saying, “The book says ‘parents of children with a learned helplessness style usually believe their child is incapable.’ I wonder if this influences the difference between home and school with Tre (Imari). 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08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When faced with disappointment or failure on an academic task, mastery-oriented children are most likely to attribute their failure to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…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1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2" name="Picture 6" descr="http://wps.ablongman.com/wps/media/styles/1480/_skins_/D/default_blue/problem_type_4.gif"/>
          <p:cNvPicPr/>
          <p:nvPr/>
        </p:nvPicPr>
        <p:blipFill>
          <a:blip r:embed="rId1"/>
          <a:stretch/>
        </p:blipFill>
        <p:spPr>
          <a:xfrm>
            <a:off x="0" y="0"/>
            <a:ext cx="352440" cy="24768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 txBox="1"/>
          <p:nvPr/>
        </p:nvSpPr>
        <p:spPr>
          <a:xfrm>
            <a:off x="457200" y="2514600"/>
            <a:ext cx="8229600" cy="36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malicious intent of another perso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ack of natural ability to succeed at such task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sufficient effort on their part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ad luck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94" name="DefaultOcx" descr=""/>
          <p:cNvPicPr/>
          <p:nvPr/>
        </p:nvPicPr>
        <p:blipFill>
          <a:blip r:embed="rId2"/>
          <a:stretch/>
        </p:blipFill>
        <p:spPr>
          <a:xfrm>
            <a:off x="0" y="0"/>
            <a:ext cx="1371600" cy="304920"/>
          </a:xfrm>
          <a:prstGeom prst="rect">
            <a:avLst/>
          </a:prstGeom>
          <a:ln w="0">
            <a:noFill/>
          </a:ln>
        </p:spPr>
      </p:pic>
      <p:pic>
        <p:nvPicPr>
          <p:cNvPr id="195" name="HTMLOption1" descr=""/>
          <p:cNvPicPr/>
          <p:nvPr/>
        </p:nvPicPr>
        <p:blipFill>
          <a:blip r:embed="rId3"/>
          <a:stretch/>
        </p:blipFill>
        <p:spPr>
          <a:xfrm>
            <a:off x="0" y="0"/>
            <a:ext cx="1371600" cy="304920"/>
          </a:xfrm>
          <a:prstGeom prst="rect">
            <a:avLst/>
          </a:prstGeom>
          <a:ln w="0">
            <a:noFill/>
          </a:ln>
        </p:spPr>
      </p:pic>
      <p:pic>
        <p:nvPicPr>
          <p:cNvPr id="196" name="HTMLOption2" descr=""/>
          <p:cNvPicPr/>
          <p:nvPr/>
        </p:nvPicPr>
        <p:blipFill>
          <a:blip r:embed="rId4"/>
          <a:stretch/>
        </p:blipFill>
        <p:spPr>
          <a:xfrm>
            <a:off x="0" y="0"/>
            <a:ext cx="1371600" cy="304920"/>
          </a:xfrm>
          <a:prstGeom prst="rect">
            <a:avLst/>
          </a:prstGeom>
          <a:ln w="0">
            <a:noFill/>
          </a:ln>
        </p:spPr>
      </p:pic>
      <p:pic>
        <p:nvPicPr>
          <p:cNvPr id="197" name="HTMLOption3" descr=""/>
          <p:cNvPicPr/>
          <p:nvPr/>
        </p:nvPicPr>
        <p:blipFill>
          <a:blip r:embed="rId5"/>
          <a:stretch/>
        </p:blipFill>
        <p:spPr>
          <a:xfrm>
            <a:off x="0" y="0"/>
            <a:ext cx="137160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304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When faced with disappointment or failure on an academic task, mastery-oriented children are most likely to attribute their failure to…</a:t>
            </a:r>
            <a:br>
              <a:rPr sz="4800"/>
            </a:b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9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4038120"/>
            <a:ext cx="822960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: insufficient effort on their part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Revisit: Achievement-Related Attributions</a:t>
            </a:r>
            <a:r>
              <a:rPr b="1" lang="en-US" sz="1800" spc="-1" strike="noStrike">
                <a:solidFill>
                  <a:srgbClr val="ff0000"/>
                </a:solidFill>
                <a:latin typeface="Garamond"/>
              </a:rPr>
              <a:t> </a:t>
            </a:r>
            <a:endParaRPr b="1" lang="en-US" sz="18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380880" y="1905120"/>
          <a:ext cx="8305920" cy="3779640"/>
        </p:xfrm>
        <a:graphic>
          <a:graphicData uri="http://schemas.openxmlformats.org/drawingml/2006/table">
            <a:tbl>
              <a:tblPr/>
              <a:tblGrid>
                <a:gridCol w="2278080"/>
                <a:gridCol w="1955880"/>
                <a:gridCol w="4071960"/>
              </a:tblGrid>
              <a:tr h="1039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514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ason for Succes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514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ason for Failur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514">
                        <a:alpha val="50000"/>
                      </a:srgbClr>
                    </a:solidFill>
                  </a:tcPr>
                </a:tc>
              </a:tr>
              <a:tr h="1322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ster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66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bilit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31840" indent="-23184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rollable factor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231840" indent="-23184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ffcc00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n be changed by working har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1417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earned helplessnes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6666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xternal factor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25360" indent="-22536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bilit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225360" indent="-22536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ffcc00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nnot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be changed by working har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nnouncem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Influences Attributio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361960" y="1066680"/>
            <a:ext cx="64767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rents influence learned helplessnes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94440" indent="-2966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o-high standard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94440" indent="-2966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lieve child incapabl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94440" indent="-2966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xed trait statements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042560" indent="-296640">
              <a:lnSpc>
                <a:spcPct val="90000"/>
              </a:lnSpc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You’re so smart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acher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nder influenc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S, ethnicit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ultural value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http://www.youtube.com/watch?v=SlTIfG0sQHo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07" name="Picture 7" descr="41120"/>
          <p:cNvPicPr/>
          <p:nvPr/>
        </p:nvPicPr>
        <p:blipFill>
          <a:blip r:embed="rId1"/>
          <a:stretch/>
        </p:blipFill>
        <p:spPr>
          <a:xfrm>
            <a:off x="457200" y="2057400"/>
            <a:ext cx="1676520" cy="2971800"/>
          </a:xfrm>
          <a:prstGeom prst="rect">
            <a:avLst/>
          </a:prstGeom>
          <a:ln w="0">
            <a:noFill/>
          </a:ln>
        </p:spPr>
      </p:pic>
      <p:sp>
        <p:nvSpPr>
          <p:cNvPr id="208" name="Text Box 8"/>
          <p:cNvSpPr/>
          <p:nvPr/>
        </p:nvSpPr>
        <p:spPr>
          <a:xfrm>
            <a:off x="-152280" y="5029200"/>
            <a:ext cx="228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Photodisc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Self-Concept 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During Middle Childhood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809520" y="1828440"/>
            <a:ext cx="48006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ttp://abavtooldev.pearsoncmg.com/sbx_videoplayer_v2/singleplay.php?projectID=BerkLifespan5&amp;clipID=020_self-concept.flv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12" name="Picture 11" descr="URY0061E"/>
          <p:cNvPicPr/>
          <p:nvPr/>
        </p:nvPicPr>
        <p:blipFill>
          <a:blip r:embed="rId1"/>
          <a:stretch/>
        </p:blipFill>
        <p:spPr>
          <a:xfrm>
            <a:off x="457200" y="2438280"/>
            <a:ext cx="3200400" cy="2346480"/>
          </a:xfrm>
          <a:prstGeom prst="rect">
            <a:avLst/>
          </a:prstGeom>
          <a:ln w="0">
            <a:noFill/>
          </a:ln>
        </p:spPr>
      </p:pic>
      <p:sp>
        <p:nvSpPr>
          <p:cNvPr id="213" name="Text Box 12"/>
          <p:cNvSpPr/>
          <p:nvPr/>
        </p:nvSpPr>
        <p:spPr>
          <a:xfrm>
            <a:off x="380880" y="4876920"/>
            <a:ext cx="327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rbis Royalty Fre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Changes in Self-Concept 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During Middle Childhood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809520" y="1828440"/>
            <a:ext cx="48006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re balanced, less all-or-none description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7760" indent="-347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cial comparison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7760" indent="-347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deal and real self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7760" indent="-347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ference social group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7760" indent="-347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ultural variations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7720" indent="-347760">
              <a:lnSpc>
                <a:spcPct val="100000"/>
              </a:lnSpc>
              <a:spcBef>
                <a:spcPts val="34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narrow your question- identify which culture you are referring to)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17" name="Picture 11" descr="URY0061E"/>
          <p:cNvPicPr/>
          <p:nvPr/>
        </p:nvPicPr>
        <p:blipFill>
          <a:blip r:embed="rId1"/>
          <a:stretch/>
        </p:blipFill>
        <p:spPr>
          <a:xfrm>
            <a:off x="457200" y="2438280"/>
            <a:ext cx="3200400" cy="2346480"/>
          </a:xfrm>
          <a:prstGeom prst="rect">
            <a:avLst/>
          </a:prstGeom>
          <a:ln w="0">
            <a:noFill/>
          </a:ln>
        </p:spPr>
      </p:pic>
      <p:sp>
        <p:nvSpPr>
          <p:cNvPr id="218" name="Text Box 12"/>
          <p:cNvSpPr/>
          <p:nvPr/>
        </p:nvSpPr>
        <p:spPr>
          <a:xfrm>
            <a:off x="380880" y="4876920"/>
            <a:ext cx="327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rbis Royalty Fre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Arial"/>
              </a:rPr>
              <a:t>Hierarchical Structure of Self-Esteem in </a:t>
            </a:r>
            <a:br>
              <a:rPr sz="2800"/>
            </a:br>
            <a:r>
              <a:rPr b="1" lang="en-US" sz="2800" spc="-1" strike="noStrike">
                <a:solidFill>
                  <a:srgbClr val="e5e5ff"/>
                </a:solidFill>
                <a:latin typeface="Arial"/>
              </a:rPr>
              <a:t>Middle Childhood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1" name="Text Box 4"/>
          <p:cNvSpPr/>
          <p:nvPr/>
        </p:nvSpPr>
        <p:spPr>
          <a:xfrm>
            <a:off x="5791320" y="632448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Figure 10.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2" name="Picture 6" descr="BKB10F01"/>
          <p:cNvPicPr/>
          <p:nvPr/>
        </p:nvPicPr>
        <p:blipFill>
          <a:blip r:embed="rId1"/>
          <a:stretch/>
        </p:blipFill>
        <p:spPr>
          <a:xfrm>
            <a:off x="457200" y="1523880"/>
            <a:ext cx="8153280" cy="4840560"/>
          </a:xfrm>
          <a:prstGeom prst="rect">
            <a:avLst/>
          </a:prstGeom>
          <a:ln w="0">
            <a:noFill/>
          </a:ln>
        </p:spPr>
      </p:pic>
      <p:sp>
        <p:nvSpPr>
          <p:cNvPr id="223" name="Right Arrow 1"/>
          <p:cNvSpPr/>
          <p:nvPr/>
        </p:nvSpPr>
        <p:spPr>
          <a:xfrm>
            <a:off x="228600" y="2362320"/>
            <a:ext cx="1371600" cy="992160"/>
          </a:xfrm>
          <a:prstGeom prst="rightArrow">
            <a:avLst>
              <a:gd name="adj1" fmla="val 50000"/>
              <a:gd name="adj2" fmla="val 50023"/>
            </a:avLst>
          </a:prstGeom>
          <a:solidFill>
            <a:srgbClr val="66cc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514"/>
                </a:solidFill>
                <a:latin typeface="Times New Roman"/>
              </a:rPr>
              <a:t>Caitlin (Reading)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514"/>
                </a:solidFill>
                <a:latin typeface="Times New Roman"/>
              </a:rPr>
              <a:t>Cody (ADHD)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Influences on Self-Esteem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15328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ulture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pp. 258-259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ndy- what culture are you focused on?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does the book say about Asian culture vs. American culture?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iho, what can you add from your experience tutoring?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nder stereotyping can impact self-esteem. What does the book say? Eddie/Wendy connections?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Influences on Self-Esteem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15328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ild-rearing practices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p. 259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uthoritative vs. controlling (JeMarr/Liza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uthoritative = warm, positive, firm but appropriate expectations backed with explanations help youth evaluate behavior against reasonable standards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trolling = communicate a sense of inadequacy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tributions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as discussed earlier)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stery-oriented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earned helplessnes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30" name="Picture 7" descr="FL_55L"/>
          <p:cNvPicPr/>
          <p:nvPr/>
        </p:nvPicPr>
        <p:blipFill>
          <a:blip r:embed="rId1"/>
          <a:stretch/>
        </p:blipFill>
        <p:spPr>
          <a:xfrm>
            <a:off x="5715000" y="4403880"/>
            <a:ext cx="3048120" cy="2065320"/>
          </a:xfrm>
          <a:prstGeom prst="rect">
            <a:avLst/>
          </a:prstGeom>
          <a:ln w="0">
            <a:noFill/>
          </a:ln>
        </p:spPr>
      </p:pic>
      <p:sp>
        <p:nvSpPr>
          <p:cNvPr id="231" name="Text Box 8"/>
          <p:cNvSpPr/>
          <p:nvPr/>
        </p:nvSpPr>
        <p:spPr>
          <a:xfrm>
            <a:off x="6248520" y="6537240"/>
            <a:ext cx="2590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RubberBall Production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Role of Parenting 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in Self-Esteem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80880" y="3048120"/>
            <a:ext cx="8229600" cy="307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uthoritative style be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courage goal-setting to boost self-esteem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5" name="TextBox 1"/>
          <p:cNvSpPr/>
          <p:nvPr/>
        </p:nvSpPr>
        <p:spPr>
          <a:xfrm>
            <a:off x="1143000" y="1752480"/>
            <a:ext cx="6858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Turn to p. 216 Table 8.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What are the distinctions styles? Which one is best?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Emotional Development 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in Middle Childhood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33720" indent="-333720">
              <a:lnSpc>
                <a:spcPct val="100000"/>
              </a:lnSpc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lf-conscious emotions more governed by personal responsibility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1" marL="766440" indent="-32292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ride and guilt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33720" indent="-333720">
              <a:lnSpc>
                <a:spcPct val="100000"/>
              </a:lnSpc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motional understanding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1" marL="766440" indent="-32292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ey explain emotion using internal states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lvl="1" marL="766440" indent="-32292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understand mixed emotions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lvl="1" marL="766440" indent="-32292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rise in empathy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lvl="1" marL="766440" indent="-32292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upported by cognitive development and social experience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33720" indent="-333720">
              <a:lnSpc>
                <a:spcPct val="100000"/>
              </a:lnSpc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motional self-regulation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1" marL="766440" indent="-32292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motivated by self-esteem and peer approval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lvl="1" marL="766440" indent="-32292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emotional self-efficacy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Coping Strategi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1" name="Rectangle 3"/>
          <p:cNvSpPr/>
          <p:nvPr/>
        </p:nvSpPr>
        <p:spPr>
          <a:xfrm>
            <a:off x="457200" y="1447920"/>
            <a:ext cx="411480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Problem-Centered Cop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Rectangle 4"/>
          <p:cNvSpPr/>
          <p:nvPr/>
        </p:nvSpPr>
        <p:spPr>
          <a:xfrm>
            <a:off x="4495680" y="1447920"/>
            <a:ext cx="403884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Emotion-Centered Cop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Rectangle 3"/>
          <p:cNvSpPr/>
          <p:nvPr/>
        </p:nvSpPr>
        <p:spPr>
          <a:xfrm>
            <a:off x="457200" y="2514600"/>
            <a:ext cx="388620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tuation is seen as change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fficulty is identifi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cision made on what to 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Rectangle 3"/>
          <p:cNvSpPr/>
          <p:nvPr/>
        </p:nvSpPr>
        <p:spPr>
          <a:xfrm>
            <a:off x="4572000" y="2514600"/>
            <a:ext cx="41911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d if problem-centered coping does not wor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ernal, private, aimed at controlling distress when little can be done about outco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al is emotional self-efficac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Selman’s Stages of Perspective Taking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247" name=""/>
          <p:cNvGraphicFramePr/>
          <p:nvPr/>
        </p:nvGraphicFramePr>
        <p:xfrm>
          <a:off x="304920" y="2057400"/>
          <a:ext cx="8458200" cy="4048200"/>
        </p:xfrm>
        <a:graphic>
          <a:graphicData uri="http://schemas.openxmlformats.org/drawingml/2006/table">
            <a:tbl>
              <a:tblPr/>
              <a:tblGrid>
                <a:gridCol w="1720800"/>
                <a:gridCol w="3662280"/>
                <a:gridCol w="3075120"/>
              </a:tblGrid>
              <a:tr h="822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evel 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66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ndifferentiate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514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–6 year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evel 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66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cial-informationa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514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–9 year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755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evel 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66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lf-reflectiv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514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–12 year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evel 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66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ird-part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514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–15 year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822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evel 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66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cieta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514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 years to adul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248" name="TextBox 2"/>
          <p:cNvSpPr/>
          <p:nvPr/>
        </p:nvSpPr>
        <p:spPr>
          <a:xfrm>
            <a:off x="228600" y="304920"/>
            <a:ext cx="1066680" cy="11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Paige S: think about possible connection between perspective taking when you observ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00"/>
                </a:solidFill>
                <a:uFillTx/>
                <a:latin typeface="Garamond"/>
                <a:hlinkClick r:id="rId1"/>
              </a:rPr>
              <a:t>HTTP://WWW.UC.EDU/WEBAPPS/UCOSMIC/PROGRAMS/DETAIL.ASPX?ID=203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520" y="53316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7000"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Garamond"/>
              </a:rPr>
              <a:t>Ecuador Study Abroad 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Changes in Moral Views </a:t>
            </a:r>
            <a:r>
              <a:rPr b="1" lang="en-US" sz="3200" spc="-1" strike="noStrike">
                <a:solidFill>
                  <a:srgbClr val="e5e5ff"/>
                </a:solidFill>
                <a:latin typeface="Arial"/>
              </a:rPr>
              <a:t>(p. 263)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lexible moral rul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98480" indent="-336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ying not always ba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98480" indent="-336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uth not always goo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98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7760" indent="-3477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ttp://abavtooldev.pearsoncmg.com/sbx_videoplayer_v2/singleplay.php?projectID=BerkLifespan5&amp;clipID=021_moral_reasoning.flv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77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Understanding 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Individual Righ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allenge adult authority within personal domain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JeMarr/Liza)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7760" indent="-347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iew denials of personal choices as wro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7760" indent="-347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ever, place limits on individual choi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98480" indent="-336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ically decide in favor of kindness and fairnes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-16765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Peer Group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79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med from proximity, similarity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7720" indent="-347760">
              <a:lnSpc>
                <a:spcPct val="100000"/>
              </a:lnSpc>
              <a:spcBef>
                <a:spcPts val="34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Josh at playground- what do you notice. Limitations to observation?)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47760" indent="-347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er cultur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7720" indent="-34776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havior, vocabulary, dress cod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7720" indent="-34776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n include relational aggression and exclus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7760" indent="-347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mari, what to you know about Tre’s peer group at home vs. school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58" name="Picture 12" descr="41094"/>
          <p:cNvPicPr/>
          <p:nvPr/>
        </p:nvPicPr>
        <p:blipFill>
          <a:blip r:embed="rId1"/>
          <a:stretch/>
        </p:blipFill>
        <p:spPr>
          <a:xfrm>
            <a:off x="6686640" y="152280"/>
            <a:ext cx="2076480" cy="1371600"/>
          </a:xfrm>
          <a:prstGeom prst="rect">
            <a:avLst/>
          </a:prstGeom>
          <a:ln w="0">
            <a:noFill/>
          </a:ln>
        </p:spPr>
      </p:pic>
      <p:sp>
        <p:nvSpPr>
          <p:cNvPr id="259" name="Text Box 13"/>
          <p:cNvSpPr/>
          <p:nvPr/>
        </p:nvSpPr>
        <p:spPr>
          <a:xfrm>
            <a:off x="7007400" y="1600200"/>
            <a:ext cx="182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Photodisc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Friendship (p. 265)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 2</a:t>
            </a:r>
            <a:r>
              <a:rPr b="0" lang="en-US" sz="3200" spc="-1" strike="noStrike" baseline="30000">
                <a:solidFill>
                  <a:srgbClr val="ffffff"/>
                </a:solidFill>
                <a:latin typeface="Garamond"/>
              </a:rPr>
              <a:t>nd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graders http://abavtooldev.pearsoncmg.com/sbx_videoplayer_v2/singleplay.php?projectID=BERK&amp;clipID=friendship.flv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Across cultur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ttp://visual.pearsoncmg.com/mydevelopmentlab/crosscultural/episode07/web_index.html?clip=2&amp;tab=tab0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2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Friendship in 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Middle Childhood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1532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sonal qualities, trust become importa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7760" indent="-347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re selective in choosing friend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98480" indent="-336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oose friends similar to self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7760" indent="-347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iendships can last several year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98480" indent="-336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ust learn to resolve disput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7760" indent="-347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ype of friends influences development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98480" indent="-336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ggressive friends often magnify antisocial act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6" name="Rectangle 6"/>
          <p:cNvSpPr/>
          <p:nvPr/>
        </p:nvSpPr>
        <p:spPr>
          <a:xfrm>
            <a:off x="533520" y="1905120"/>
            <a:ext cx="8305560" cy="464796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Peer Accepta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269" name=""/>
          <p:cNvGraphicFramePr/>
          <p:nvPr/>
        </p:nvGraphicFramePr>
        <p:xfrm>
          <a:off x="533520" y="2133720"/>
          <a:ext cx="8067600" cy="3371760"/>
        </p:xfrm>
        <a:graphic>
          <a:graphicData uri="http://schemas.openxmlformats.org/drawingml/2006/table">
            <a:tbl>
              <a:tblPr/>
              <a:tblGrid>
                <a:gridCol w="2971800"/>
                <a:gridCol w="5095800"/>
              </a:tblGrid>
              <a:tr h="10281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pula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66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7760" indent="-347760"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cc00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pular-prosocia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7760" indent="-347760"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cc00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pular-antisocia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</a:tr>
              <a:tr h="11523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jecte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66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7760" indent="-347760"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cc00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jected-aggressiv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7760" indent="-347760"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cc00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jected-withdraw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</a:tr>
              <a:tr h="518400"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roversia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514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72840"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glecte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0514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Bullies and Victim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2" name="Rectangle 3"/>
          <p:cNvSpPr/>
          <p:nvPr/>
        </p:nvSpPr>
        <p:spPr>
          <a:xfrm>
            <a:off x="457200" y="1600200"/>
            <a:ext cx="4038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Bull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st are boy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hysically, relationally aggressi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gh-status, powerfu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pula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0028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ost eventually become dislik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Rectangle 4"/>
          <p:cNvSpPr/>
          <p:nvPr/>
        </p:nvSpPr>
        <p:spPr>
          <a:xfrm>
            <a:off x="4572000" y="1600200"/>
            <a:ext cx="403848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Victim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ssive when active behavior expec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ive in to deman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ck defend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hibited tempera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hysically frai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verprotected, controlled by par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er Harrassment (p. 267)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ttp://abavtooldev.pearsoncmg.com/sbx_videoplayer_v2/singleplay.php?projectID=BerkLifespan5&amp;clipID=022_Bullying.flv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6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Helping Rejected Childre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57200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sitive social skill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98480" indent="-336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achi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98480" indent="-336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deli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98480" indent="-336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inforci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7760" indent="-347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mprove academic achievem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7760" indent="-347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vene with harsh parenting practic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80" name="Picture 6" descr="URY0070E"/>
          <p:cNvPicPr/>
          <p:nvPr/>
        </p:nvPicPr>
        <p:blipFill>
          <a:blip r:embed="rId1"/>
          <a:stretch/>
        </p:blipFill>
        <p:spPr>
          <a:xfrm>
            <a:off x="5181480" y="2209680"/>
            <a:ext cx="3429000" cy="2514600"/>
          </a:xfrm>
          <a:prstGeom prst="rect">
            <a:avLst/>
          </a:prstGeom>
          <a:ln w="0">
            <a:noFill/>
          </a:ln>
        </p:spPr>
      </p:pic>
      <p:sp>
        <p:nvSpPr>
          <p:cNvPr id="281" name="Text Box 7"/>
          <p:cNvSpPr/>
          <p:nvPr/>
        </p:nvSpPr>
        <p:spPr>
          <a:xfrm>
            <a:off x="6019920" y="4800600"/>
            <a:ext cx="2666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rbis Royalty Fre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Gender Typing in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Middle Childhood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5562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nder identity (3rd–4th grade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98480" indent="-3412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oys strengthen identification with “masculine” traits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98480" indent="-3412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irls’ identification with “feminine” traits declines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ultural and social facto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85" name="Picture 10" descr="10326"/>
          <p:cNvPicPr/>
          <p:nvPr/>
        </p:nvPicPr>
        <p:blipFill>
          <a:blip r:embed="rId1"/>
          <a:stretch/>
        </p:blipFill>
        <p:spPr>
          <a:xfrm>
            <a:off x="6248520" y="1828800"/>
            <a:ext cx="2590560" cy="1828800"/>
          </a:xfrm>
          <a:prstGeom prst="rect">
            <a:avLst/>
          </a:prstGeom>
          <a:ln w="0">
            <a:noFill/>
          </a:ln>
        </p:spPr>
      </p:pic>
      <p:sp>
        <p:nvSpPr>
          <p:cNvPr id="286" name="Text Box 11"/>
          <p:cNvSpPr/>
          <p:nvPr/>
        </p:nvSpPr>
        <p:spPr>
          <a:xfrm>
            <a:off x="6477120" y="3657600"/>
            <a:ext cx="2438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Sports and Recre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ringing it Back to the Tex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 have asked EJ if he can redirect us if we get too opinionated and need to reference the text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Gender Identit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029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lf-evaluations affect adjustment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98480" indent="-336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nder typicalit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98480" indent="-336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nder contentednes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98480" indent="-336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elt pressure to conform to gender rol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90" name="Picture 7" descr="dreamstime_7744292"/>
          <p:cNvPicPr/>
          <p:nvPr/>
        </p:nvPicPr>
        <p:blipFill>
          <a:blip r:embed="rId1"/>
          <a:stretch/>
        </p:blipFill>
        <p:spPr>
          <a:xfrm>
            <a:off x="5638680" y="1828800"/>
            <a:ext cx="3124440" cy="2421000"/>
          </a:xfrm>
          <a:prstGeom prst="rect">
            <a:avLst/>
          </a:prstGeom>
          <a:ln w="0">
            <a:noFill/>
          </a:ln>
        </p:spPr>
      </p:pic>
      <p:sp>
        <p:nvSpPr>
          <p:cNvPr id="291" name="Text Box 8"/>
          <p:cNvSpPr/>
          <p:nvPr/>
        </p:nvSpPr>
        <p:spPr>
          <a:xfrm>
            <a:off x="6781680" y="4343400"/>
            <a:ext cx="2057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©Tony Dudley/Dreamstim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Video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1371600" y="1905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hild answering question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ttp://www.youtube.com/watch?v=ucOvO2RCkho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ocial Emotional Learning in Austin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ttp://www.youtube.com/watch?v=2tB9X_XqvU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4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Family Relationship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495680" y="1523520"/>
            <a:ext cx="4191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ren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98480" indent="-3412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regul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bling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98480" indent="-3412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ivalr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98480" indent="-3412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anionship and assistanc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98480" indent="-3412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ed parental encouragem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98" name="Picture 10" descr="dreamstime_7582175"/>
          <p:cNvPicPr/>
          <p:nvPr/>
        </p:nvPicPr>
        <p:blipFill>
          <a:blip r:embed="rId1"/>
          <a:stretch/>
        </p:blipFill>
        <p:spPr>
          <a:xfrm>
            <a:off x="609480" y="2019240"/>
            <a:ext cx="3733920" cy="2738520"/>
          </a:xfrm>
          <a:prstGeom prst="rect">
            <a:avLst/>
          </a:prstGeom>
          <a:ln w="0">
            <a:noFill/>
          </a:ln>
        </p:spPr>
      </p:pic>
      <p:sp>
        <p:nvSpPr>
          <p:cNvPr id="299" name="Text Box 11"/>
          <p:cNvSpPr/>
          <p:nvPr/>
        </p:nvSpPr>
        <p:spPr>
          <a:xfrm>
            <a:off x="609480" y="4800600"/>
            <a:ext cx="3810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©Hongqi Zhang/Dreamstim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Only Childre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57150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gh in self-esteem, achievement motiv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7760" indent="-347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oser relationships with paren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98480" indent="-336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ssure for master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7760" indent="-347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er acceptance may be a problem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98480" indent="-336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ck of practice in conflict resolu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303" name="Picture 9" descr="07627FCH"/>
          <p:cNvPicPr/>
          <p:nvPr/>
        </p:nvPicPr>
        <p:blipFill>
          <a:blip r:embed="rId1"/>
          <a:stretch/>
        </p:blipFill>
        <p:spPr>
          <a:xfrm>
            <a:off x="6324480" y="1600200"/>
            <a:ext cx="2319480" cy="3855960"/>
          </a:xfrm>
          <a:prstGeom prst="rect">
            <a:avLst/>
          </a:prstGeom>
          <a:ln w="0">
            <a:noFill/>
          </a:ln>
        </p:spPr>
      </p:pic>
      <p:sp>
        <p:nvSpPr>
          <p:cNvPr id="304" name="Text Box 10"/>
          <p:cNvSpPr/>
          <p:nvPr/>
        </p:nvSpPr>
        <p:spPr>
          <a:xfrm>
            <a:off x="6019920" y="5486400"/>
            <a:ext cx="2666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Dynamic Graphic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International Divorce Rat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307" name="Picture 5" descr="BKB10F03"/>
          <p:cNvPicPr/>
          <p:nvPr/>
        </p:nvPicPr>
        <p:blipFill>
          <a:blip r:embed="rId1"/>
          <a:stretch/>
        </p:blipFill>
        <p:spPr>
          <a:xfrm>
            <a:off x="2666880" y="1752480"/>
            <a:ext cx="3668760" cy="4114800"/>
          </a:xfrm>
          <a:prstGeom prst="rect">
            <a:avLst/>
          </a:prstGeom>
          <a:ln w="0">
            <a:noFill/>
          </a:ln>
        </p:spPr>
      </p:pic>
      <p:sp>
        <p:nvSpPr>
          <p:cNvPr id="308" name="Text Box 6"/>
          <p:cNvSpPr/>
          <p:nvPr/>
        </p:nvSpPr>
        <p:spPr>
          <a:xfrm>
            <a:off x="4648320" y="5943600"/>
            <a:ext cx="175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Figure 10.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Consequences of 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Parental Divor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11" name="Rectangle 3"/>
          <p:cNvSpPr/>
          <p:nvPr/>
        </p:nvSpPr>
        <p:spPr>
          <a:xfrm>
            <a:off x="457200" y="1600200"/>
            <a:ext cx="4038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Immedia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stability, conflict, drop in inco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rental stress, disorganiz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equences affected by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0028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0028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empera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0028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ex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Rectangle 4"/>
          <p:cNvSpPr/>
          <p:nvPr/>
        </p:nvSpPr>
        <p:spPr>
          <a:xfrm>
            <a:off x="4572000" y="1600200"/>
            <a:ext cx="403848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Long-Ter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proved adjustment after 2 yea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oys and children with difficult temperaments more likely to have proble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ther’s involvement affects adjust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Divorce (p. 271)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ttp://abavtooldev.pearsoncmg.com/sbx_videoplayer_v2/singleplay.php?projectID=BerkLifespan5&amp;clipID=023_divorce.flv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5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Helping Families 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Through Divor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55760" indent="-455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ield children from conflict.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5760" indent="-455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vide continuity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5760" indent="-455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plain divorc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5760" indent="-455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mphasize the permanence of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tuatio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5760" indent="-455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ympathize with feeling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5760" indent="-455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 authoritative parenting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5760" indent="-455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mote both parental relationship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Blended Famili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1" name="Rectangle 3"/>
          <p:cNvSpPr/>
          <p:nvPr/>
        </p:nvSpPr>
        <p:spPr>
          <a:xfrm>
            <a:off x="457200" y="1447920"/>
            <a:ext cx="403848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Mother–Stepfath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st frequ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oys usually adjust quickl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irls adapt less favorabl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lder children and adolescents of both sexes display more problem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Rectangle 4"/>
          <p:cNvSpPr/>
          <p:nvPr/>
        </p:nvSpPr>
        <p:spPr>
          <a:xfrm>
            <a:off x="4419720" y="1447920"/>
            <a:ext cx="403848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Father–Stepmoth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ften leads to reduced father–child conta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ildren in fathers’ custody often react negativel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irls and stepmothers slow to get along at first, more positive interaction la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Maternal Employment 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and Child Developmen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5" name="Rectangle 3"/>
          <p:cNvSpPr/>
          <p:nvPr/>
        </p:nvSpPr>
        <p:spPr>
          <a:xfrm>
            <a:off x="457200" y="1600200"/>
            <a:ext cx="4038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Benefi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gher self-estee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sitive family and peer rel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ewer gender stereotyp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tter grad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re father involve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Rectangle 4"/>
          <p:cNvSpPr/>
          <p:nvPr/>
        </p:nvSpPr>
        <p:spPr>
          <a:xfrm>
            <a:off x="4572000" y="1600200"/>
            <a:ext cx="403848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Drawback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ss time for childr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isk of ineffective parent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Group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egan, Meredith, JeMarr, Liza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Jason, Kristen, EJ, Rachel L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ige H., Demetrius, Q, Rachel T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ige S., Imari, Christina, Wendy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mela, Shiho, Megan C., Land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dy, Caitlin, Alyssa, Clair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ddie, Susan, Rachel C., Shayna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Support for Working Par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533160" y="1523880"/>
            <a:ext cx="5562360" cy="457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lexible schedules, job shar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7760" indent="-347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ck leav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7760" indent="-347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volvement of other par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7760" indent="-347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qual pay and opportuniti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7760" indent="-347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ality child car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330" name="Picture 6" descr="dreamstime_4301854"/>
          <p:cNvPicPr/>
          <p:nvPr/>
        </p:nvPicPr>
        <p:blipFill>
          <a:blip r:embed="rId1"/>
          <a:stretch/>
        </p:blipFill>
        <p:spPr>
          <a:xfrm>
            <a:off x="6248520" y="1676520"/>
            <a:ext cx="2438280" cy="3657600"/>
          </a:xfrm>
          <a:prstGeom prst="rect">
            <a:avLst/>
          </a:prstGeom>
          <a:ln w="0">
            <a:noFill/>
          </a:ln>
        </p:spPr>
      </p:pic>
      <p:sp>
        <p:nvSpPr>
          <p:cNvPr id="331" name="Text Box 7"/>
          <p:cNvSpPr/>
          <p:nvPr/>
        </p:nvSpPr>
        <p:spPr>
          <a:xfrm>
            <a:off x="6477120" y="5410080"/>
            <a:ext cx="228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©Edward Bock/Dreamstim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Fears and Anxieties 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in Middle Childhood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ears of dark, thunder, lightning, and supernatural beings persist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7760" indent="-34776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ears based on the wider world emerg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98480" indent="-336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ny are media-fuele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98480" indent="-336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posure to frightening event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7760" indent="-34776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chool phobi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98480" indent="-336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–7 years: separation from hom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98480" indent="-336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1–13: particular aspects of schoo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7760" indent="-34776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rsh living conditions promote severe anxietie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Ethnic and Political Viol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ronically dangerous environmen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02360" indent="-3002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ss of feelings of safet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02360" indent="-3002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ensitization to violenc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02360" indent="-3002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paired moral reasoni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02360" indent="-3002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pelessness for futur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rents, schools, and communities must provide security, reassurance, and intervention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02360" indent="-3002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ork to preserve physical, psychological, and educational well-bei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39" name=""/>
          <p:cNvGraphicFramePr/>
          <p:nvPr/>
        </p:nvGraphicFramePr>
        <p:xfrm>
          <a:off x="533520" y="1523880"/>
          <a:ext cx="8076960" cy="4800600"/>
        </p:xfrm>
        <a:graphic>
          <a:graphicData uri="http://schemas.openxmlformats.org/drawingml/2006/table">
            <a:tbl>
              <a:tblPr/>
              <a:tblGrid>
                <a:gridCol w="2819160"/>
                <a:gridCol w="5257800"/>
              </a:tblGrid>
              <a:tr h="1200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haracteristics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f victim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66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7760" indent="-347760">
                        <a:lnSpc>
                          <a:spcPct val="100000"/>
                        </a:lnSpc>
                        <a:buClr>
                          <a:srgbClr val="ffcc00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re often femal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7760" indent="-347760">
                        <a:lnSpc>
                          <a:spcPct val="100000"/>
                        </a:lnSpc>
                        <a:buClr>
                          <a:srgbClr val="ffcc00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ported in middle childhoo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1200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haracteristics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f abus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66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7760" indent="-347760">
                        <a:lnSpc>
                          <a:spcPct val="100000"/>
                        </a:lnSpc>
                        <a:buClr>
                          <a:srgbClr val="ffcc00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sually mal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7760" indent="-347760">
                        <a:lnSpc>
                          <a:spcPct val="100000"/>
                        </a:lnSpc>
                        <a:buClr>
                          <a:srgbClr val="ffcc00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 or known by paren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7760" indent="-347760">
                        <a:lnSpc>
                          <a:spcPct val="100000"/>
                        </a:lnSpc>
                        <a:buClr>
                          <a:srgbClr val="ffcc00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y use technology to lur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1200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sequenc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66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7760" indent="-347760">
                        <a:lnSpc>
                          <a:spcPct val="100000"/>
                        </a:lnSpc>
                        <a:buClr>
                          <a:srgbClr val="ffcc00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motional reaction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7760" indent="-347760">
                        <a:lnSpc>
                          <a:spcPct val="100000"/>
                        </a:lnSpc>
                        <a:buClr>
                          <a:srgbClr val="ffcc00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hysical symptom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7760" indent="-347760">
                        <a:lnSpc>
                          <a:spcPct val="100000"/>
                        </a:lnSpc>
                        <a:buClr>
                          <a:srgbClr val="ffcc00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ffects on behavio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1199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vention and treatmen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66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7760" indent="-347760">
                        <a:lnSpc>
                          <a:spcPct val="100000"/>
                        </a:lnSpc>
                        <a:buClr>
                          <a:srgbClr val="ffcc00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vention: educatio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7760" indent="-347760">
                        <a:lnSpc>
                          <a:spcPct val="100000"/>
                        </a:lnSpc>
                        <a:buClr>
                          <a:srgbClr val="ffcc00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eatment: long-term therap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340" name="Rectangle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Child Sexual Abus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exual Abuse (p. 275)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ttp://abavtooldev.pearsoncmg.com/sbx_videoplayer_v2/singleplay.php?projectID=BERK&amp;clipID=prev_child_sex.flv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3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Factors Related to Resili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3200400" y="1523880"/>
            <a:ext cx="548640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sonal characteristic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98480" indent="-336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asy temperam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98480" indent="-336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stery orient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7760" indent="-347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rm parental relationship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7760" indent="-347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pportive adult outside famil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7760" indent="-347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munity resourc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347" name="Picture 8" descr="URY0025D"/>
          <p:cNvPicPr/>
          <p:nvPr/>
        </p:nvPicPr>
        <p:blipFill>
          <a:blip r:embed="rId1"/>
          <a:stretch/>
        </p:blipFill>
        <p:spPr>
          <a:xfrm>
            <a:off x="609480" y="1600200"/>
            <a:ext cx="2386080" cy="3938760"/>
          </a:xfrm>
          <a:prstGeom prst="rect">
            <a:avLst/>
          </a:prstGeom>
          <a:ln w="0">
            <a:noFill/>
          </a:ln>
        </p:spPr>
      </p:pic>
      <p:sp>
        <p:nvSpPr>
          <p:cNvPr id="348" name="Text Box 9"/>
          <p:cNvSpPr/>
          <p:nvPr/>
        </p:nvSpPr>
        <p:spPr>
          <a:xfrm>
            <a:off x="838080" y="5562720"/>
            <a:ext cx="2210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rbis Royalty Fre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305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does this material relate to your inquiry questions?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can you refine your inquiry question? 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(Susan)</a:t>
            </a:r>
            <a:br>
              <a:rPr sz="4400"/>
            </a:br>
            <a:br>
              <a:rPr sz="4400"/>
            </a:br>
            <a:r>
              <a:rPr b="1" lang="en-US" sz="3600" spc="-1" strike="noStrike">
                <a:solidFill>
                  <a:srgbClr val="e5e5ff"/>
                </a:solidFill>
                <a:latin typeface="Garamond"/>
              </a:rPr>
              <a:t>(Discuss with partner)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50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253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F</a:t>
            </a:r>
            <a:r>
              <a:rPr b="1" lang="en-US" sz="3600" spc="-1" strike="noStrike">
                <a:solidFill>
                  <a:srgbClr val="e5e5ff"/>
                </a:solidFill>
                <a:latin typeface="Garamond"/>
              </a:rPr>
              <a:t>inding reputable resources:</a:t>
            </a:r>
            <a:br>
              <a:rPr sz="3600"/>
            </a:br>
            <a:br>
              <a:rPr sz="3600"/>
            </a:br>
            <a:br>
              <a:rPr sz="3600"/>
            </a:b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would you locate the following journal?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1371600" y="4495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iddle School Journa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3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Inquiry Questio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On the wiki: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Under ‘what you want to know?’ limit your post to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one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inquiry question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rase the other two questions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fine the wording of your question to reflect our in-class discussions, the readings, and my feedback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(This will be in HW reminder email) 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Taking responsibility 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for your learning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765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f you are confused or having trouble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60960" indent="-254160"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Responding late to my instructor feedback about your work/participation with “I’m confused” is not acceptable, and will be reflected in your grade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60960" indent="-254160"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et up a time to meet with me (</a:t>
            </a:r>
            <a:r>
              <a:rPr b="0" lang="en-US" sz="2400" spc="-1" strike="noStrike" u="sng">
                <a:solidFill>
                  <a:srgbClr val="ffcc00"/>
                </a:solidFill>
                <a:uFillTx/>
                <a:latin typeface="Garamond"/>
                <a:hlinkClick r:id="rId1"/>
              </a:rPr>
              <a:t>http://</a:t>
            </a:r>
            <a:r>
              <a:rPr b="0" lang="en-US" sz="2400" spc="-1" strike="noStrike" u="sng">
                <a:solidFill>
                  <a:srgbClr val="ffcc00"/>
                </a:solidFill>
                <a:uFillTx/>
                <a:latin typeface="Garamond"/>
                <a:hlinkClick r:id="rId2"/>
              </a:rPr>
              <a:t>doodle.com/jenniferkillham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Garamond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60960" indent="-254160"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ince we only meet once per week, we will have two breaks scheduled each class period, which will be 10 minutes each (4:50-5pm/5:50-6pm)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60960" indent="-254160"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e break is longer than usual to facilitate troubleshooting and questions, as well as I want to check in and prompt you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Demonstrate searching 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for articl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609120" y="13716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00"/>
                </a:solidFill>
                <a:uFillTx/>
                <a:latin typeface="Garamond"/>
                <a:hlinkClick r:id="rId1"/>
              </a:rPr>
              <a:t>http://libraries.uc.edu/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earch terms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799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gnition in adolescence and physical activity (Jason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Journal search in Summon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799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iddle School Journa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914400" indent="-4572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Arial"/>
              </a:rPr>
              <a:t>ADHD within this journal (Cody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914400" indent="-4572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Arial"/>
              </a:rPr>
              <a:t>Latest issue (e.g. September 2013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26T20:01:00Z</dcterms:created>
  <dc:creator>Sheralee Connors</dc:creator>
  <dc:description/>
  <dc:language>en-US</dc:language>
  <cp:lastModifiedBy>Windows User</cp:lastModifiedBy>
  <cp:lastPrinted>2006-06-21T21:22:15Z</cp:lastPrinted>
  <dcterms:modified xsi:type="dcterms:W3CDTF">2013-09-23T18:34:01Z</dcterms:modified>
  <cp:revision>294</cp:revision>
  <dc:subject/>
  <dc:title>Development Through the Lifespan</dc:title>
</cp:coreProperties>
</file>