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6583E-8AE0-4175-B454-6DA1CA74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8BCBE-7CF1-40DD-8D1C-2D06E745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26E37-4310-4904-91F7-0CFFECF3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61157-60E3-4C64-9085-5AD682CE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61BA2-FBC1-4AD7-B7CA-7E14C5B7C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921B4-2E95-4D17-B2C3-8B1A7FC9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64551-D78D-4E5C-9883-01735BC54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2045B-4A51-4AD9-93D8-11535134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A3AF0-3103-4DCD-926A-3DB079E8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3593-454F-4782-B61B-3B9FB615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4259-BEFC-4914-AC12-D2BA405BC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DF012-2612-45E5-A94E-4726FD02E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97C9D-0915-4828-8047-BE068FB3EDD2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12EE-07FD-4763-A0DF-49B5391A3E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1981080" y="6248160"/>
            <a:ext cx="5181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Exploring 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Lifespan Developme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50960" y="1913040"/>
            <a:ext cx="433548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al and Social Development in Middle Childh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ublic performance or display, including transmission of any image over a network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ation of any derivative work, including the extraction, in whole or in part, of any images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" name="Picture 4" descr="Berk-0205748597"/>
          <p:cNvPicPr/>
          <p:nvPr/>
        </p:nvPicPr>
        <p:blipFill>
          <a:blip r:embed="rId1"/>
          <a:stretch/>
        </p:blipFill>
        <p:spPr>
          <a:xfrm>
            <a:off x="762120" y="20574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ping Strateg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blem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495680" y="1447920"/>
            <a:ext cx="4038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motion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25146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uation is seen as change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s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 made on what to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0" y="251460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f problem-centered coping does not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, private, aimed at controlling distress when little can be done about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is emotional self-effic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man’s Stages of Perspective T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2057400"/>
          <a:ext cx="8458200" cy="4048200"/>
        </p:xfrm>
        <a:graphic>
          <a:graphicData uri="http://schemas.openxmlformats.org/drawingml/2006/table">
            <a:tbl>
              <a:tblPr/>
              <a:tblGrid>
                <a:gridCol w="1720800"/>
                <a:gridCol w="3662280"/>
                <a:gridCol w="307512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ifferenti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–6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-informatio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–9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refl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–1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-par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–15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e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years to 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Moral View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moral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ing not always b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th not always g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rify link between moral imperative and social conven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respect for conventions with purp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inten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Understand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ividual Righ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 adult authority within personal dom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 denials of personal choices as wro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place limits on individual cho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ecide in favor of kindness and fair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from proximity, simila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, vocabulary, dress c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include relational aggression and ex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2" descr="41094"/>
          <p:cNvPicPr/>
          <p:nvPr/>
        </p:nvPicPr>
        <p:blipFill>
          <a:blip r:embed="rId1"/>
          <a:stretch/>
        </p:blipFill>
        <p:spPr>
          <a:xfrm>
            <a:off x="5486400" y="2133720"/>
            <a:ext cx="3276720" cy="2163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7010280" y="43434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riendship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qualities, trust become import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elective in choosing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iends similar to 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hips can last several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learn to resolve disp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friends influences develop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 friends often magnify antisocial a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33520" y="1905120"/>
            <a:ext cx="830556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Accep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2133720"/>
          <a:ext cx="8067600" cy="3371760"/>
        </p:xfrm>
        <a:graphic>
          <a:graphicData uri="http://schemas.openxmlformats.org/drawingml/2006/table">
            <a:tbl>
              <a:tblPr/>
              <a:tblGrid>
                <a:gridCol w="2971800"/>
                <a:gridCol w="5095800"/>
              </a:tblGrid>
              <a:tr h="102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pro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anti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15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aggre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withdra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vers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l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ullies and Victi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r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, relationally 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status, power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st eventually become disli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ict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when active behavior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in to dem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defe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temper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 fr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protected, controlled by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Rejected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572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ocial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academic achie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e with harsh parent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6" descr="URY0070E"/>
          <p:cNvPicPr/>
          <p:nvPr/>
        </p:nvPicPr>
        <p:blipFill>
          <a:blip r:embed="rId1"/>
          <a:stretch/>
        </p:blipFill>
        <p:spPr>
          <a:xfrm>
            <a:off x="5181480" y="220968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6019920" y="48006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Typing i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stereotyp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 stereotypes to include personalities and school subj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flexible about what males and female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actually 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identity (3rd–4t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ys strengthen identification with “masculine” trai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rls’ identification with “feminine” traits decl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 and social fac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10326"/>
          <p:cNvPicPr/>
          <p:nvPr/>
        </p:nvPicPr>
        <p:blipFill>
          <a:blip r:embed="rId1"/>
          <a:stretch/>
        </p:blipFill>
        <p:spPr>
          <a:xfrm>
            <a:off x="6248520" y="1828800"/>
            <a:ext cx="259056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6477120" y="36576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ports and Recre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rikson’s Theory: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du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a sense of competence at useful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rovides many opportun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fe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ssimism and lack of confidence in own ability to do things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environment, teachers, and peers can contribute to negative feel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Ident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evaluations affect adjus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typic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content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 pressure to conform to gender ro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7" descr="dreamstime_7744292"/>
          <p:cNvPicPr/>
          <p:nvPr/>
        </p:nvPicPr>
        <p:blipFill>
          <a:blip r:embed="rId1"/>
          <a:stretch/>
        </p:blipFill>
        <p:spPr>
          <a:xfrm>
            <a:off x="5638680" y="1828800"/>
            <a:ext cx="3124440" cy="2421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6781680" y="43434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Tony Dudley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mily Relation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95680" y="15235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b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al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onship and assis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arental encour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10" descr="dreamstime_7582175"/>
          <p:cNvPicPr/>
          <p:nvPr/>
        </p:nvPicPr>
        <p:blipFill>
          <a:blip r:embed="rId1"/>
          <a:stretch/>
        </p:blipFill>
        <p:spPr>
          <a:xfrm>
            <a:off x="609480" y="2019240"/>
            <a:ext cx="3733920" cy="27385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1"/>
          <p:cNvSpPr/>
          <p:nvPr/>
        </p:nvSpPr>
        <p:spPr>
          <a:xfrm>
            <a:off x="609480" y="4800600"/>
            <a:ext cx="38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Hongqi Zhang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nly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in self-esteem, achievement 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r relationships with 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for mast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acceptance may be a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practice in conflict re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07627FCH"/>
          <p:cNvPicPr/>
          <p:nvPr/>
        </p:nvPicPr>
        <p:blipFill>
          <a:blip r:embed="rId1"/>
          <a:stretch/>
        </p:blipFill>
        <p:spPr>
          <a:xfrm>
            <a:off x="6324480" y="1600200"/>
            <a:ext cx="2319480" cy="3855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6019920" y="54864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ynamic Graph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ternational Divorce R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Picture 5" descr="BKB10F03"/>
          <p:cNvPicPr/>
          <p:nvPr/>
        </p:nvPicPr>
        <p:blipFill>
          <a:blip r:embed="rId1"/>
          <a:stretch/>
        </p:blipFill>
        <p:spPr>
          <a:xfrm>
            <a:off x="2666880" y="1752480"/>
            <a:ext cx="366876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4648320" y="59436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nsequences of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arental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m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bility, conflict, drop in 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al stress, dis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 affect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mper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adjustment after 2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and children with difficult temperaments more likely to have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’s involvement affects adjus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Famil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hrough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eld children from conflict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continu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divo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 the permanence o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athize with feel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uthoritative paren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both parental relationshi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lended Famil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other–Step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qu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usually adjust 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dapt less favorab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olescents of both sexes display more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41972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ther–Stepm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leads to reduced father–child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in fathers’ custody often react negativ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nd stepmothers slow to get along at first, more positive interaction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aternal Employ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d Child Develop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self-e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amily and peer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gender stereo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ather invol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time for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ineffective pare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ort for Working Par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562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schedules, job sha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ck le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of other pa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pay and opportun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hild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6" descr="dreamstime_4301854"/>
          <p:cNvPicPr/>
          <p:nvPr/>
        </p:nvPicPr>
        <p:blipFill>
          <a:blip r:embed="rId1"/>
          <a:stretch/>
        </p:blipFill>
        <p:spPr>
          <a:xfrm>
            <a:off x="6248520" y="167652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6477120" y="54100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Edward Bock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ears and Anxiet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of dark, thunder, lightning, and supernatural beings persis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based on the wider world emer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re media-fue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o frightening ev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hob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–7 years: separation from ho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–13: particular aspects of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sh living conditions promote severe anxie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balanced, less all-or-none descri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comparis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and real sel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ocial gro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ri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thnic and Political Viol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ally dangerous environ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eelings of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sitization to vio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moral reaso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 fo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, schools, and communities must provide security, reassurance, and interven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to preserve physical, psychological, and educational well-be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3520" y="1523880"/>
          <a:ext cx="8076960" cy="4800600"/>
        </p:xfrm>
        <a:graphic>
          <a:graphicData uri="http://schemas.openxmlformats.org/drawingml/2006/table">
            <a:tbl>
              <a:tblPr/>
              <a:tblGrid>
                <a:gridCol w="2819160"/>
                <a:gridCol w="5257800"/>
              </a:tblGrid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victi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often 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ed in middle child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abus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 or known by par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use technology to 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otional 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s on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19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 and trea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: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: long-term thera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ild Sexual Ab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tors Related to Resili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00400" y="1523880"/>
            <a:ext cx="5486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emper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 ori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parental relation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adult outside fami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8" descr="URY0025D"/>
          <p:cNvPicPr/>
          <p:nvPr/>
        </p:nvPicPr>
        <p:blipFill>
          <a:blip r:embed="rId1"/>
          <a:stretch/>
        </p:blipFill>
        <p:spPr>
          <a:xfrm>
            <a:off x="609480" y="1600200"/>
            <a:ext cx="2386080" cy="3938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838080" y="556272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erarchical Structure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f Self-Esteem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791320" y="63244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6" descr="BKB10F01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769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-rear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ib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-orien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ed helpless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0" name="Picture 7" descr="FL_55L"/>
          <p:cNvPicPr/>
          <p:nvPr/>
        </p:nvPicPr>
        <p:blipFill>
          <a:blip r:embed="rId1"/>
          <a:stretch/>
        </p:blipFill>
        <p:spPr>
          <a:xfrm>
            <a:off x="5715000" y="2133720"/>
            <a:ext cx="3048120" cy="2065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6248520" y="426708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bberBall Produ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ole of Paren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ative style b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cultural values focus on sel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lead to overindulg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: less achievement behaviors, more antisocial behavi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goal-setting to boost self-este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hievement-Related Attributions</a:t>
            </a: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lable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rnal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Achievement-Related At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920" y="17524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-high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 child incap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t stat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vs. performance go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, ethn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" name="Picture 7" descr="41120"/>
          <p:cNvPicPr/>
          <p:nvPr/>
        </p:nvPicPr>
        <p:blipFill>
          <a:blip r:embed="rId1"/>
          <a:stretch/>
        </p:blipFill>
        <p:spPr>
          <a:xfrm>
            <a:off x="685800" y="2057400"/>
            <a:ext cx="167652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152280" y="50292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motional Develop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f-conscious emotions more governed by personal responsibili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de and guil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understand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plain emotion using internal sta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derstand mixed emotion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se in empath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ed by cognitive development and social experi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self-regul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tivated by self-esteem and peer approv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otional self-efficac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20:01:00Z</dcterms:created>
  <dc:creator>Sheralee Connors</dc:creator>
  <dc:description/>
  <dc:language>en-US</dc:language>
  <cp:lastModifiedBy>Windows User</cp:lastModifiedBy>
  <cp:lastPrinted>2006-06-21T21:22:15Z</cp:lastPrinted>
  <dcterms:modified xsi:type="dcterms:W3CDTF">2013-09-16T20:33:56Z</dcterms:modified>
  <cp:revision>231</cp:revision>
  <dc:subject/>
  <dc:title>Development Through the Lifespan</dc:title>
</cp:coreProperties>
</file>