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07FF5-E265-4349-B1F6-6F3BBBA93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4715B-4C21-45CF-9053-81AF7EBC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B995B-1761-45A5-9DB0-1F1D3A0AE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B8CDE-1FF3-46BB-956D-23997F135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B62B3-1A76-418F-BA97-CF17A34A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6A906-ECDC-48A8-A186-256CA587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21F3F-EF55-44CA-9B70-A861096B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77923-99D7-4191-9881-7E97C5A7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974E0-4F0D-4033-948F-4D03BC86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0175B-E65D-43AC-8BD4-304B9EF3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C744A-C402-4535-957A-59A69A69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C08FA-4BA6-4CE5-A089-DF89EAB1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0BF3-8FC8-4716-88C1-A75A7C3D04BE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2986-EC4E-467D-9FD2-6F64DE2D21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1981080" y="6248160"/>
            <a:ext cx="5181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Exploring </a:t>
            </a:r>
            <a:br>
              <a:rPr sz="4800"/>
            </a:b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Lifespan Developmen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350960" y="1913040"/>
            <a:ext cx="4335480" cy="53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hapter 10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otional and Social Development in Middle Childho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multimedia product and its contents are protected under copyright law. The following are prohibited by law: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-22860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 public performance or display, including transmission of any image over a network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-22860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paration of any derivative work, including the extraction, in whole or in part, of any images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-22860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 rental, lease, or lending of the program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3" name="Picture 4" descr="Berk-0205748597"/>
          <p:cNvPicPr/>
          <p:nvPr/>
        </p:nvPicPr>
        <p:blipFill>
          <a:blip r:embed="rId1"/>
          <a:stretch/>
        </p:blipFill>
        <p:spPr>
          <a:xfrm>
            <a:off x="762120" y="205740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oping Strateg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457200" y="1447920"/>
            <a:ext cx="41148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roblem-Centered Co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495680" y="1447920"/>
            <a:ext cx="40388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motion-Centered Co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57200" y="2514600"/>
            <a:ext cx="3886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tuation is seen as change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is ident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sion made on what to 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4572000" y="2514600"/>
            <a:ext cx="4191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if problem-centered coping does not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al, private, aimed at controlling distress when little can be done about outc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 is emotional self-effica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elman’s Stages of Perspective Tak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04920" y="2057400"/>
          <a:ext cx="8458200" cy="4048200"/>
        </p:xfrm>
        <a:graphic>
          <a:graphicData uri="http://schemas.openxmlformats.org/drawingml/2006/table">
            <a:tbl>
              <a:tblPr/>
              <a:tblGrid>
                <a:gridCol w="1720800"/>
                <a:gridCol w="3662280"/>
                <a:gridCol w="3075120"/>
              </a:tblGrid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ifferentiat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–6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cial-information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–9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lf-reflec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–12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rd-par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–15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cie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 years to adul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hanges in Moral View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exible moral r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ying not always b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th not always go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rify link between moral imperative and social conven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respect for conventions with purpo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inten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Understand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dividual Righ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llenge adult authority within personal doma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ew denials of personal choices as wro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ever, place limits on individual choi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ically decide in favor of kindness and fairn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Peer Grou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ed from proximity, similar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er cul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havior, vocabulary, dress co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include relational aggression and exclu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2" descr="41094"/>
          <p:cNvPicPr/>
          <p:nvPr/>
        </p:nvPicPr>
        <p:blipFill>
          <a:blip r:embed="rId1"/>
          <a:stretch/>
        </p:blipFill>
        <p:spPr>
          <a:xfrm>
            <a:off x="5486400" y="2133720"/>
            <a:ext cx="3276720" cy="21636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3"/>
          <p:cNvSpPr/>
          <p:nvPr/>
        </p:nvSpPr>
        <p:spPr>
          <a:xfrm>
            <a:off x="7010280" y="43434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hotodis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riendship in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 qualities, trust become importa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selective in choosing frie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 friends similar to self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iendships can last several yea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t learn to resolve dispu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of friends influences developm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gressive friends often magnify antisocial ac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533520" y="1905120"/>
            <a:ext cx="8305560" cy="4647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Peer Accepta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33520" y="2133720"/>
          <a:ext cx="8067600" cy="3371760"/>
        </p:xfrm>
        <a:graphic>
          <a:graphicData uri="http://schemas.openxmlformats.org/drawingml/2006/table">
            <a:tbl>
              <a:tblPr/>
              <a:tblGrid>
                <a:gridCol w="2971800"/>
                <a:gridCol w="5095800"/>
              </a:tblGrid>
              <a:tr h="102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pul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pular-prosoci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pular-antisoci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115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ject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jected-aggress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jected-withdraw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vers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21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lect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Bullies and Victi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457200" y="1600200"/>
            <a:ext cx="4038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ull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are bo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ly, relationally aggres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-status, power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ost eventually become dislik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45720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Victi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ive when active behavior exp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 in to dema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defen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hibited tempera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ly fr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protected, controlled by par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elping Rejected Child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5720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 social ski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ach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inforc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 academic achieve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vene with harsh parenting practi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6" descr="URY0070E"/>
          <p:cNvPicPr/>
          <p:nvPr/>
        </p:nvPicPr>
        <p:blipFill>
          <a:blip r:embed="rId1"/>
          <a:stretch/>
        </p:blipFill>
        <p:spPr>
          <a:xfrm>
            <a:off x="5181480" y="2209680"/>
            <a:ext cx="3429000" cy="25146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7"/>
          <p:cNvSpPr/>
          <p:nvPr/>
        </p:nvSpPr>
        <p:spPr>
          <a:xfrm>
            <a:off x="6019920" y="480060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rbis Royalty Fre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Gender Typing in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556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der stereotyp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d stereotypes to include personalities and school subjec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flexible about what males and female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n actually d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der identity (3rd–4th grad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ys strengthen identification with “masculine” trai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rls’ identification with “feminine” traits declin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ltural and social facto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10326"/>
          <p:cNvPicPr/>
          <p:nvPr/>
        </p:nvPicPr>
        <p:blipFill>
          <a:blip r:embed="rId1"/>
          <a:stretch/>
        </p:blipFill>
        <p:spPr>
          <a:xfrm>
            <a:off x="6248520" y="1828800"/>
            <a:ext cx="2590560" cy="18288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1"/>
          <p:cNvSpPr/>
          <p:nvPr/>
        </p:nvSpPr>
        <p:spPr>
          <a:xfrm>
            <a:off x="6477120" y="3657600"/>
            <a:ext cx="243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ports and Recre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Erikson’s Theory: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dustry versus Inferiority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457200" y="1600200"/>
            <a:ext cx="4038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ndu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ing a sense of competence at useful ski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ool provides many opportunit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4572000" y="1600200"/>
            <a:ext cx="40384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nferio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ssimism and lack of confidence in own ability to do things we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ily environment, teachers, and peers can contribute to negative feel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Gender Ident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f-evaluations affect adjustm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der typical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der contentedn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lt pressure to conform to gender ro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7" descr="dreamstime_7744292"/>
          <p:cNvPicPr/>
          <p:nvPr/>
        </p:nvPicPr>
        <p:blipFill>
          <a:blip r:embed="rId1"/>
          <a:stretch/>
        </p:blipFill>
        <p:spPr>
          <a:xfrm>
            <a:off x="5638680" y="1828800"/>
            <a:ext cx="3124440" cy="2421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8"/>
          <p:cNvSpPr/>
          <p:nvPr/>
        </p:nvSpPr>
        <p:spPr>
          <a:xfrm>
            <a:off x="6781680" y="434340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Tony Dudley/Dreamstim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amily Relationshi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95680" y="1523520"/>
            <a:ext cx="4191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egul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blin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val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nionship and assista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parental encourag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10" descr="dreamstime_7582175"/>
          <p:cNvPicPr/>
          <p:nvPr/>
        </p:nvPicPr>
        <p:blipFill>
          <a:blip r:embed="rId1"/>
          <a:stretch/>
        </p:blipFill>
        <p:spPr>
          <a:xfrm>
            <a:off x="609480" y="2019240"/>
            <a:ext cx="3733920" cy="27385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1"/>
          <p:cNvSpPr/>
          <p:nvPr/>
        </p:nvSpPr>
        <p:spPr>
          <a:xfrm>
            <a:off x="609480" y="4800600"/>
            <a:ext cx="381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Hongqi Zhang/Dreamstim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Only Child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5715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in self-esteem, achievement motiv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er relationships with par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sure for maste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er acceptance may be a probl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practice in conflict resol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9" descr="07627FCH"/>
          <p:cNvPicPr/>
          <p:nvPr/>
        </p:nvPicPr>
        <p:blipFill>
          <a:blip r:embed="rId1"/>
          <a:stretch/>
        </p:blipFill>
        <p:spPr>
          <a:xfrm>
            <a:off x="6324480" y="1600200"/>
            <a:ext cx="2319480" cy="38559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0"/>
          <p:cNvSpPr/>
          <p:nvPr/>
        </p:nvSpPr>
        <p:spPr>
          <a:xfrm>
            <a:off x="6019920" y="548640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ynamic Graphic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ternational Divorce Ra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4" name="Picture 5" descr="BKB10F03"/>
          <p:cNvPicPr/>
          <p:nvPr/>
        </p:nvPicPr>
        <p:blipFill>
          <a:blip r:embed="rId1"/>
          <a:stretch/>
        </p:blipFill>
        <p:spPr>
          <a:xfrm>
            <a:off x="2666880" y="1752480"/>
            <a:ext cx="3668760" cy="41148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4648320" y="594360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igure 10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onsequences of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Parental Divor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457200" y="1600200"/>
            <a:ext cx="4038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mmedi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ability, conflict, drop in inc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ental stress, disorgan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quences affected b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mpera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x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4572000" y="1600200"/>
            <a:ext cx="40384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Long-Te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d adjustment after 2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ys and children with difficult temperaments more likely to have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ther’s involvement affects adjus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elping Families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Through Divor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ield children from conflict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continuit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divor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hasize the permanence of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tu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pathize with feeling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uthoritative parent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e both parental relationship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Blended Famil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45720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other–Stepfa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frequ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ys usually adjust quick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rls adapt less favorab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der children and adolescents of both sexes display more proble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4419720" y="1447920"/>
            <a:ext cx="40384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ather–Stepm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leads to reduced father–child cont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ren in fathers’ custody often react negativ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rls and stepmothers slow to get along at first, more positive interaction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Maternal Employment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nd Child Develop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457200" y="1600200"/>
            <a:ext cx="4038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enef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er self-este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 family and peer rel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wer gender stereo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tter gr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father involv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4572000" y="1600200"/>
            <a:ext cx="40384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Drawba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time for child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 of ineffective paren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upport for Working Par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556236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exible schedules, job shar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ck lea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olvement of other par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al pay and opportun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lity child c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6" descr="dreamstime_4301854"/>
          <p:cNvPicPr/>
          <p:nvPr/>
        </p:nvPicPr>
        <p:blipFill>
          <a:blip r:embed="rId1"/>
          <a:stretch/>
        </p:blipFill>
        <p:spPr>
          <a:xfrm>
            <a:off x="6248520" y="1676520"/>
            <a:ext cx="2438280" cy="36576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6477120" y="541008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Edward Bock/Dreamstim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ears and Anxieties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 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rs of dark, thunder, lightning, and supernatural beings persis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rs based on the wider world emerg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are media-fuel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osure to frightening eve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ool phob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–7 years: separation from hom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–13: particular aspects of scho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sh living conditions promote severe anxieti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hanges in Self-Concept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uring 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9520" y="1828440"/>
            <a:ext cx="4800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balanced, less all-or-none descrip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comparis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 and real sel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social group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al vari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Picture 11" descr="URY0061E"/>
          <p:cNvPicPr/>
          <p:nvPr/>
        </p:nvPicPr>
        <p:blipFill>
          <a:blip r:embed="rId1"/>
          <a:stretch/>
        </p:blipFill>
        <p:spPr>
          <a:xfrm>
            <a:off x="457200" y="2438280"/>
            <a:ext cx="3200400" cy="23464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2"/>
          <p:cNvSpPr/>
          <p:nvPr/>
        </p:nvSpPr>
        <p:spPr>
          <a:xfrm>
            <a:off x="380880" y="4876920"/>
            <a:ext cx="32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rbis Royalty Fre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Ethnic and Political Viol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onically dangerous environm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2360" indent="-3002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ss of feelings of safe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2360" indent="-3002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ensitization to viole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2360" indent="-3002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ired moral reason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2360" indent="-3002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pelessness for futu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nts, schools, and communities must provide security, reassurance, and intervent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2360" indent="-3002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to preserve physical, psychological, and educational well-be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33520" y="1523880"/>
          <a:ext cx="8076960" cy="4800600"/>
        </p:xfrm>
        <a:graphic>
          <a:graphicData uri="http://schemas.openxmlformats.org/drawingml/2006/table">
            <a:tbl>
              <a:tblPr/>
              <a:tblGrid>
                <a:gridCol w="2819160"/>
                <a:gridCol w="5257800"/>
              </a:tblGrid>
              <a:tr h="120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istic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 victim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e often fema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orted in middle childho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120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istic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 abus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ually ma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 or known by par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y use technology to l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120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equenc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otional react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 sympto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s on behavi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119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ention and treat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ention: educ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eatment: long-term therap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74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hild Sexual Abu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actors Related to Resili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00400" y="1523880"/>
            <a:ext cx="54864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 characteristic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 tempera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tery orien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m parental relationshi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ive adult outside fami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ty resour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8" name="Picture 8" descr="URY0025D"/>
          <p:cNvPicPr/>
          <p:nvPr/>
        </p:nvPicPr>
        <p:blipFill>
          <a:blip r:embed="rId1"/>
          <a:stretch/>
        </p:blipFill>
        <p:spPr>
          <a:xfrm>
            <a:off x="609480" y="1600200"/>
            <a:ext cx="2386080" cy="39387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9"/>
          <p:cNvSpPr/>
          <p:nvPr/>
        </p:nvSpPr>
        <p:spPr>
          <a:xfrm>
            <a:off x="838080" y="5562720"/>
            <a:ext cx="221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rbis Royalty Fre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ierarchical Structure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of Self-Esteem in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5791320" y="632448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igure 10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Picture 6" descr="BKB10F01"/>
          <p:cNvPicPr/>
          <p:nvPr/>
        </p:nvPicPr>
        <p:blipFill>
          <a:blip r:embed="rId1"/>
          <a:stretch/>
        </p:blipFill>
        <p:spPr>
          <a:xfrm>
            <a:off x="1066680" y="2133720"/>
            <a:ext cx="701064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fluences on Self-Este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8769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-rearing practi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ribu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tery-orien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ed helplessn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0" name="Picture 7" descr="FL_55L"/>
          <p:cNvPicPr/>
          <p:nvPr/>
        </p:nvPicPr>
        <p:blipFill>
          <a:blip r:embed="rId1"/>
          <a:stretch/>
        </p:blipFill>
        <p:spPr>
          <a:xfrm>
            <a:off x="5715000" y="2133720"/>
            <a:ext cx="3048120" cy="20653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8"/>
          <p:cNvSpPr/>
          <p:nvPr/>
        </p:nvSpPr>
        <p:spPr>
          <a:xfrm>
            <a:off x="6248520" y="4267080"/>
            <a:ext cx="259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ubberBall Produc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Role of Parent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 Self-Este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itative style b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n cultural values focus on self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lead to overindulge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dox: less achievement behaviors, more antisocial behavio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ourage goal-setting to boost self-este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chievement-Related Attributions</a:t>
            </a:r>
            <a:r>
              <a:rPr b="1" lang="en-US" sz="18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80880" y="1905120"/>
          <a:ext cx="8305920" cy="3779640"/>
        </p:xfrm>
        <a:graphic>
          <a:graphicData uri="http://schemas.openxmlformats.org/drawingml/2006/table">
            <a:tbl>
              <a:tblPr/>
              <a:tblGrid>
                <a:gridCol w="2278080"/>
                <a:gridCol w="1955880"/>
                <a:gridCol w="4071960"/>
              </a:tblGrid>
              <a:tr h="103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on for Succ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on for Fail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</a:tr>
              <a:tr h="13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te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i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1840" indent="-231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lable facto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31840" indent="-2318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 be changed by working h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14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arned helplessn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ernal facto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i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25360" indent="-22536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no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e changed by working h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fluences on Achievement-Related Attribu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90920" y="1752480"/>
            <a:ext cx="594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0200" indent="-337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-high standar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0200" indent="-337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ieve child incap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0200" indent="-337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t state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0200" indent="-337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ing vs. performance goa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der influen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S, ethnic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al valu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1" name="Picture 7" descr="41120"/>
          <p:cNvPicPr/>
          <p:nvPr/>
        </p:nvPicPr>
        <p:blipFill>
          <a:blip r:embed="rId1"/>
          <a:stretch/>
        </p:blipFill>
        <p:spPr>
          <a:xfrm>
            <a:off x="685800" y="2057400"/>
            <a:ext cx="1676520" cy="29718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/>
          <p:cNvSpPr/>
          <p:nvPr/>
        </p:nvSpPr>
        <p:spPr>
          <a:xfrm>
            <a:off x="152280" y="502920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hotodis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Emotional Development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 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3720" indent="-33372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lf-conscious emotions more governed by personal responsibilit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ide and guilt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3720" indent="-33372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motional understanding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xplain emotion using internal state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nderstand mixed emotion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ise in empathy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pported by cognitive development and social experienc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3720" indent="-33372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motional self-regulatio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otivated by self-esteem and peer approval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motional self-efficacy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6T20:01:00Z</dcterms:created>
  <dc:creator>Sheralee Connors</dc:creator>
  <dc:description/>
  <dc:language>en-US</dc:language>
  <cp:lastModifiedBy>Windows User</cp:lastModifiedBy>
  <cp:lastPrinted>2006-06-21T21:22:15Z</cp:lastPrinted>
  <dcterms:modified xsi:type="dcterms:W3CDTF">2013-09-16T20:33:56Z</dcterms:modified>
  <cp:revision>231</cp:revision>
  <dc:subject/>
  <dc:title>Development Through the Lifespan</dc:title>
</cp:coreProperties>
</file>