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FA38BF-BDBA-444E-8621-57CCC0EAD0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6"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7"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E505FD-9C65-4CC4-A5D0-A18E554DF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23"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24"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D2D5164-EAE5-4802-9517-7A313E5D393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9407F2E0-3C7E-40F1-94B7-0B8F7343EA5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E917EEA-DFDB-475F-89E6-3DE5C3931A7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28"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29"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30"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2287C0B-2566-4A40-B815-595272F2612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32"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33"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34"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5CAF21A-5506-4647-8CDE-C6E6779F586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36"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37"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38"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00496E6D-7845-4C41-8D00-07665DE52B0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40"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41"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CE92A0F-E082-4DDE-849C-4D02ED00C50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43"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44"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45"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46"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518005E3-0C08-4519-AFC7-F3CA8BF526E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48"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49"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50"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51"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52"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53"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B0FE5A8B-B4F7-4E40-95A7-014FE068385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FA87305D-AAA4-4994-8205-11471A056AD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9"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0"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1"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2"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720907-73E6-4597-9969-CA365BDB2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71"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1BFDB2F-92D5-4425-B795-8151D6FEC28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73"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1C11306-FBB0-46A7-B296-E07D9C0EBCF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75"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76"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F2C59011-166A-4008-8377-AAF6E986DC1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6187933F-AE10-47C2-B7FE-A5394663A7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B039FDB-5156-4204-97BA-5F3ECC1C72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80"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1"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2"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9D14108-907D-4DD2-A64C-0E0C5BE37A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84"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6"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8569C87-DF05-4072-8AA9-6B77A277AF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88"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0"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84E8C15-53D7-4803-9DCD-A3E1BAD8F9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92"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3"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0D5C8EB2-D3CF-4C9A-AD6D-8879BF5D83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95"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6"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7"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8"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0F2B9F52-E212-4DF8-8FCB-DD8D56E869C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4"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5"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6"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7"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BAFF8B-5EEA-49DA-9121-29C08793FE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00"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01"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02"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03"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04"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05"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0B784FA4-5AD2-4C41-AFDC-7CFD499A626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FCA429B-A7B8-4298-9865-E40DDDDF474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21"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29BC8D5-1A7E-43CF-B75C-CCD13F21E43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23"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223D904-2F41-44EA-A138-DF4BAF19395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25"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26"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42882B9-AFE9-43C6-8FC9-B2034F920C1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64BD52B-C86C-41F9-8F54-628CD2A5333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5D014DE-D794-4F2A-98C4-40E158F3B33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30"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31"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32"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F71755E-AC58-45B5-90A9-49CEECCE938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34"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3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36"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1752F11-B587-497B-B752-8993AD78407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38"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3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40"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960A6C8-83B3-469D-A811-F8F87AE6156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57B0B1-8DD5-4334-AFD4-3A748E43A2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42"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43"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C6A7D69-B837-487C-ACA0-ED008E0C5C5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45"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46"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47"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48"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F0040D6-835D-4FA6-A3F7-3E5CE05CCE4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50"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51"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52"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53"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54"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55"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C0288F2-3242-443F-A7EA-5D26A80AA25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24FD39EA-1BD3-4E53-AE4A-015A7421CA5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71"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A75530F-0862-41EC-94EA-9140008D363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73"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ECB471C4-B3CD-4052-98E0-52CD55C1026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75"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76"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E629597F-65AC-4D6A-ADC2-3C6E7D9435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19CF25D-9140-4F07-BC39-E65047BE227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5AD34B22-AEEF-49F9-B7E5-F6EB0F06BC8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80"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81"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82"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FE92853-4609-46BB-A9B7-B8E8B1B262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65"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C19F11-EDDF-4A3A-8F6A-904DD63C8B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84"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8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86"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B7DD636-C985-480C-8DC5-307F6F2B20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88"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8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90"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EB98716-292E-46C9-B474-001CDEA82A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92"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93"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08537B8-334F-4A0B-8B68-899726E9CCC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95"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96"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97"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98"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131F9B11-7938-4C1C-BF3A-F758E4C996A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600"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01"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02"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03"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04"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05"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8D132490-9240-409D-AAE1-8BDE2783C21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67"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53BD1-FCCD-4F3E-AE0F-3B525EC89E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69"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0"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25C17B-47BF-40E6-B382-EF435646F9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3784F0-38E5-4753-A95B-F406AD385D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A16A25-DCC1-4200-8469-9828418B72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7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5"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6"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5295F-B9D8-4B94-823F-3AD0F81BC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5"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CF83E-8C08-4BE7-AE66-DB1B43B86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78"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80"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8EE23-498A-4690-B90E-7CB874947C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82"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83"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84"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5D434-7E79-4FF7-B462-A20EED1A2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86"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87"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BA8E54-CD0D-4E9E-B481-B55F832AF8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89"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0"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1"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2"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371385-5E01-47B6-BBF8-6444706B98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94"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5"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6"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7"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8"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9"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138040-1ACA-411A-91F4-C1F46DDE82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39200A-D91C-478A-A611-2DA158824D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15"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C0BD95-ECA5-4E67-AA5C-947DBED094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17"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33D68A-7761-49BC-B701-EE0BBC959B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19"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20"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E1C8D1-67E0-4082-AF79-3D4EC34CF5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C9A453-A15A-4994-A062-FD6EC42C05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7"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EE288-E023-4626-852A-035F1994E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CBF6CC-2733-4EB2-9A8F-0781E91B53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2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25"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26"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F268BB-3F00-4E43-AA5F-328305A564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28"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2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30"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20C3ED-2DB8-4822-923A-8CC451B3A1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32"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33"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34"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D61F86-7A0A-4CDC-844E-173DCFBD52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36"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37"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83A812-3EA6-4DA1-A402-6478AAE404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39"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0"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1"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2"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6D3831-B4DF-4103-A292-36E240197F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44"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5"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6"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7"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8"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9"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6B82B5-0AC5-4FE5-BAC6-2189A79658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8A0E8A53-28A5-400B-B27B-7EDFECB4CF82}"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67"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D8B7CFEC-ABF1-4792-9E25-9BA91EC67DF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69"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A558832-D3B5-4F06-AA87-EBDF213607C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9"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0"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D12E9-7635-4074-A08A-42AC1A133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71"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72"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A17CC8E-C467-42D6-A627-50F908FF392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B8ABC9FF-2709-4364-8BF5-771BE83F9A0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A0895DD3-9751-49AA-96C4-404543D0E0A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76"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77"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78"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94C6560-D580-46E3-9B5D-9D053E65921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80"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81"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82"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30FC493-1264-4C2C-A940-05941F58C34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8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8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86"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BEA014F-9EF0-44A7-9689-D3701F0A517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88"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89"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7BA1DD8-F098-42DC-95E9-5FBBC80D70F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91"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2"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3"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4"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88EAD634-38DE-4519-9074-BDCAAAF8AE3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96"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7"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8"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9"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00"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01"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500572E3-B77B-4A3C-A105-12FB67CEB47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FB1BF7-B035-42EF-A9E2-0BA8E28683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9E645-7DB6-460D-89D9-C0241AF26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18"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F198D8-F0DE-4753-A37E-989D40B2BC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20"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2E26EA-B1BC-4187-A2E3-51D72B55B6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22"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23"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A96730-3E39-4BD4-AD9F-AB372BFAEA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801528-F890-4005-A486-4D9C65CD92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E4236B-A4D4-414F-AD78-5D0DDAAC48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27"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28"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29"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9265FC-0CCE-40C9-8525-802DFEDC54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31"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32"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33"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5D9C04-F58F-4D74-9A73-EFD58F15F8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35"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36"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37"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A9E20F-BF91-49B6-8C0F-F2319F7720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39"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0"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826705-18C6-4AC4-82E7-8DA13B671F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42"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3"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4"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5"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17818A-D31B-4C5B-84E0-24A5E25025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DC4B9-4047-4955-96D6-F8855209B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47"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8"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9"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50"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51"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52"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2559B7-E679-4DE0-90AC-544DBE8CC2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31B47D-1496-43D6-A71F-A4B062444D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70"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A87B4C-5F88-4EBC-B524-D3A075E78F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72"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3B04D9-7D3E-46CF-BD71-5BA1618141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74"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75"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53C602-68B2-4071-9B9E-02F9B3E200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78F214-F1F2-4DDA-AFC7-02A31D546D5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BB0849-53D7-42F3-8C52-2B2379D964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79"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0"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1"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EFBAE9-64C7-4674-939A-1551D72F63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83"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4"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5"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9363F9-F9ED-47CA-9020-3B6E1996AB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87"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8"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9"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3DC9C1-71F8-43E7-BC35-3E25ACC576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5"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6"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7394B-11CC-437C-B7E8-9EA268A1B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91"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92"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74FCBE-E9F0-4602-BF98-B59EA8D59A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9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9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96"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97"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A32D4C-6CE6-429C-9E7A-EAD2CA51D0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99"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0"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1"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2"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3"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4"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258DA4-CC3B-4661-90C0-E561B9F1CF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8F428D8-8545-454A-B0CA-4A23566C2F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20"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5A4FD6-E58F-4DDF-A7D9-441BD6097D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22"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1322CC-176A-44B3-B934-A9EE4FA6EA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24"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25"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409DB6-ACEC-49CB-A242-7961724263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C042D6-1501-4050-8F13-7405DBFAF0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2513CD-506E-4560-A344-E4C12BE674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29"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0"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1"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F678C8-2EBE-4CC9-8AF3-48AD3C7458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8"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4673E-C788-4AAC-9AAA-C48071E5E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33"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4"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5"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D8EE4A-8B9B-4DAE-809F-21E81AA6D2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37"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8"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9"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1F9536-0861-414A-A9E2-5617AB0CF7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41"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42"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F31DCC-04D6-416C-9FE3-5051082869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4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4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46"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47"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98A25A-2CAC-4577-969C-4D9BF887C17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49"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50"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51"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52"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53"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54"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24707D-AE34-4C18-930B-4C8BD67941A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8226EC-95C8-4A7C-83B0-FF4BCBA7EF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67"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8884FD-013B-428C-8FBB-E41AA21C30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69"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14B2D5-7853-4FB9-8D31-C8D59631B6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71"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72"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B42D667-EA00-4290-B017-68E348456C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70F1D5-A301-4BF3-80E7-CB601C9B21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2"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4"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ADD21-E7E6-458D-ABE2-57585BAA9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9DFCDE-B1D5-439E-9FE1-E41FE0A4CF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76"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77"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78"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AB2D3F-8A53-41F6-9DA9-7A4783A9DB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80"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81"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82"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EE058B-EFD5-4F32-A5EA-3C87032B19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8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8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86"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484435-6687-4841-BD47-6F4A7FD80D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88"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89"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709E9F-6921-4EA8-912E-50A5C1FB4A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91"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2"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3"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4"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350A16-F4D2-46AF-947B-1E212912CB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96"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7"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8"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9"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00"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01"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C05A96E-D56C-4D5B-8BAC-74AA0574A82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980116EB-D204-49EE-A16A-B9E661D19A45}"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19"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DC51DAE-DED8-4816-9F30-7E8B10E3990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21"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C5ECCDF-CF9D-4A56-B5A0-4E91DA1FBEB3}"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Rectangle 15"/>
          <p:cNvSpPr/>
          <p:nvPr/>
        </p:nvSpPr>
        <p:spPr>
          <a:xfrm>
            <a:off x="0" y="0"/>
            <a:ext cx="32918400" cy="445932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Rectangle 17"/>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Rectangle 18"/>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Rectangle 8"/>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1"/>
          <p:cNvSpPr>
            <a:spLocks noGrp="1"/>
          </p:cNvSpPr>
          <p:nvPr>
            <p:ph type="dt" idx="1"/>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6" name="PlaceHolder 2"/>
          <p:cNvSpPr>
            <a:spLocks noGrp="1"/>
          </p:cNvSpPr>
          <p:nvPr>
            <p:ph type="ftr" idx="2"/>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Rectangle 7"/>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 name="Straight Connector 9"/>
          <p:cNvSpPr/>
          <p:nvPr/>
        </p:nvSpPr>
        <p:spPr>
          <a:xfrm>
            <a:off x="549360" y="4086360"/>
            <a:ext cx="31799160" cy="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9" name="Oval 11"/>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Oval 14"/>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 name="PlaceHolder 3"/>
          <p:cNvSpPr>
            <a:spLocks noGrp="1"/>
          </p:cNvSpPr>
          <p:nvPr>
            <p:ph type="sldNum" idx="3"/>
          </p:nvPr>
        </p:nvSpPr>
        <p:spPr>
          <a:xfrm>
            <a:off x="15636960" y="3328920"/>
            <a:ext cx="164448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57691-EA55-4093-9B92-C8AF60884490}"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
        <p:nvSpPr>
          <p:cNvPr id="12" name="PlaceHolder 4"/>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13" name="PlaceHolder 5"/>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549360" y="1706400"/>
            <a:ext cx="31799160" cy="0"/>
          </a:xfrm>
          <a:prstGeom prst="line">
            <a:avLst/>
          </a:prstGeom>
          <a:ln w="1152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455" name="Rectangle 20"/>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Rectangle 23"/>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Rectangle 24"/>
          <p:cNvSpPr/>
          <p:nvPr/>
        </p:nvSpPr>
        <p:spPr>
          <a:xfrm>
            <a:off x="0" y="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Rectangle 25"/>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Rectangle 20"/>
          <p:cNvSpPr/>
          <p:nvPr/>
        </p:nvSpPr>
        <p:spPr>
          <a:xfrm>
            <a:off x="549360" y="487440"/>
            <a:ext cx="31799160" cy="96516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0" name="Rectangle 21"/>
          <p:cNvSpPr/>
          <p:nvPr/>
        </p:nvSpPr>
        <p:spPr>
          <a:xfrm>
            <a:off x="549360" y="1951200"/>
            <a:ext cx="9874080" cy="18775080"/>
          </a:xfrm>
          <a:prstGeom prst="rect">
            <a:avLst/>
          </a:prstGeom>
          <a:solidFill>
            <a:srgbClr val="d16349"/>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Rectangle 23"/>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Oval 24"/>
          <p:cNvSpPr/>
          <p:nvPr/>
        </p:nvSpPr>
        <p:spPr>
          <a:xfrm>
            <a:off x="4664160" y="7318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3" name="Oval 25"/>
          <p:cNvSpPr/>
          <p:nvPr/>
        </p:nvSpPr>
        <p:spPr>
          <a:xfrm>
            <a:off x="5003640" y="1033560"/>
            <a:ext cx="1514520" cy="134604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ectangle 26"/>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466"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467" name="PlaceHolder 3"/>
          <p:cNvSpPr>
            <a:spLocks noGrp="1"/>
          </p:cNvSpPr>
          <p:nvPr>
            <p:ph type="sldNum" idx="28"/>
          </p:nvPr>
        </p:nvSpPr>
        <p:spPr>
          <a:xfrm>
            <a:off x="4936680" y="999720"/>
            <a:ext cx="1646280" cy="14130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20D54-FFF1-4709-AA12-08D9A1DE9885}"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
        <p:nvSpPr>
          <p:cNvPr id="468" name="PlaceHolder 4"/>
          <p:cNvSpPr>
            <a:spLocks noGrp="1"/>
          </p:cNvSpPr>
          <p:nvPr>
            <p:ph type="dt" idx="29"/>
          </p:nvPr>
        </p:nvSpPr>
        <p:spPr>
          <a:xfrm>
            <a:off x="2083716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469" name="PlaceHolder 5"/>
          <p:cNvSpPr>
            <a:spLocks noGrp="1"/>
          </p:cNvSpPr>
          <p:nvPr>
            <p:ph type="ftr" idx="30"/>
          </p:nvPr>
        </p:nvSpPr>
        <p:spPr>
          <a:xfrm>
            <a:off x="1085400" y="20515320"/>
            <a:ext cx="1290492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ectangle 15"/>
          <p:cNvSpPr/>
          <p:nvPr/>
        </p:nvSpPr>
        <p:spPr>
          <a:xfrm>
            <a:off x="0" y="0"/>
            <a:ext cx="32918400" cy="445932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8" name="Rectangle 17"/>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9" name="Rectangle 18"/>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0" name="Rectangle 8"/>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Rectangle 7"/>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Straight Connector 9"/>
          <p:cNvSpPr/>
          <p:nvPr/>
        </p:nvSpPr>
        <p:spPr>
          <a:xfrm>
            <a:off x="549360" y="4086360"/>
            <a:ext cx="31799160" cy="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513" name="Oval 11"/>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4" name="Oval 14"/>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516"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517" name="PlaceHolder 3"/>
          <p:cNvSpPr>
            <a:spLocks noGrp="1"/>
          </p:cNvSpPr>
          <p:nvPr>
            <p:ph type="dt" idx="31"/>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518" name="PlaceHolder 4"/>
          <p:cNvSpPr>
            <a:spLocks noGrp="1"/>
          </p:cNvSpPr>
          <p:nvPr>
            <p:ph type="ftr" idx="32"/>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5"/>
          <p:cNvSpPr>
            <a:spLocks noGrp="1"/>
          </p:cNvSpPr>
          <p:nvPr>
            <p:ph type="sldNum" idx="33"/>
          </p:nvPr>
        </p:nvSpPr>
        <p:spPr>
          <a:xfrm>
            <a:off x="15636960" y="3328920"/>
            <a:ext cx="164448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69605-ACD6-4111-B985-AF48A7AF598F}"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7" name="Rectangle 20"/>
          <p:cNvSpPr/>
          <p:nvPr/>
        </p:nvSpPr>
        <p:spPr>
          <a:xfrm>
            <a:off x="25238160" y="0"/>
            <a:ext cx="768024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Rectangle 23"/>
          <p:cNvSpPr/>
          <p:nvPr/>
        </p:nvSpPr>
        <p:spPr>
          <a:xfrm>
            <a:off x="0" y="0"/>
            <a:ext cx="32918400" cy="4968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9" name="Rectangle 24"/>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0" name="Rectangle 19"/>
          <p:cNvSpPr/>
          <p:nvPr/>
        </p:nvSpPr>
        <p:spPr>
          <a:xfrm>
            <a:off x="527040" y="2045340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1" name="Rectangle 20"/>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2" name="Straight Connector 21"/>
          <p:cNvSpPr/>
          <p:nvPr/>
        </p:nvSpPr>
        <p:spPr>
          <a:xfrm>
            <a:off x="25720560" y="496800"/>
            <a:ext cx="0" cy="1998504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563" name="Oval 23"/>
          <p:cNvSpPr/>
          <p:nvPr/>
        </p:nvSpPr>
        <p:spPr>
          <a:xfrm>
            <a:off x="24623640" y="9363240"/>
            <a:ext cx="2193840" cy="194940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4" name="Oval 24"/>
          <p:cNvSpPr/>
          <p:nvPr/>
        </p:nvSpPr>
        <p:spPr>
          <a:xfrm>
            <a:off x="24963480" y="9664560"/>
            <a:ext cx="1514520" cy="13464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566"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567" name="PlaceHolder 3"/>
          <p:cNvSpPr>
            <a:spLocks noGrp="1"/>
          </p:cNvSpPr>
          <p:nvPr>
            <p:ph type="sldNum" idx="34"/>
          </p:nvPr>
        </p:nvSpPr>
        <p:spPr>
          <a:xfrm>
            <a:off x="24896520" y="9631440"/>
            <a:ext cx="1646280" cy="141264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3BB8F-D982-4E2F-B701-224CCB48F827}"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
        <p:nvSpPr>
          <p:cNvPr id="568" name="PlaceHolder 4"/>
          <p:cNvSpPr>
            <a:spLocks noGrp="1"/>
          </p:cNvSpPr>
          <p:nvPr>
            <p:ph type="dt" idx="35"/>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569" name="PlaceHolder 5"/>
          <p:cNvSpPr>
            <a:spLocks noGrp="1"/>
          </p:cNvSpPr>
          <p:nvPr>
            <p:ph type="ftr" idx="36"/>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Rectangle 20"/>
          <p:cNvSpPr/>
          <p:nvPr/>
        </p:nvSpPr>
        <p:spPr>
          <a:xfrm>
            <a:off x="32369040" y="936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Rectangle 23"/>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24"/>
          <p:cNvSpPr/>
          <p:nvPr/>
        </p:nvSpPr>
        <p:spPr>
          <a:xfrm>
            <a:off x="0" y="0"/>
            <a:ext cx="32918400" cy="804708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Rectangle 19"/>
          <p:cNvSpPr/>
          <p:nvPr/>
        </p:nvSpPr>
        <p:spPr>
          <a:xfrm>
            <a:off x="527040" y="2045340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Straight Connector 20"/>
          <p:cNvSpPr/>
          <p:nvPr/>
        </p:nvSpPr>
        <p:spPr>
          <a:xfrm>
            <a:off x="560520" y="7743960"/>
            <a:ext cx="31797360" cy="0"/>
          </a:xfrm>
          <a:prstGeom prst="line">
            <a:avLst/>
          </a:prstGeom>
          <a:ln w="1152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56" name="Rectangle 21"/>
          <p:cNvSpPr/>
          <p:nvPr/>
        </p:nvSpPr>
        <p:spPr>
          <a:xfrm>
            <a:off x="549360" y="487440"/>
            <a:ext cx="31799160" cy="2095164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Oval 23"/>
          <p:cNvSpPr/>
          <p:nvPr/>
        </p:nvSpPr>
        <p:spPr>
          <a:xfrm>
            <a:off x="15362280" y="6769080"/>
            <a:ext cx="2193840" cy="195120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Oval 24"/>
          <p:cNvSpPr/>
          <p:nvPr/>
        </p:nvSpPr>
        <p:spPr>
          <a:xfrm>
            <a:off x="15702120" y="7070760"/>
            <a:ext cx="1514160" cy="134604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60"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61" name="PlaceHolder 3"/>
          <p:cNvSpPr>
            <a:spLocks noGrp="1"/>
          </p:cNvSpPr>
          <p:nvPr>
            <p:ph type="dt" idx="4"/>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62" name="PlaceHolder 4"/>
          <p:cNvSpPr>
            <a:spLocks noGrp="1"/>
          </p:cNvSpPr>
          <p:nvPr>
            <p:ph type="ftr" idx="5"/>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PlaceHolder 5"/>
          <p:cNvSpPr>
            <a:spLocks noGrp="1"/>
          </p:cNvSpPr>
          <p:nvPr>
            <p:ph type="sldNum" idx="6"/>
          </p:nvPr>
        </p:nvSpPr>
        <p:spPr>
          <a:xfrm>
            <a:off x="15636960" y="7039080"/>
            <a:ext cx="164448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04DDB-8A31-4FD0-995D-990EB97743F5}"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Rectangle 15"/>
          <p:cNvSpPr/>
          <p:nvPr/>
        </p:nvSpPr>
        <p:spPr>
          <a:xfrm>
            <a:off x="0" y="0"/>
            <a:ext cx="32918400" cy="445932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Rectangle 17"/>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Rectangle 18"/>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Rectangle 8"/>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Rectangle 7"/>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Straight Connector 9"/>
          <p:cNvSpPr/>
          <p:nvPr/>
        </p:nvSpPr>
        <p:spPr>
          <a:xfrm>
            <a:off x="549360" y="4086360"/>
            <a:ext cx="31799160" cy="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107" name="Oval 11"/>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Oval 14"/>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110"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111" name="PlaceHolder 3"/>
          <p:cNvSpPr>
            <a:spLocks noGrp="1"/>
          </p:cNvSpPr>
          <p:nvPr>
            <p:ph type="dt" idx="7"/>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112" name="PlaceHolder 4"/>
          <p:cNvSpPr>
            <a:spLocks noGrp="1"/>
          </p:cNvSpPr>
          <p:nvPr>
            <p:ph type="ftr" idx="8"/>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PlaceHolder 5"/>
          <p:cNvSpPr>
            <a:spLocks noGrp="1"/>
          </p:cNvSpPr>
          <p:nvPr>
            <p:ph type="sldNum" idx="9"/>
          </p:nvPr>
        </p:nvSpPr>
        <p:spPr>
          <a:xfrm>
            <a:off x="15702120" y="3284640"/>
            <a:ext cx="1645920" cy="141264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55958-6F61-4100-8BB8-3CC930C984AF}"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Rectangle 20"/>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Rectangle 23"/>
          <p:cNvSpPr/>
          <p:nvPr/>
        </p:nvSpPr>
        <p:spPr>
          <a:xfrm>
            <a:off x="0" y="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Rectangle 24"/>
          <p:cNvSpPr/>
          <p:nvPr/>
        </p:nvSpPr>
        <p:spPr>
          <a:xfrm>
            <a:off x="32369040" y="6048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ectangle 25"/>
          <p:cNvSpPr/>
          <p:nvPr/>
        </p:nvSpPr>
        <p:spPr>
          <a:xfrm>
            <a:off x="549360" y="7315200"/>
            <a:ext cx="31799160" cy="97488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Rectangle 26"/>
          <p:cNvSpPr/>
          <p:nvPr/>
        </p:nvSpPr>
        <p:spPr>
          <a:xfrm>
            <a:off x="560520" y="455760"/>
            <a:ext cx="31797360" cy="6846840"/>
          </a:xfrm>
          <a:prstGeom prst="rect">
            <a:avLst/>
          </a:prstGeom>
          <a:solidFill>
            <a:srgbClr val="d16349"/>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Rectangle 21"/>
          <p:cNvSpPr/>
          <p:nvPr/>
        </p:nvSpPr>
        <p:spPr>
          <a:xfrm>
            <a:off x="527040" y="2045340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Rectangle 23"/>
          <p:cNvSpPr/>
          <p:nvPr/>
        </p:nvSpPr>
        <p:spPr>
          <a:xfrm>
            <a:off x="549360" y="487440"/>
            <a:ext cx="31799160" cy="2095164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Straight Connector 24"/>
          <p:cNvSpPr/>
          <p:nvPr/>
        </p:nvSpPr>
        <p:spPr>
          <a:xfrm>
            <a:off x="549360" y="7802640"/>
            <a:ext cx="31799160" cy="0"/>
          </a:xfrm>
          <a:prstGeom prst="line">
            <a:avLst/>
          </a:prstGeom>
          <a:ln w="1152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159" name="Oval 25"/>
          <p:cNvSpPr/>
          <p:nvPr/>
        </p:nvSpPr>
        <p:spPr>
          <a:xfrm>
            <a:off x="15362280" y="6769080"/>
            <a:ext cx="2193840" cy="195120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Oval 26"/>
          <p:cNvSpPr/>
          <p:nvPr/>
        </p:nvSpPr>
        <p:spPr>
          <a:xfrm>
            <a:off x="15702120" y="7070760"/>
            <a:ext cx="1514160" cy="134604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162"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163" name="PlaceHolder 3"/>
          <p:cNvSpPr>
            <a:spLocks noGrp="1"/>
          </p:cNvSpPr>
          <p:nvPr>
            <p:ph type="ftr" idx="10"/>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PlaceHolder 4"/>
          <p:cNvSpPr>
            <a:spLocks noGrp="1"/>
          </p:cNvSpPr>
          <p:nvPr>
            <p:ph type="dt" idx="11"/>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165" name="PlaceHolder 5"/>
          <p:cNvSpPr>
            <a:spLocks noGrp="1"/>
          </p:cNvSpPr>
          <p:nvPr>
            <p:ph type="sldNum" idx="12"/>
          </p:nvPr>
        </p:nvSpPr>
        <p:spPr>
          <a:xfrm>
            <a:off x="15636960" y="7039080"/>
            <a:ext cx="164448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B5018-21A2-4F3A-AD42-859F68014CC1}"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Rectangle 15"/>
          <p:cNvSpPr/>
          <p:nvPr/>
        </p:nvSpPr>
        <p:spPr>
          <a:xfrm>
            <a:off x="0" y="0"/>
            <a:ext cx="32918400" cy="445932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Rectangle 17"/>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Rectangle 18"/>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ectangle 8"/>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Rectangle 7"/>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Straight Connector 9"/>
          <p:cNvSpPr/>
          <p:nvPr/>
        </p:nvSpPr>
        <p:spPr>
          <a:xfrm>
            <a:off x="549360" y="4086360"/>
            <a:ext cx="31799160" cy="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209" name="Oval 11"/>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Oval 14"/>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Straight Connector 19"/>
          <p:cNvSpPr/>
          <p:nvPr/>
        </p:nvSpPr>
        <p:spPr>
          <a:xfrm flipV="1">
            <a:off x="16427520" y="5041440"/>
            <a:ext cx="31680" cy="15422760"/>
          </a:xfrm>
          <a:prstGeom prst="line">
            <a:avLst/>
          </a:prstGeom>
          <a:ln w="9360">
            <a:solidFill>
              <a:srgbClr val="646b86"/>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21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213"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214" name="PlaceHolder 3"/>
          <p:cNvSpPr>
            <a:spLocks noGrp="1"/>
          </p:cNvSpPr>
          <p:nvPr>
            <p:ph type="dt" idx="13"/>
          </p:nvPr>
        </p:nvSpPr>
        <p:spPr>
          <a:xfrm>
            <a:off x="20848320" y="2051208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215" name="PlaceHolder 4"/>
          <p:cNvSpPr>
            <a:spLocks noGrp="1"/>
          </p:cNvSpPr>
          <p:nvPr>
            <p:ph type="ftr" idx="14"/>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PlaceHolder 5"/>
          <p:cNvSpPr>
            <a:spLocks noGrp="1"/>
          </p:cNvSpPr>
          <p:nvPr>
            <p:ph type="sldNum" idx="15"/>
          </p:nvPr>
        </p:nvSpPr>
        <p:spPr>
          <a:xfrm>
            <a:off x="15636960" y="3328920"/>
            <a:ext cx="164448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B7B48-C1E6-4F7C-A122-033482DE1444}"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16459200" y="7040160"/>
            <a:ext cx="0" cy="13401720"/>
          </a:xfrm>
          <a:prstGeom prst="line">
            <a:avLst/>
          </a:prstGeom>
          <a:ln w="9360">
            <a:solidFill>
              <a:srgbClr val="646b86"/>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254" name="Rectangle 20"/>
          <p:cNvSpPr/>
          <p:nvPr/>
        </p:nvSpPr>
        <p:spPr>
          <a:xfrm>
            <a:off x="0" y="0"/>
            <a:ext cx="32918400" cy="463248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Rectangle 23"/>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Rectangle 24"/>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Rectangle 25"/>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Rectangle 20"/>
          <p:cNvSpPr/>
          <p:nvPr/>
        </p:nvSpPr>
        <p:spPr>
          <a:xfrm>
            <a:off x="549360" y="4389480"/>
            <a:ext cx="31799160" cy="2925720"/>
          </a:xfrm>
          <a:prstGeom prst="rect">
            <a:avLst/>
          </a:prstGeom>
          <a:solidFill>
            <a:srgbClr val="d16349"/>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Rectangle 21"/>
          <p:cNvSpPr/>
          <p:nvPr/>
        </p:nvSpPr>
        <p:spPr>
          <a:xfrm>
            <a:off x="525600" y="20453400"/>
            <a:ext cx="31799160" cy="99540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Straight Connector 23"/>
          <p:cNvSpPr/>
          <p:nvPr/>
        </p:nvSpPr>
        <p:spPr>
          <a:xfrm>
            <a:off x="549360" y="4095720"/>
            <a:ext cx="31799160" cy="0"/>
          </a:xfrm>
          <a:prstGeom prst="line">
            <a:avLst/>
          </a:prstGeom>
          <a:ln w="1152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261" name="Rectangle 24"/>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Oval 25"/>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Oval 26"/>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265"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266" name="PlaceHolder 3"/>
          <p:cNvSpPr>
            <a:spLocks noGrp="1"/>
          </p:cNvSpPr>
          <p:nvPr>
            <p:ph type="dt" idx="16"/>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267" name="PlaceHolder 4"/>
          <p:cNvSpPr>
            <a:spLocks noGrp="1"/>
          </p:cNvSpPr>
          <p:nvPr>
            <p:ph type="ftr" idx="17"/>
          </p:nvPr>
        </p:nvSpPr>
        <p:spPr>
          <a:xfrm>
            <a:off x="1096920" y="2051208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PlaceHolder 5"/>
          <p:cNvSpPr>
            <a:spLocks noGrp="1"/>
          </p:cNvSpPr>
          <p:nvPr>
            <p:ph type="sldNum" idx="18"/>
          </p:nvPr>
        </p:nvSpPr>
        <p:spPr>
          <a:xfrm>
            <a:off x="15636960" y="3335400"/>
            <a:ext cx="1644480" cy="141264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3E1B3-073B-4181-B398-5F51C72068BE}"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Rectangle 15"/>
          <p:cNvSpPr/>
          <p:nvPr/>
        </p:nvSpPr>
        <p:spPr>
          <a:xfrm>
            <a:off x="0" y="0"/>
            <a:ext cx="32918400" cy="445932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7" name="Rectangle 17"/>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Rectangle 18"/>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9" name="Rectangle 8"/>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0" name="Rectangle 7"/>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1" name="Straight Connector 9"/>
          <p:cNvSpPr/>
          <p:nvPr/>
        </p:nvSpPr>
        <p:spPr>
          <a:xfrm>
            <a:off x="549360" y="4086360"/>
            <a:ext cx="31799160" cy="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312" name="Oval 11"/>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Oval 14"/>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315"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316" name="PlaceHolder 3"/>
          <p:cNvSpPr>
            <a:spLocks noGrp="1"/>
          </p:cNvSpPr>
          <p:nvPr>
            <p:ph type="dt" idx="19"/>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317" name="PlaceHolder 4"/>
          <p:cNvSpPr>
            <a:spLocks noGrp="1"/>
          </p:cNvSpPr>
          <p:nvPr>
            <p:ph type="ftr" idx="20"/>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PlaceHolder 5"/>
          <p:cNvSpPr>
            <a:spLocks noGrp="1"/>
          </p:cNvSpPr>
          <p:nvPr>
            <p:ph type="sldNum" idx="21"/>
          </p:nvPr>
        </p:nvSpPr>
        <p:spPr>
          <a:xfrm>
            <a:off x="15636960" y="3314880"/>
            <a:ext cx="1644480" cy="141264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BEADA-D11E-43C2-8B8C-6E6ED3179A51}"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Rectangle 20"/>
          <p:cNvSpPr/>
          <p:nvPr/>
        </p:nvSpPr>
        <p:spPr>
          <a:xfrm>
            <a:off x="0" y="0"/>
            <a:ext cx="32918400" cy="4968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7" name="Rectangle 23"/>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Rectangle 24"/>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9" name="Rectangle 19"/>
          <p:cNvSpPr/>
          <p:nvPr/>
        </p:nvSpPr>
        <p:spPr>
          <a:xfrm>
            <a:off x="527040" y="2045340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Rectangle 20"/>
          <p:cNvSpPr/>
          <p:nvPr/>
        </p:nvSpPr>
        <p:spPr>
          <a:xfrm>
            <a:off x="549360" y="506520"/>
            <a:ext cx="31799160" cy="2095164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362"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363" name="PlaceHolder 3"/>
          <p:cNvSpPr>
            <a:spLocks noGrp="1"/>
          </p:cNvSpPr>
          <p:nvPr>
            <p:ph type="dt" idx="22"/>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364" name="PlaceHolder 4"/>
          <p:cNvSpPr>
            <a:spLocks noGrp="1"/>
          </p:cNvSpPr>
          <p:nvPr>
            <p:ph type="ftr" idx="23"/>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PlaceHolder 5"/>
          <p:cNvSpPr>
            <a:spLocks noGrp="1"/>
          </p:cNvSpPr>
          <p:nvPr>
            <p:ph type="sldNum" idx="24"/>
          </p:nvPr>
        </p:nvSpPr>
        <p:spPr>
          <a:xfrm>
            <a:off x="15362280" y="20239200"/>
            <a:ext cx="219384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7687C-605A-449B-8288-3C735FD0A47C}" type="slidenum">
              <a:rPr b="0" lang="en-US" sz="5500" spc="-1" strike="noStrike">
                <a:solidFill>
                  <a:srgbClr val="ffffff"/>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549360" y="487440"/>
            <a:ext cx="31799160" cy="9763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3" name="Rectangle 20"/>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4" name="Rectangle 23"/>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5" name="Rectangle 24"/>
          <p:cNvSpPr/>
          <p:nvPr/>
        </p:nvSpPr>
        <p:spPr>
          <a:xfrm>
            <a:off x="0" y="0"/>
            <a:ext cx="32918400" cy="38088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Rectangle 25"/>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7" name="Rectangle 20"/>
          <p:cNvSpPr/>
          <p:nvPr/>
        </p:nvSpPr>
        <p:spPr>
          <a:xfrm>
            <a:off x="549360" y="1951200"/>
            <a:ext cx="9874080" cy="18775080"/>
          </a:xfrm>
          <a:prstGeom prst="rect">
            <a:avLst/>
          </a:prstGeom>
          <a:solidFill>
            <a:srgbClr val="d16349"/>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8" name="Rectangle 21"/>
          <p:cNvSpPr/>
          <p:nvPr/>
        </p:nvSpPr>
        <p:spPr>
          <a:xfrm>
            <a:off x="549360" y="487440"/>
            <a:ext cx="31799160" cy="2095164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9" name="Straight Connector 23"/>
          <p:cNvSpPr/>
          <p:nvPr/>
        </p:nvSpPr>
        <p:spPr>
          <a:xfrm>
            <a:off x="549360" y="1706400"/>
            <a:ext cx="31799160" cy="0"/>
          </a:xfrm>
          <a:prstGeom prst="line">
            <a:avLst/>
          </a:prstGeom>
          <a:ln w="1152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410" name="Oval 24"/>
          <p:cNvSpPr/>
          <p:nvPr/>
        </p:nvSpPr>
        <p:spPr>
          <a:xfrm>
            <a:off x="4664160" y="7318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Oval 25"/>
          <p:cNvSpPr/>
          <p:nvPr/>
        </p:nvSpPr>
        <p:spPr>
          <a:xfrm>
            <a:off x="5003640" y="1033560"/>
            <a:ext cx="1514520" cy="134604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2" name="Rectangle 26"/>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414"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415" name="PlaceHolder 3"/>
          <p:cNvSpPr>
            <a:spLocks noGrp="1"/>
          </p:cNvSpPr>
          <p:nvPr>
            <p:ph type="sldNum" idx="25"/>
          </p:nvPr>
        </p:nvSpPr>
        <p:spPr>
          <a:xfrm>
            <a:off x="4936680" y="999720"/>
            <a:ext cx="1646280" cy="14130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7D3D3-ADD5-44F4-A628-58D7F3D1487D}"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
        <p:nvSpPr>
          <p:cNvPr id="416" name="PlaceHolder 4"/>
          <p:cNvSpPr>
            <a:spLocks noGrp="1"/>
          </p:cNvSpPr>
          <p:nvPr>
            <p:ph type="dt" idx="26"/>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417" name="PlaceHolder 5"/>
          <p:cNvSpPr>
            <a:spLocks noGrp="1"/>
          </p:cNvSpPr>
          <p:nvPr>
            <p:ph type="ftr" idx="27"/>
          </p:nvPr>
        </p:nvSpPr>
        <p:spPr>
          <a:xfrm>
            <a:off x="1085760" y="20515320"/>
            <a:ext cx="121809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9720" y="-457200"/>
            <a:ext cx="32365800" cy="3657600"/>
          </a:xfrm>
          <a:prstGeom prst="rect">
            <a:avLst/>
          </a:prstGeom>
          <a:noFill/>
          <a:ln w="0">
            <a:noFill/>
          </a:ln>
        </p:spPr>
        <p:txBody>
          <a:bodyPr lIns="313560" rIns="313560" tIns="156600" bIns="1566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9899"/>
                </a:solidFill>
                <a:latin typeface="Calibri"/>
                <a:ea typeface="Arial"/>
              </a:rPr>
              <a:t>The Impact of Youth Ministry</a:t>
            </a:r>
            <a:br>
              <a:rPr sz="2800"/>
            </a:br>
            <a:r>
              <a:rPr b="0" lang="en-US" sz="2800" spc="-1" strike="noStrike">
                <a:solidFill>
                  <a:srgbClr val="7b9899"/>
                </a:solidFill>
                <a:latin typeface="Calibri"/>
                <a:ea typeface="Arial"/>
              </a:rPr>
              <a:t>Rachel S. Carson</a:t>
            </a:r>
            <a:br>
              <a:rPr sz="2800"/>
            </a:br>
            <a:r>
              <a:rPr b="0" lang="en-US" sz="2800" spc="-1" strike="noStrike">
                <a:solidFill>
                  <a:srgbClr val="7b9899"/>
                </a:solidFill>
                <a:latin typeface="Calibri"/>
                <a:ea typeface="Arial"/>
              </a:rPr>
              <a:t> University of Cincinnati, CECH Middle Childhood Education</a:t>
            </a:r>
            <a:br>
              <a:rPr sz="2800"/>
            </a:br>
            <a:r>
              <a:rPr b="0" lang="en-US" sz="2800" spc="-1" strike="noStrike">
                <a:solidFill>
                  <a:srgbClr val="7b9899"/>
                </a:solidFill>
                <a:latin typeface="Calibri"/>
                <a:ea typeface="Arial"/>
              </a:rPr>
              <a:t>carsonrs@mail.uc.edu</a:t>
            </a:r>
            <a:endParaRPr b="0" lang="en-US" sz="2800" spc="-1" strike="noStrike">
              <a:solidFill>
                <a:srgbClr val="7b9899"/>
              </a:solidFill>
              <a:latin typeface="Georgia"/>
            </a:endParaRPr>
          </a:p>
        </p:txBody>
      </p:sp>
      <p:pic>
        <p:nvPicPr>
          <p:cNvPr id="607" name="Picture 2" descr=""/>
          <p:cNvPicPr/>
          <p:nvPr/>
        </p:nvPicPr>
        <p:blipFill>
          <a:blip r:embed="rId1"/>
          <a:stretch/>
        </p:blipFill>
        <p:spPr>
          <a:xfrm>
            <a:off x="638280" y="1163520"/>
            <a:ext cx="4309920" cy="1524240"/>
          </a:xfrm>
          <a:prstGeom prst="rect">
            <a:avLst/>
          </a:prstGeom>
          <a:ln w="0">
            <a:noFill/>
          </a:ln>
        </p:spPr>
      </p:pic>
      <p:sp>
        <p:nvSpPr>
          <p:cNvPr id="608" name="TextBox 5"/>
          <p:cNvSpPr/>
          <p:nvPr/>
        </p:nvSpPr>
        <p:spPr>
          <a:xfrm>
            <a:off x="531720" y="15673320"/>
            <a:ext cx="10744200" cy="5006160"/>
          </a:xfrm>
          <a:prstGeom prst="rect">
            <a:avLst/>
          </a:prstGeom>
          <a:solidFill>
            <a:srgbClr val="c5d1d7"/>
          </a:solidFill>
          <a:ln w="11520">
            <a:solidFill>
              <a:srgbClr val="8cadae"/>
            </a:solidFill>
            <a:prstDash val="sysDash"/>
            <a:miter/>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Background Literature</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evious research states…</a:t>
            </a: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t>
            </a:r>
            <a:r>
              <a:rPr b="0" lang="en-US" sz="2800" spc="-1" strike="noStrike">
                <a:solidFill>
                  <a:srgbClr val="000000"/>
                </a:solidFill>
                <a:latin typeface="Calibri"/>
                <a:ea typeface="Times New Roman"/>
              </a:rPr>
              <a:t>School age children’s desire for group membership can also be satisfied through formal group ties such as scouting, 4-H, and religious youth groups” (265)</a:t>
            </a: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rotection against maladjustment can arise from, child’s personal characteristics, a warm parental relationship, an adult outside of the immediate family who offers a support system,  and community resource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TextBox 1"/>
          <p:cNvSpPr/>
          <p:nvPr/>
        </p:nvSpPr>
        <p:spPr>
          <a:xfrm>
            <a:off x="11638080" y="10260000"/>
            <a:ext cx="10345680" cy="1798200"/>
          </a:xfrm>
          <a:prstGeom prst="rect">
            <a:avLst/>
          </a:prstGeom>
          <a:solidFill>
            <a:srgbClr val="d5dfdf"/>
          </a:solidFill>
          <a:ln w="9360">
            <a:solidFill>
              <a:srgbClr val="8cadae"/>
            </a:solidFill>
            <a:miter/>
          </a:ln>
          <a:effectLst>
            <a:outerShdw dist="12600" dir="5400000" blurRad="0" rotWithShape="0">
              <a:srgbClr val="000000">
                <a:alpha val="35000"/>
              </a:srgbClr>
            </a:outerShdw>
          </a:effectLst>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Inquiry Question:</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Times New Roman"/>
              </a:rPr>
              <a:t>How do formal peer groups through involvement in extracurricular activities, such as a youth ministry group, affect social and moral development during pre –middle adolescence?</a:t>
            </a:r>
            <a:endParaRPr b="0" lang="en-US" sz="2800" spc="-1" strike="noStrike">
              <a:solidFill>
                <a:srgbClr val="000000"/>
              </a:solidFill>
              <a:latin typeface="Calibri"/>
            </a:endParaRPr>
          </a:p>
        </p:txBody>
      </p:sp>
      <p:sp>
        <p:nvSpPr>
          <p:cNvPr id="610" name="TextBox 10"/>
          <p:cNvSpPr/>
          <p:nvPr/>
        </p:nvSpPr>
        <p:spPr>
          <a:xfrm>
            <a:off x="22678920" y="19104120"/>
            <a:ext cx="9325080" cy="1776600"/>
          </a:xfrm>
          <a:prstGeom prst="rect">
            <a:avLst/>
          </a:prstGeom>
          <a:solidFill>
            <a:srgbClr val="c5d1d7"/>
          </a:solidFill>
          <a:ln w="11520">
            <a:solidFill>
              <a:srgbClr val="8cadae"/>
            </a:solidFill>
            <a:prstDash val="sysDash"/>
            <a:miter/>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Referenc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ubin, Bukowski, &amp; Parker, 2006</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erk, 2010</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1" name="TextBox 10"/>
          <p:cNvSpPr/>
          <p:nvPr/>
        </p:nvSpPr>
        <p:spPr>
          <a:xfrm>
            <a:off x="22555080" y="9505800"/>
            <a:ext cx="9840960" cy="8845560"/>
          </a:xfrm>
          <a:prstGeom prst="rect">
            <a:avLst/>
          </a:prstGeom>
          <a:solidFill>
            <a:srgbClr val="c5d1d7"/>
          </a:solidFill>
          <a:ln w="11520">
            <a:solidFill>
              <a:srgbClr val="8cadae"/>
            </a:solidFill>
            <a:prstDash val="sysDash"/>
            <a:miter/>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Result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The youth ministry group is very diverse ethnically, and socially.  Most of these students partake in other extracurricular activities on top of being a part of their youth group.  I interviewed a young woman who leads a youth ministry group in an urban school district; she said that most of her students were in the group for the social aspects more than the religious.   Though they all came from troubled homes, and some did not have much support from family, they did, however, stay out of a great deal of trouble in comparison to other students.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They same is true in the youth ministry I observed.  These students came from very diverse backgrounds , some from the suburbs and some from broken families.  Regardless of all of those details, these student all strive to be academically successful, to build strong values.   These morals and values are  demonstrated to these kids by the mentorship of the youth ministry leaders, the sense of community in the church to which they belong, and other potential factors.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612" name="TextBox 10"/>
          <p:cNvGrpSpPr/>
          <p:nvPr/>
        </p:nvGrpSpPr>
        <p:grpSpPr>
          <a:xfrm>
            <a:off x="11509200" y="5589720"/>
            <a:ext cx="10491840" cy="3504960"/>
            <a:chOff x="11509200" y="5589720"/>
            <a:chExt cx="10491840" cy="3504960"/>
          </a:xfrm>
        </p:grpSpPr>
        <p:pic>
          <p:nvPicPr>
            <p:cNvPr id="613" name="TextBox 10" descr=""/>
            <p:cNvPicPr/>
            <p:nvPr/>
          </p:nvPicPr>
          <p:blipFill>
            <a:blip r:embed="rId2"/>
            <a:stretch/>
          </p:blipFill>
          <p:spPr>
            <a:xfrm>
              <a:off x="11509200" y="5589720"/>
              <a:ext cx="10491840" cy="3504960"/>
            </a:xfrm>
            <a:prstGeom prst="rect">
              <a:avLst/>
            </a:prstGeom>
            <a:ln w="0">
              <a:noFill/>
            </a:ln>
          </p:spPr>
        </p:pic>
        <p:sp>
          <p:nvSpPr>
            <p:cNvPr id="614" name=""/>
            <p:cNvSpPr/>
            <p:nvPr/>
          </p:nvSpPr>
          <p:spPr>
            <a:xfrm>
              <a:off x="11580840" y="5637240"/>
              <a:ext cx="10345680" cy="3299760"/>
            </a:xfrm>
            <a:prstGeom prst="rect">
              <a:avLst/>
            </a:prstGeom>
            <a:noFill/>
            <a:ln w="0">
              <a:noFill/>
            </a:ln>
          </p:spPr>
          <p:style>
            <a:lnRef idx="0"/>
            <a:fillRef idx="0"/>
            <a:effectRef idx="0"/>
            <a:fontRef idx="minor"/>
          </p:style>
          <p:txBody>
            <a:bodyPr lIns="313560" rIns="313560" tIns="156600" bIns="15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y I Chose This Topic</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I personally have experience participating in a youth ministry.  This involvement has shaped my perspective of the world, and has influenced my self-esteem and relationships with my parents and friends.  Through this involvement I was provided with mentorship and guidance needed to feel confident in the identity I was developing.</a:t>
              </a:r>
              <a:endParaRPr b="0" lang="en-US" sz="2800" spc="-1" strike="noStrike">
                <a:solidFill>
                  <a:srgbClr val="000000"/>
                </a:solidFill>
                <a:latin typeface="Calibri"/>
              </a:endParaRPr>
            </a:p>
          </p:txBody>
        </p:sp>
      </p:grpSp>
      <p:sp>
        <p:nvSpPr>
          <p:cNvPr id="615" name="TextBox 2"/>
          <p:cNvSpPr/>
          <p:nvPr/>
        </p:nvSpPr>
        <p:spPr>
          <a:xfrm>
            <a:off x="689040" y="5181480"/>
            <a:ext cx="9978840" cy="2226960"/>
          </a:xfrm>
          <a:prstGeom prst="rect">
            <a:avLst/>
          </a:prstGeom>
          <a:solidFill>
            <a:srgbClr val="c5d1d7"/>
          </a:solidFill>
          <a:ln w="11520">
            <a:solidFill>
              <a:srgbClr val="8cadae"/>
            </a:solidFill>
            <a:prstDash val="sys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roductio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th a growing number of students dropping out of schools, and risky behavior becoming more socially acceptable, I sought to understand how as a teacher I could guide my students in a more positive direction.  </a:t>
            </a:r>
            <a:endParaRPr b="0" lang="en-US" sz="2800" spc="-1" strike="noStrike">
              <a:solidFill>
                <a:srgbClr val="000000"/>
              </a:solidFill>
              <a:latin typeface="Calibri"/>
            </a:endParaRPr>
          </a:p>
        </p:txBody>
      </p:sp>
      <p:cxnSp>
        <p:nvCxnSpPr>
          <p:cNvPr id="616" name="Elbow Connector 7"/>
          <p:cNvCxnSpPr/>
          <p:nvPr/>
        </p:nvCxnSpPr>
        <p:spPr>
          <a:xfrm flipH="1" flipV="1" rot="5400000">
            <a:off x="21409560" y="7734600"/>
            <a:ext cx="2824920" cy="2210400"/>
          </a:xfrm>
          <a:prstGeom prst="bentConnector3">
            <a:avLst>
              <a:gd name="adj1" fmla="val 35827"/>
            </a:avLst>
          </a:prstGeom>
          <a:ln w="9360">
            <a:solidFill>
              <a:srgbClr val="2a373d"/>
            </a:solidFill>
            <a:miter/>
            <a:tailEnd len="med" type="arrow" w="med"/>
          </a:ln>
        </p:spPr>
      </p:cxnSp>
      <p:sp>
        <p:nvSpPr>
          <p:cNvPr id="617" name="TextBox 6"/>
          <p:cNvSpPr/>
          <p:nvPr/>
        </p:nvSpPr>
        <p:spPr>
          <a:xfrm>
            <a:off x="22678920" y="5961240"/>
            <a:ext cx="9677520" cy="2019960"/>
          </a:xfrm>
          <a:prstGeom prst="rect">
            <a:avLst/>
          </a:prstGeom>
          <a:solidFill>
            <a:srgbClr val="c5d1d7"/>
          </a:solidFill>
          <a:ln w="11520">
            <a:solidFill>
              <a:srgbClr val="8cadae"/>
            </a:solidFill>
            <a:prstDash val="sysDash"/>
            <a:miter/>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Method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In order to study this topic I interviewed several youth ministry leaders, and people you have previous been a part of youth ministry. I also observed the students in this group.  </a:t>
            </a:r>
            <a:endParaRPr b="0" lang="en-US" sz="2800" spc="-1" strike="noStrike">
              <a:solidFill>
                <a:srgbClr val="000000"/>
              </a:solidFill>
              <a:latin typeface="Calibri"/>
            </a:endParaRPr>
          </a:p>
        </p:txBody>
      </p:sp>
      <p:sp>
        <p:nvSpPr>
          <p:cNvPr id="618" name="Straight Connector 15"/>
          <p:cNvSpPr/>
          <p:nvPr/>
        </p:nvSpPr>
        <p:spPr>
          <a:xfrm flipH="1">
            <a:off x="27475920" y="8001000"/>
            <a:ext cx="41400" cy="150480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9" name="Straight Connector 17"/>
          <p:cNvSpPr/>
          <p:nvPr/>
        </p:nvSpPr>
        <p:spPr>
          <a:xfrm flipH="1">
            <a:off x="21994920" y="13973040"/>
            <a:ext cx="560160" cy="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0" name="Straight Connector 19"/>
          <p:cNvSpPr/>
          <p:nvPr/>
        </p:nvSpPr>
        <p:spPr>
          <a:xfrm>
            <a:off x="21926520" y="19507320"/>
            <a:ext cx="752400" cy="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1" name="Straight Connector 21"/>
          <p:cNvSpPr/>
          <p:nvPr/>
        </p:nvSpPr>
        <p:spPr>
          <a:xfrm>
            <a:off x="16752960" y="9064800"/>
            <a:ext cx="0" cy="119520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2" name="Straight Connector 28"/>
          <p:cNvSpPr/>
          <p:nvPr/>
        </p:nvSpPr>
        <p:spPr>
          <a:xfrm>
            <a:off x="5678640" y="7427880"/>
            <a:ext cx="0" cy="116208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3" name="Straight Connector 30"/>
          <p:cNvSpPr/>
          <p:nvPr/>
        </p:nvSpPr>
        <p:spPr>
          <a:xfrm>
            <a:off x="5757840" y="14860440"/>
            <a:ext cx="0" cy="81288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624" name="Elbow Connector 13312"/>
          <p:cNvCxnSpPr/>
          <p:nvPr/>
        </p:nvCxnSpPr>
        <p:spPr>
          <a:xfrm flipH="1" flipV="1" rot="5400000">
            <a:off x="7279200" y="11676960"/>
            <a:ext cx="6012360" cy="1980360"/>
          </a:xfrm>
          <a:prstGeom prst="bentConnector3">
            <a:avLst>
              <a:gd name="adj1" fmla="val 7688"/>
            </a:avLst>
          </a:prstGeom>
          <a:ln w="9360">
            <a:solidFill>
              <a:srgbClr val="2a373d"/>
            </a:solidFill>
            <a:miter/>
          </a:ln>
        </p:spPr>
      </p:cxnSp>
      <p:cxnSp>
        <p:nvCxnSpPr>
          <p:cNvPr id="625" name="Elbow Connector 13332"/>
          <p:cNvCxnSpPr/>
          <p:nvPr/>
        </p:nvCxnSpPr>
        <p:spPr>
          <a:xfrm flipH="1" flipV="1" rot="5400000">
            <a:off x="10248480" y="8329680"/>
            <a:ext cx="2358360" cy="305640"/>
          </a:xfrm>
          <a:prstGeom prst="bentConnector2">
            <a:avLst/>
          </a:prstGeom>
          <a:ln w="9360">
            <a:solidFill>
              <a:srgbClr val="2a373d"/>
            </a:solidFill>
            <a:miter/>
          </a:ln>
        </p:spPr>
      </p:cxnSp>
      <p:sp>
        <p:nvSpPr>
          <p:cNvPr id="626" name="TextBox 1"/>
          <p:cNvSpPr/>
          <p:nvPr/>
        </p:nvSpPr>
        <p:spPr>
          <a:xfrm>
            <a:off x="531720" y="8305920"/>
            <a:ext cx="10450440" cy="6492960"/>
          </a:xfrm>
          <a:prstGeom prst="rect">
            <a:avLst/>
          </a:prstGeom>
          <a:solidFill>
            <a:srgbClr val="c5d1d7"/>
          </a:solidFill>
          <a:ln w="11520">
            <a:solidFill>
              <a:srgbClr val="8cadae"/>
            </a:solidFill>
            <a:prstDash val="sys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erms to Know</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er groups- collectives that celebrate unique values and standards for behavior and a social structure of leaders  and followers.  Peer groups organize on the basis of proximity (being in the same classroom) and similarity in sex, ethnicity, popularity, and aggression  (Rubin, Bukowski, &amp; Parker, 2006).</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egulation-a form of supervision in which parents exercise general oversight while letting children take charge or moment-by-moment decision making</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hs to Identity:</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ty moratorium- exploration without commitment</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ty foreclosure- commitment in the absence of exploratio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ty diffusion- an apathetic state characterized by a lack of both exploration and commitment.</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627" name="TextBox 10"/>
          <p:cNvGrpSpPr/>
          <p:nvPr/>
        </p:nvGrpSpPr>
        <p:grpSpPr>
          <a:xfrm>
            <a:off x="11509200" y="12619080"/>
            <a:ext cx="10491840" cy="7358040"/>
            <a:chOff x="11509200" y="12619080"/>
            <a:chExt cx="10491840" cy="7358040"/>
          </a:xfrm>
        </p:grpSpPr>
        <p:pic>
          <p:nvPicPr>
            <p:cNvPr id="628" name="TextBox 10" descr=""/>
            <p:cNvPicPr/>
            <p:nvPr/>
          </p:nvPicPr>
          <p:blipFill>
            <a:blip r:embed="rId3"/>
            <a:stretch/>
          </p:blipFill>
          <p:spPr>
            <a:xfrm>
              <a:off x="11509200" y="12619080"/>
              <a:ext cx="10491840" cy="7358040"/>
            </a:xfrm>
            <a:prstGeom prst="rect">
              <a:avLst/>
            </a:prstGeom>
            <a:ln w="0">
              <a:noFill/>
            </a:ln>
          </p:spPr>
        </p:pic>
        <p:sp>
          <p:nvSpPr>
            <p:cNvPr id="629" name=""/>
            <p:cNvSpPr/>
            <p:nvPr/>
          </p:nvSpPr>
          <p:spPr>
            <a:xfrm>
              <a:off x="11580840" y="12668400"/>
              <a:ext cx="10345680" cy="7139160"/>
            </a:xfrm>
            <a:prstGeom prst="rect">
              <a:avLst/>
            </a:prstGeom>
            <a:noFill/>
            <a:ln w="0">
              <a:noFill/>
            </a:ln>
          </p:spPr>
          <p:style>
            <a:lnRef idx="0"/>
            <a:fillRef idx="0"/>
            <a:effectRef idx="0"/>
            <a:fontRef idx="minor"/>
          </p:style>
          <p:txBody>
            <a:bodyPr lIns="313560" rIns="313560" tIns="156600" bIns="15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fessional Implicatio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ough I may have some bias because of my background with youth ministry and the impact that it has had on my life, I was able to recognize from my observations that even without religion at the heart of it, involvement in an extracurricular of some form, whether that be a sport’s team, debate team, or drama club will help students to develop good social, emotional, and moral development.  These groups provide  strong coregulation for these students, allowing them to explore who their talents, skills, desires, and dreams without getting involved in risky behavior that would do them harm.  As a teacher I will not be able to  teach lessons straight out of the Bible, but I can still guide my students with good principles and morals in order to help them to build those for themselves.  Extracurricular activities are a great way for students to feel as if they are a part of a community.  These positive influence can help these students to stay on the path to success.</a:t>
              </a:r>
              <a:endParaRPr b="0" lang="en-US" sz="2800" spc="-1" strike="noStrike">
                <a:solidFill>
                  <a:srgbClr val="000000"/>
                </a:solidFill>
                <a:latin typeface="Calibri"/>
              </a:endParaRPr>
            </a:p>
          </p:txBody>
        </p:sp>
      </p:grpSp>
      <p:pic>
        <p:nvPicPr>
          <p:cNvPr id="630" name="Picture 14" descr="C:\Users\Rachel\Pictures\me\WP_20130926_00220130926175350.jpg"/>
          <p:cNvPicPr/>
          <p:nvPr/>
        </p:nvPicPr>
        <p:blipFill>
          <a:blip r:embed="rId4"/>
          <a:stretch/>
        </p:blipFill>
        <p:spPr>
          <a:xfrm>
            <a:off x="29157480" y="-407880"/>
            <a:ext cx="3316320" cy="560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13:22:14Z</dcterms:created>
  <dc:creator>Homefries</dc:creator>
  <dc:description/>
  <dc:language>en-US</dc:language>
  <cp:lastModifiedBy>Rachel</cp:lastModifiedBy>
  <dcterms:modified xsi:type="dcterms:W3CDTF">2013-11-25T16:15:51Z</dcterms:modified>
  <cp:revision>79</cp:revision>
  <dc:subject/>
  <dc:title>PowerPoint Presentation</dc:title>
</cp:coreProperties>
</file>