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E6AF9-8FD7-4769-86D7-A3B1387D0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33444-F134-4450-9655-473A1F19D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4"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1C0011F-55BD-4C36-9907-273438036C1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9DA6360-73CC-42AB-B703-5FB8C06D8DF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55D874E-0440-4C35-AE3D-8CFA8B2A5F6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9"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0"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473303F-3B9E-4DF8-A43E-43EDC77F64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4"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8678B5A-C401-41BB-A0C7-DDEB9AAF71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7"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8"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184855C-7E1E-47C9-97AA-257819930D6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0"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1"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C05AC32-10DE-4F8E-9FF8-CD282C6CFC9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3"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5"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6"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97CDD17-D43F-468B-8110-664AE8C543E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8"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9"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0"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1"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2"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3"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800424C-9220-43BC-8C0B-E4E11A45A8C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4510D60-BA2B-4792-ADED-88C1080B85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95007-10CA-4159-8C9A-4541D4127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D3F77A9-F6E6-4A83-BAB3-320587678B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DA52F17-874A-464C-A8DC-291960B787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B46E521-0A22-41CA-A799-A5F0731DDC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9267FA2-A803-421E-9055-6C39C24082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0340F4B-B35E-4B29-88DF-CD6A4923FE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3616345-9923-4E9B-A822-753C7B2749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02996BC-374C-4D1D-BFC6-FC8011A22A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5CE4197-D69E-4202-BDEF-C4E0549A3A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6623DA9-2672-4F67-8A06-1E03D1CD1E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A9075B1-6044-4C36-A5B7-D43897EE11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3959C-0AB6-4A5A-A2F2-3E092B69E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C510330-D8E0-439C-8B0D-E549E29C58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C98A67-A29E-4A25-9B7D-C90C3FFE9E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6605B6-E94C-43E5-9765-19EE632083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1746ED-E320-4F10-936A-786F9B3860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2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DC87CB-65E2-4C40-878D-DE4B9A55F6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94063D-BD55-42C2-B333-AEF6208F14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5DD9A7-06DD-46C5-9351-A45C0FDF42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22BDC2-5E4A-44E1-A784-56A0F9B7FA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C74F0B-8761-4572-8315-AA5D6133C0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33CCE0-E23B-4F75-8B1D-5367A36F3D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07A3D-AFCA-4E3D-A3C1-B79CC6A03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D7C6DA-AED7-4DF2-8724-8CBA421D5D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0DA785-6169-40D2-B9B9-B208B960E9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5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37D009-7926-47AF-8F57-2B562249E0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204C0CC-9545-48FE-9D2C-CD8C49E3EB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CB3CBB3-793B-4874-9BE6-6CE60E7520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73B7D6A-F8AB-4E8E-AC5C-80DFAE8EC4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252D66F-388D-4D89-A5B7-8C51A1018B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D57B431-E0F4-4AA4-B234-D93E7BC272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988269C-0ED9-4061-87C6-FF4E8ED1D2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50FA5F6-AF83-46E6-9143-AA0A42AC62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E285B-AE10-4B9E-B983-3FFE3C739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BD169AE-9AB4-4FA5-A817-36535C033A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5BB3A87-DB72-45E5-8E2B-A36FF7E74C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1F37BAB-B84F-4CBF-BC56-B050F149E1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F7BD2E7-3D40-4CE8-8C59-968FE9F2C4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070503A-C137-4A14-ADD6-E273680B5F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57463-B37A-4AF4-AB82-B9CFDE0A0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DA67D-4558-4095-AF71-BF0D6697D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9BDEA-F0DD-4B08-BF28-99C59362B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06A9C-E2C6-4A43-B849-DF0590B53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0A1EE-7E12-4D7A-BE92-3AE7E3646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707E4-BC40-49E9-A85D-099A10F9B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884C2-287A-4C4E-96BD-3508000E6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1CD31-1165-434F-A458-FDB42BC21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D8874-C8CC-4919-87C9-097933B26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5C21B-6379-40EE-8395-DCAEBF27D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9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24DFF-6C66-4BCA-94CA-AF90E2CC1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E07D26-6462-4CD6-97ED-ACF5A839B9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BBC54A-3836-4170-8EA9-093DC6604E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409E1-CB3A-4888-95A9-3BD77AEBDD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1385A-35D8-4065-B6B2-837050819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682AA6-F29D-4092-BC05-5504F8CE2E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D4D77-2199-4A18-91F2-B3E994A4B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16FDD5-218C-4188-993D-32B2279C64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07BC2-8A81-4C52-AD0D-7F70C99E0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CF505-0182-4C7E-8E20-1D6EBB9B0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76D060-7501-4487-8DD0-A09475E17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83E0D9-113D-4755-9B43-C40D6FD91E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7BD60F-D271-4E14-B5C3-3064CBA218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AFDD4A-7253-45C2-96ED-7D5564AE52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0B18D05-3F21-4D59-ABB4-956D094CAB9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C7101F2-D600-4BFD-A07B-FEF28AD4C95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C2A1C6C-6660-4FA9-9409-4E67D77C7BA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F2CA4-8B9D-49AB-9D06-E1B63D5B2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875B2F0-6168-45BC-B79A-BDA9AC22B73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1279D7B-ACD7-412C-AFD8-4FDA5740A3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20E600E-034A-412E-A649-21E230C706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3AB28C7-6BF3-4B04-9458-DA0FDD68530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C7A573D-E2B5-46FB-8CC4-48338DD1F48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D45BFF8-B734-41A9-AC04-2367DD1C624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4E5572F-9B04-4D54-BBE8-CFF1D6538B8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140897B-4752-4CE1-B28F-AFF86B86497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6E2858C-40D6-4151-B980-526735262FA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09B28D-536B-4249-9783-4BFC724838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E7A7F-60C5-4C58-B4B8-57A446E97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18"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7EC9ED-33A2-4ADD-8313-B8D382B46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0"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F54468-904C-4889-80F8-95D1FE0C4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3"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DEBF60-69EB-4E1E-B542-D17DAAEF35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F95DE1-AA1A-464E-A874-9C28C50448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29C1D0-EF06-411C-B563-0E9C1160E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8"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9"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0B87F-EAC3-49B5-B080-0EFD3E97F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3"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45972-2FD2-4E1B-96DE-6024AFDC8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7"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C9180-B2D1-433F-9E0E-C4BC4D2B2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9"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0"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EA2AAE-9175-45D6-86A9-A68F2D335E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4"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5"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7A2A1A-3405-4D5C-B193-C99C6D2C91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B4340-8AEA-4596-8883-4E3A2D39E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7"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8"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9"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0"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1"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2"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685C9A-277A-4F22-86A4-2452C7FE78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3B834F-2FC9-424D-A810-0474C515F6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FE4CA6-BB61-406D-BABB-BE315588E7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CBB99A-4533-4575-99DC-06B43A03F2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FCBD63-BFB3-4899-9CA3-BEA4177879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CD104D-2188-4510-A266-EE1528D972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055743-34D6-437A-9954-5543D2318D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E7236-0428-408F-941D-D8151C515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B37363-B412-4B36-B50C-FC592EDC73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E3688-D8DE-42AA-9264-201B57B78A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DD960-DD5C-48A9-B7B7-D575D7EA4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DD4CE5-CAAD-47E9-95D8-32D9DE9028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264982-B5D3-444F-BB63-38DEFCD6F5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B7334A-A699-495F-8122-ADCD8D9170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31EF21-247E-48F6-A8FA-3C544C675D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8AF5DC-CDC6-462A-835C-8005DDFC03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917144-BEE9-43D2-8E21-793F6C5748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A88FEF-2DBC-4732-AACE-56B22BADDF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0F4D37-9954-426D-9744-7BF5F104E5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341698-279A-4436-AF00-7FE6F7B239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0BFFE0-8C5F-45C3-B0C6-B78635B5A3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CC0D2-13BB-4562-80CD-E2762DE0D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E08E9F-A832-4D96-B63E-61FFF92256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4C1F67-3AFF-4B3B-A10A-5296C39F4F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C74787-0727-481A-859F-3FAE592487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1548A7-C930-4440-ABC4-718B78273F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F11445-2486-4DE6-85E6-5D310C5E34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5F626D-14CC-4272-8F9C-765F998985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3AD66E-633E-4BCD-94A5-F90AD8B422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1A8129-070C-4F00-B2C7-502BF1F8B1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425EB2-165E-4B31-A98B-CA3960228A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17ED5D-B3AA-4FEA-ABD1-507AE0CD9E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6454-3AEF-4B6A-9420-2AFCFF4A8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6AA149-C5D3-433F-A512-325E4CD99F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352094-BED8-44F3-BC84-C20F5D48EF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0B920D-8701-4977-AC0B-60D6F9D6A8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1A5F66-C490-4EC3-99B5-ADED217A8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CD504B-146E-4E5F-8396-C931272068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13DC50-3925-40E3-A401-942CC426AA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4AEB8A-E103-4D8E-BEEF-BEC24982E8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8236ECE-FB67-44E9-B8AE-B7E87319996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19"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0822776-6B71-4508-9B74-4E74E68DDE3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1"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B86BF33-196E-4D42-9064-CA170FFF341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 name="PlaceHolder 2"/>
          <p:cNvSpPr>
            <a:spLocks noGrp="1"/>
          </p:cNvSpPr>
          <p:nvPr>
            <p:ph type="ftr" idx="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CF5E-E353-4CC4-8550-B03C8890A982}"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12" name="PlaceHolder 4"/>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3" name="PlaceHolder 5"/>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55"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4"/>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549360" y="487440"/>
            <a:ext cx="31799160" cy="96516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67" name="PlaceHolder 3"/>
          <p:cNvSpPr>
            <a:spLocks noGrp="1"/>
          </p:cNvSpPr>
          <p:nvPr>
            <p:ph type="sldNum" idx="28"/>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26F1-BD15-4C82-BEBB-3048F9742820}"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68" name="PlaceHolder 4"/>
          <p:cNvSpPr>
            <a:spLocks noGrp="1"/>
          </p:cNvSpPr>
          <p:nvPr>
            <p:ph type="dt" idx="29"/>
          </p:nvPr>
        </p:nvSpPr>
        <p:spPr>
          <a:xfrm>
            <a:off x="2083716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69" name="PlaceHolder 5"/>
          <p:cNvSpPr>
            <a:spLocks noGrp="1"/>
          </p:cNvSpPr>
          <p:nvPr>
            <p:ph type="ftr" idx="30"/>
          </p:nvPr>
        </p:nvSpPr>
        <p:spPr>
          <a:xfrm>
            <a:off x="1085400" y="20515320"/>
            <a:ext cx="1290492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13"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1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17" name="PlaceHolder 3"/>
          <p:cNvSpPr>
            <a:spLocks noGrp="1"/>
          </p:cNvSpPr>
          <p:nvPr>
            <p:ph type="dt" idx="3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18" name="PlaceHolder 4"/>
          <p:cNvSpPr>
            <a:spLocks noGrp="1"/>
          </p:cNvSpPr>
          <p:nvPr>
            <p:ph type="ftr" idx="3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BD44-FB31-48C0-99B4-F514B9F62F52}"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25238160" y="0"/>
            <a:ext cx="768024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3"/>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25720560" y="496800"/>
            <a:ext cx="0" cy="1998504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3" name="Oval 23"/>
          <p:cNvSpPr/>
          <p:nvPr/>
        </p:nvSpPr>
        <p:spPr>
          <a:xfrm>
            <a:off x="24623640" y="9363240"/>
            <a:ext cx="2193840" cy="19494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24963480" y="9664560"/>
            <a:ext cx="1514520" cy="13464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67" name="PlaceHolder 3"/>
          <p:cNvSpPr>
            <a:spLocks noGrp="1"/>
          </p:cNvSpPr>
          <p:nvPr>
            <p:ph type="sldNum" idx="34"/>
          </p:nvPr>
        </p:nvSpPr>
        <p:spPr>
          <a:xfrm>
            <a:off x="24896520" y="9631440"/>
            <a:ext cx="16462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CFD0-C359-42A6-835F-16B83DA0502B}"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568" name="PlaceHolder 4"/>
          <p:cNvSpPr>
            <a:spLocks noGrp="1"/>
          </p:cNvSpPr>
          <p:nvPr>
            <p:ph type="dt" idx="35"/>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69" name="PlaceHolder 5"/>
          <p:cNvSpPr>
            <a:spLocks noGrp="1"/>
          </p:cNvSpPr>
          <p:nvPr>
            <p:ph type="ftr" idx="36"/>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32369040" y="936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4"/>
          <p:cNvSpPr/>
          <p:nvPr/>
        </p:nvSpPr>
        <p:spPr>
          <a:xfrm>
            <a:off x="0" y="0"/>
            <a:ext cx="32918400" cy="80470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560520" y="7743960"/>
            <a:ext cx="317973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6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61" name="PlaceHolder 3"/>
          <p:cNvSpPr>
            <a:spLocks noGrp="1"/>
          </p:cNvSpPr>
          <p:nvPr>
            <p:ph type="dt" idx="4"/>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2" name="PlaceHolder 4"/>
          <p:cNvSpPr>
            <a:spLocks noGrp="1"/>
          </p:cNvSpPr>
          <p:nvPr>
            <p:ph type="ftr" idx="5"/>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D690-06D9-4376-9287-845C8C6CDF08}"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07"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1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11" name="PlaceHolder 3"/>
          <p:cNvSpPr>
            <a:spLocks noGrp="1"/>
          </p:cNvSpPr>
          <p:nvPr>
            <p:ph type="dt" idx="7"/>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12" name="PlaceHolder 4"/>
          <p:cNvSpPr>
            <a:spLocks noGrp="1"/>
          </p:cNvSpPr>
          <p:nvPr>
            <p:ph type="ftr" idx="8"/>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15702120" y="3284640"/>
            <a:ext cx="164592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4166-3D08-4F2A-B066-21348B37D8D5}"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3"/>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4"/>
          <p:cNvSpPr/>
          <p:nvPr/>
        </p:nvSpPr>
        <p:spPr>
          <a:xfrm>
            <a:off x="32369040" y="6048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5"/>
          <p:cNvSpPr/>
          <p:nvPr/>
        </p:nvSpPr>
        <p:spPr>
          <a:xfrm>
            <a:off x="549360" y="7315200"/>
            <a:ext cx="31799160" cy="974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6"/>
          <p:cNvSpPr/>
          <p:nvPr/>
        </p:nvSpPr>
        <p:spPr>
          <a:xfrm>
            <a:off x="560520" y="455760"/>
            <a:ext cx="31797360" cy="6846840"/>
          </a:xfrm>
          <a:prstGeom prst="rect">
            <a:avLst/>
          </a:prstGeom>
          <a:solidFill>
            <a:srgbClr val="d16349"/>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549360" y="780264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59" name="Oval 25"/>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63" name="PlaceHolder 3"/>
          <p:cNvSpPr>
            <a:spLocks noGrp="1"/>
          </p:cNvSpPr>
          <p:nvPr>
            <p:ph type="ftr" idx="1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65" name="PlaceHolder 5"/>
          <p:cNvSpPr>
            <a:spLocks noGrp="1"/>
          </p:cNvSpPr>
          <p:nvPr>
            <p:ph type="sldNum" idx="12"/>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294E-D94A-42F3-8BB8-097E43FA43F2}"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0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16427520" y="5041440"/>
            <a:ext cx="31680" cy="1542276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13"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14" name="PlaceHolder 3"/>
          <p:cNvSpPr>
            <a:spLocks noGrp="1"/>
          </p:cNvSpPr>
          <p:nvPr>
            <p:ph type="dt" idx="13"/>
          </p:nvPr>
        </p:nvSpPr>
        <p:spPr>
          <a:xfrm>
            <a:off x="20848320" y="2051208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15" name="PlaceHolder 4"/>
          <p:cNvSpPr>
            <a:spLocks noGrp="1"/>
          </p:cNvSpPr>
          <p:nvPr>
            <p:ph type="ftr" idx="14"/>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86A1-DD56-4C6D-9052-7DAB5E112881}"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16459200" y="7040160"/>
            <a:ext cx="0" cy="1340172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54" name="Rectangle 20"/>
          <p:cNvSpPr/>
          <p:nvPr/>
        </p:nvSpPr>
        <p:spPr>
          <a:xfrm>
            <a:off x="0" y="0"/>
            <a:ext cx="32918400" cy="46324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3"/>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5"/>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549360" y="4389480"/>
            <a:ext cx="31799160" cy="292572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525600" y="20453400"/>
            <a:ext cx="31799160" cy="99540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549360" y="409572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61" name="Rectangle 24"/>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6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66" name="PlaceHolder 3"/>
          <p:cNvSpPr>
            <a:spLocks noGrp="1"/>
          </p:cNvSpPr>
          <p:nvPr>
            <p:ph type="dt" idx="1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67" name="PlaceHolder 4"/>
          <p:cNvSpPr>
            <a:spLocks noGrp="1"/>
          </p:cNvSpPr>
          <p:nvPr>
            <p:ph type="ftr" idx="17"/>
          </p:nvPr>
        </p:nvSpPr>
        <p:spPr>
          <a:xfrm>
            <a:off x="1096920" y="2051208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15636960" y="333540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09C3-0EEB-4AE4-AF37-34BE3387270A}"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312"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1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16" name="PlaceHolder 3"/>
          <p:cNvSpPr>
            <a:spLocks noGrp="1"/>
          </p:cNvSpPr>
          <p:nvPr>
            <p:ph type="dt" idx="19"/>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17" name="PlaceHolder 4"/>
          <p:cNvSpPr>
            <a:spLocks noGrp="1"/>
          </p:cNvSpPr>
          <p:nvPr>
            <p:ph type="ftr" idx="2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15636960" y="331488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D9FF-0484-4B2C-A31C-5F0CCA32622F}"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549360" y="50652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63" name="PlaceHolder 3"/>
          <p:cNvSpPr>
            <a:spLocks noGrp="1"/>
          </p:cNvSpPr>
          <p:nvPr>
            <p:ph type="dt" idx="22"/>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64" name="PlaceHolder 4"/>
          <p:cNvSpPr>
            <a:spLocks noGrp="1"/>
          </p:cNvSpPr>
          <p:nvPr>
            <p:ph type="ftr" idx="23"/>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15362280" y="20239200"/>
            <a:ext cx="219384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66AE-1649-47F3-87CD-24C34256287B}" type="slidenum">
              <a:rPr b="0" lang="en-US" sz="5500" spc="-1" strike="noStrike">
                <a:solidFill>
                  <a:srgbClr val="ffffff"/>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549360" y="487440"/>
            <a:ext cx="31799160" cy="9763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4"/>
          <p:cNvSpPr/>
          <p:nvPr/>
        </p:nvSpPr>
        <p:spPr>
          <a:xfrm>
            <a:off x="0" y="0"/>
            <a:ext cx="32918400" cy="380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10"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14"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15" name="PlaceHolder 3"/>
          <p:cNvSpPr>
            <a:spLocks noGrp="1"/>
          </p:cNvSpPr>
          <p:nvPr>
            <p:ph type="sldNum" idx="25"/>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1943-30F7-4230-910A-A000A3577A75}"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16" name="PlaceHolder 4"/>
          <p:cNvSpPr>
            <a:spLocks noGrp="1"/>
          </p:cNvSpPr>
          <p:nvPr>
            <p:ph type="dt" idx="2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17" name="PlaceHolder 5"/>
          <p:cNvSpPr>
            <a:spLocks noGrp="1"/>
          </p:cNvSpPr>
          <p:nvPr>
            <p:ph type="ftr" idx="27"/>
          </p:nvPr>
        </p:nvSpPr>
        <p:spPr>
          <a:xfrm>
            <a:off x="1085760" y="20515320"/>
            <a:ext cx="121809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720" y="-457200"/>
            <a:ext cx="32365800" cy="3657600"/>
          </a:xfrm>
          <a:prstGeom prst="rect">
            <a:avLst/>
          </a:prstGeom>
          <a:noFill/>
          <a:ln w="0">
            <a:noFill/>
          </a:ln>
        </p:spPr>
        <p:txBody>
          <a:bodyPr lIns="313560" rIns="313560" tIns="156600" bIns="1566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Calibri"/>
                <a:ea typeface="Arial"/>
              </a:rPr>
              <a:t>The Impact of Youth Ministry</a:t>
            </a:r>
            <a:br>
              <a:rPr sz="2800"/>
            </a:br>
            <a:r>
              <a:rPr b="0" lang="en-US" sz="2800" spc="-1" strike="noStrike">
                <a:solidFill>
                  <a:srgbClr val="7b9899"/>
                </a:solidFill>
                <a:latin typeface="Calibri"/>
                <a:ea typeface="Arial"/>
              </a:rPr>
              <a:t>Rachel S. Carson</a:t>
            </a:r>
            <a:br>
              <a:rPr sz="2800"/>
            </a:br>
            <a:r>
              <a:rPr b="0" lang="en-US" sz="2800" spc="-1" strike="noStrike">
                <a:solidFill>
                  <a:srgbClr val="7b9899"/>
                </a:solidFill>
                <a:latin typeface="Calibri"/>
                <a:ea typeface="Arial"/>
              </a:rPr>
              <a:t> University of Cincinnati, CECH Middle Childhood Education</a:t>
            </a:r>
            <a:br>
              <a:rPr sz="2800"/>
            </a:br>
            <a:r>
              <a:rPr b="0" lang="en-US" sz="2800" spc="-1" strike="noStrike">
                <a:solidFill>
                  <a:srgbClr val="7b9899"/>
                </a:solidFill>
                <a:latin typeface="Calibri"/>
                <a:ea typeface="Arial"/>
              </a:rPr>
              <a:t>carsonrs@mail.uc.edu</a:t>
            </a:r>
            <a:endParaRPr b="0" lang="en-US" sz="2800" spc="-1" strike="noStrike">
              <a:solidFill>
                <a:srgbClr val="7b9899"/>
              </a:solidFill>
              <a:latin typeface="Georgia"/>
            </a:endParaRPr>
          </a:p>
        </p:txBody>
      </p:sp>
      <p:pic>
        <p:nvPicPr>
          <p:cNvPr id="607" name="Picture 2" descr=""/>
          <p:cNvPicPr/>
          <p:nvPr/>
        </p:nvPicPr>
        <p:blipFill>
          <a:blip r:embed="rId1"/>
          <a:stretch/>
        </p:blipFill>
        <p:spPr>
          <a:xfrm>
            <a:off x="638280" y="1163520"/>
            <a:ext cx="4309920" cy="1524240"/>
          </a:xfrm>
          <a:prstGeom prst="rect">
            <a:avLst/>
          </a:prstGeom>
          <a:ln w="0">
            <a:noFill/>
          </a:ln>
        </p:spPr>
      </p:pic>
      <p:sp>
        <p:nvSpPr>
          <p:cNvPr id="608" name="TextBox 5"/>
          <p:cNvSpPr/>
          <p:nvPr/>
        </p:nvSpPr>
        <p:spPr>
          <a:xfrm>
            <a:off x="531720" y="15673320"/>
            <a:ext cx="10744200" cy="50061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Background Literatur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vious research states…</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School age children’s desire for group membership can also be satisfied through formal group ties such as scouting, 4-H, and religious youth groups” (265)</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otection against maladjustment can arise from, child’s personal characteristics, a warm parental relationship, an adult outside of the immediate family who offers a support system,  and community resourc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TextBox 1"/>
          <p:cNvSpPr/>
          <p:nvPr/>
        </p:nvSpPr>
        <p:spPr>
          <a:xfrm>
            <a:off x="11638080" y="10260000"/>
            <a:ext cx="10345680" cy="1798200"/>
          </a:xfrm>
          <a:prstGeom prst="rect">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quiry Question:</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How do formal peer groups through involvement in extracurricular activities, such as a youth ministry group, affect social and moral development during pre –middle adolescence?</a:t>
            </a:r>
            <a:endParaRPr b="0" lang="en-US" sz="2800" spc="-1" strike="noStrike">
              <a:solidFill>
                <a:srgbClr val="000000"/>
              </a:solidFill>
              <a:latin typeface="Calibri"/>
            </a:endParaRPr>
          </a:p>
        </p:txBody>
      </p:sp>
      <p:sp>
        <p:nvSpPr>
          <p:cNvPr id="610" name="TextBox 10"/>
          <p:cNvSpPr/>
          <p:nvPr/>
        </p:nvSpPr>
        <p:spPr>
          <a:xfrm>
            <a:off x="22678920" y="19104120"/>
            <a:ext cx="9325080" cy="177660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bin, Bukowski, &amp; Parker, 2006</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rk, 201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TextBox 10"/>
          <p:cNvSpPr/>
          <p:nvPr/>
        </p:nvSpPr>
        <p:spPr>
          <a:xfrm>
            <a:off x="22555080" y="9505800"/>
            <a:ext cx="9840960" cy="88455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ul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youth ministry group is very diverse ethnically, and socially.  Most of these students partake in other extracurricular activities on top of being a part of their youth group.  I interviewed a young woman who leads a youth ministry group in an urban school district; she said that most of her students were in the group for the social aspects more than the religious.   Though they all came from troubled homes, and some did not have much support from family, they did, however, stay out of a great deal of trouble in comparison to other student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They same is true in the youth ministry I observed.  These students came from very diverse backgrounds , some from the suburbs and some from broken families.  Regardless of all of those details, these student all strive to be academically successful, to build strong values.   These morals and values are  demonstrated to these kids by the mentorship of the youth ministry leaders, the sense of community in the church to which they belong, and other potential factor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12" name="TextBox 10"/>
          <p:cNvGrpSpPr/>
          <p:nvPr/>
        </p:nvGrpSpPr>
        <p:grpSpPr>
          <a:xfrm>
            <a:off x="11509200" y="5589720"/>
            <a:ext cx="10491840" cy="3504960"/>
            <a:chOff x="11509200" y="5589720"/>
            <a:chExt cx="10491840" cy="3504960"/>
          </a:xfrm>
        </p:grpSpPr>
        <p:pic>
          <p:nvPicPr>
            <p:cNvPr id="613" name="TextBox 10" descr=""/>
            <p:cNvPicPr/>
            <p:nvPr/>
          </p:nvPicPr>
          <p:blipFill>
            <a:blip r:embed="rId2"/>
            <a:stretch/>
          </p:blipFill>
          <p:spPr>
            <a:xfrm>
              <a:off x="11509200" y="5589720"/>
              <a:ext cx="10491840" cy="3504960"/>
            </a:xfrm>
            <a:prstGeom prst="rect">
              <a:avLst/>
            </a:prstGeom>
            <a:ln w="0">
              <a:noFill/>
            </a:ln>
          </p:spPr>
        </p:pic>
        <p:sp>
          <p:nvSpPr>
            <p:cNvPr id="614" name=""/>
            <p:cNvSpPr/>
            <p:nvPr/>
          </p:nvSpPr>
          <p:spPr>
            <a:xfrm>
              <a:off x="11580840" y="5637240"/>
              <a:ext cx="10345680" cy="32997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I personally have experience participating in a youth ministry.  This involvement has shaped my perspective of the world, and has influenced my self-esteem and relationships with my parents and friends.  Through this involvement I was provided with mentorship and guidance needed to feel confident in the identity I was developing.</a:t>
              </a:r>
              <a:endParaRPr b="0" lang="en-US" sz="2800" spc="-1" strike="noStrike">
                <a:solidFill>
                  <a:srgbClr val="000000"/>
                </a:solidFill>
                <a:latin typeface="Calibri"/>
              </a:endParaRPr>
            </a:p>
          </p:txBody>
        </p:sp>
      </p:grpSp>
      <p:sp>
        <p:nvSpPr>
          <p:cNvPr id="615" name="TextBox 2"/>
          <p:cNvSpPr/>
          <p:nvPr/>
        </p:nvSpPr>
        <p:spPr>
          <a:xfrm>
            <a:off x="689040" y="5181480"/>
            <a:ext cx="9978840" cy="2226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growing number of students dropping out of schools, and risky behavior becoming more socially acceptable, I sought to understand how as a teacher I could guide my students in a more positive direction.  </a:t>
            </a:r>
            <a:endParaRPr b="0" lang="en-US" sz="2800" spc="-1" strike="noStrike">
              <a:solidFill>
                <a:srgbClr val="000000"/>
              </a:solidFill>
              <a:latin typeface="Calibri"/>
            </a:endParaRPr>
          </a:p>
        </p:txBody>
      </p:sp>
      <p:cxnSp>
        <p:nvCxnSpPr>
          <p:cNvPr id="616" name="Elbow Connector 7"/>
          <p:cNvCxnSpPr/>
          <p:nvPr/>
        </p:nvCxnSpPr>
        <p:spPr>
          <a:xfrm flipH="1" flipV="1" rot="5400000">
            <a:off x="21409560" y="7734600"/>
            <a:ext cx="2824920" cy="2210400"/>
          </a:xfrm>
          <a:prstGeom prst="bentConnector3">
            <a:avLst>
              <a:gd name="adj1" fmla="val 35827"/>
            </a:avLst>
          </a:prstGeom>
          <a:ln w="9360">
            <a:solidFill>
              <a:srgbClr val="2a373d"/>
            </a:solidFill>
            <a:miter/>
            <a:tailEnd len="med" type="arrow" w="med"/>
          </a:ln>
        </p:spPr>
      </p:cxnSp>
      <p:sp>
        <p:nvSpPr>
          <p:cNvPr id="617" name="TextBox 6"/>
          <p:cNvSpPr/>
          <p:nvPr/>
        </p:nvSpPr>
        <p:spPr>
          <a:xfrm>
            <a:off x="22678920" y="5961240"/>
            <a:ext cx="9677520" cy="20199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Meth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 order to study this topic I interviewed several youth ministry leaders, and people you have previous been a part of youth ministry. I also observed the students in this group.  </a:t>
            </a:r>
            <a:endParaRPr b="0" lang="en-US" sz="2800" spc="-1" strike="noStrike">
              <a:solidFill>
                <a:srgbClr val="000000"/>
              </a:solidFill>
              <a:latin typeface="Calibri"/>
            </a:endParaRPr>
          </a:p>
        </p:txBody>
      </p:sp>
      <p:sp>
        <p:nvSpPr>
          <p:cNvPr id="618" name="Straight Connector 15"/>
          <p:cNvSpPr/>
          <p:nvPr/>
        </p:nvSpPr>
        <p:spPr>
          <a:xfrm flipH="1">
            <a:off x="27475920" y="8001000"/>
            <a:ext cx="41400" cy="15048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7"/>
          <p:cNvSpPr/>
          <p:nvPr/>
        </p:nvSpPr>
        <p:spPr>
          <a:xfrm flipH="1">
            <a:off x="21994920" y="13973040"/>
            <a:ext cx="56016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a:off x="21926520" y="19507320"/>
            <a:ext cx="75240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1"/>
          <p:cNvSpPr/>
          <p:nvPr/>
        </p:nvSpPr>
        <p:spPr>
          <a:xfrm>
            <a:off x="16752960" y="9064800"/>
            <a:ext cx="0" cy="11952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8"/>
          <p:cNvSpPr/>
          <p:nvPr/>
        </p:nvSpPr>
        <p:spPr>
          <a:xfrm>
            <a:off x="5678640" y="7427880"/>
            <a:ext cx="0" cy="11620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30"/>
          <p:cNvSpPr/>
          <p:nvPr/>
        </p:nvSpPr>
        <p:spPr>
          <a:xfrm>
            <a:off x="5757840" y="14860440"/>
            <a:ext cx="0" cy="8128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24" name="Elbow Connector 13312"/>
          <p:cNvCxnSpPr/>
          <p:nvPr/>
        </p:nvCxnSpPr>
        <p:spPr>
          <a:xfrm flipH="1" flipV="1" rot="5400000">
            <a:off x="7279200" y="11676960"/>
            <a:ext cx="6012360" cy="1980360"/>
          </a:xfrm>
          <a:prstGeom prst="bentConnector3">
            <a:avLst>
              <a:gd name="adj1" fmla="val 7688"/>
            </a:avLst>
          </a:prstGeom>
          <a:ln w="9360">
            <a:solidFill>
              <a:srgbClr val="2a373d"/>
            </a:solidFill>
            <a:miter/>
          </a:ln>
        </p:spPr>
      </p:cxnSp>
      <p:cxnSp>
        <p:nvCxnSpPr>
          <p:cNvPr id="625" name="Elbow Connector 13332"/>
          <p:cNvCxnSpPr/>
          <p:nvPr/>
        </p:nvCxnSpPr>
        <p:spPr>
          <a:xfrm flipH="1" flipV="1" rot="5400000">
            <a:off x="10248480" y="8329680"/>
            <a:ext cx="2358360" cy="305640"/>
          </a:xfrm>
          <a:prstGeom prst="bentConnector2">
            <a:avLst/>
          </a:prstGeom>
          <a:ln w="9360">
            <a:solidFill>
              <a:srgbClr val="2a373d"/>
            </a:solidFill>
            <a:miter/>
          </a:ln>
        </p:spPr>
      </p:cxnSp>
      <p:sp>
        <p:nvSpPr>
          <p:cNvPr id="626" name="TextBox 1"/>
          <p:cNvSpPr/>
          <p:nvPr/>
        </p:nvSpPr>
        <p:spPr>
          <a:xfrm>
            <a:off x="531720" y="8305920"/>
            <a:ext cx="10450440" cy="6492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o Know</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groups- collectives that celebrate unique values and standards for behavior and a social structure of leaders  and followers.  Peer groups organize on the basis of proximity (being in the same classroom) and similarity in sex, ethnicity, popularity, and aggression  (Rubin, Bukowski, &amp; Parker, 2006).</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gulation-a form of supervision in which parents exercise general oversight while letting children take charge or moment-by-moment decision ma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hs to Identi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moratorium- exploration without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foreclosure- commitment in the absence of expl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diffusion- an apathetic state characterized by a lack of both exploration and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27" name="TextBox 10"/>
          <p:cNvGrpSpPr/>
          <p:nvPr/>
        </p:nvGrpSpPr>
        <p:grpSpPr>
          <a:xfrm>
            <a:off x="11509200" y="12619080"/>
            <a:ext cx="10491840" cy="7358040"/>
            <a:chOff x="11509200" y="12619080"/>
            <a:chExt cx="10491840" cy="7358040"/>
          </a:xfrm>
        </p:grpSpPr>
        <p:pic>
          <p:nvPicPr>
            <p:cNvPr id="628" name="TextBox 10" descr=""/>
            <p:cNvPicPr/>
            <p:nvPr/>
          </p:nvPicPr>
          <p:blipFill>
            <a:blip r:embed="rId3"/>
            <a:stretch/>
          </p:blipFill>
          <p:spPr>
            <a:xfrm>
              <a:off x="11509200" y="12619080"/>
              <a:ext cx="10491840" cy="7358040"/>
            </a:xfrm>
            <a:prstGeom prst="rect">
              <a:avLst/>
            </a:prstGeom>
            <a:ln w="0">
              <a:noFill/>
            </a:ln>
          </p:spPr>
        </p:pic>
        <p:sp>
          <p:nvSpPr>
            <p:cNvPr id="629" name=""/>
            <p:cNvSpPr/>
            <p:nvPr/>
          </p:nvSpPr>
          <p:spPr>
            <a:xfrm>
              <a:off x="11580840" y="12668400"/>
              <a:ext cx="10345680" cy="71391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I may have some bias because of my background with youth ministry and the impact that it has had on my life, I was able to recognize from my observations that even without religion at the heart of it, involvement in an extracurricular of some form, whether that be a sport’s team, debate team, or drama club will help students to develop good social, emotional, and moral development.  These groups provide  strong coregulation for these students, allowing them to explore who their talents, skills, desires, and dreams without getting involved in risky behavior that would do them harm.  As a teacher I will not be able to  teach lessons straight out of the Bible, but I can still guide my students with good principles and morals in order to help them to build those for themselves.  Extracurricular activities are a great way for students to feel as if they are a part of a community.  These positive influence can help these students to stay on the path to success.</a:t>
              </a:r>
              <a:endParaRPr b="0" lang="en-US" sz="2800" spc="-1" strike="noStrike">
                <a:solidFill>
                  <a:srgbClr val="000000"/>
                </a:solidFill>
                <a:latin typeface="Calibri"/>
              </a:endParaRPr>
            </a:p>
          </p:txBody>
        </p:sp>
      </p:grpSp>
      <p:pic>
        <p:nvPicPr>
          <p:cNvPr id="630" name="Picture 14" descr="C:\Users\Rachel\Pictures\me\WP_20130926_00220130926175350.jpg"/>
          <p:cNvPicPr/>
          <p:nvPr/>
        </p:nvPicPr>
        <p:blipFill>
          <a:blip r:embed="rId4"/>
          <a:stretch/>
        </p:blipFill>
        <p:spPr>
          <a:xfrm>
            <a:off x="29157480" y="-407880"/>
            <a:ext cx="3316320" cy="56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cp:lastModifiedBy>
  <dcterms:modified xsi:type="dcterms:W3CDTF">2013-11-25T16:15:51Z</dcterms:modified>
  <cp:revision>79</cp:revision>
  <dc:subject/>
  <dc:title>PowerPoint Presentation</dc:title>
</cp:coreProperties>
</file>