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3DBA4-7EFC-4387-8D85-B152469DA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7"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8"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BE593-3D0B-4831-ADFA-238620876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0"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2"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3"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027B9-5444-4110-9456-F2EB1C85E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5"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6"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7"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8"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9"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0"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D4589-A647-4B9D-AC10-A9043867F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58E56-0CFE-49B8-8726-CADC27C4E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7"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91F63-12CF-4549-B4AD-506F99747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9"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8B6A0-1F33-4D6A-B606-03B3E6322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1"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2"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32F60-7695-44A4-A8BC-965EEA184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30139-4D51-43D5-A58F-B77EDAA14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D4F17-BA1F-4884-A4AB-61DB3A07D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6"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7"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8"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58D96-B611-4F71-A63E-91F62D41E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B1E95-1AD7-4D55-8B84-2D55A3879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2"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2A072-E325-4E8C-AC1F-9BC7FBC0C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4"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5"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6"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42B7C-DFEA-4476-BB6B-DB06BE014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8"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9"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6B7EF-18A6-47DA-A1EC-9D20197B6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1"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2"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3"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4"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A2DAF-A869-4324-A68F-D5F04D477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6"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7"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8"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9"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0"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1"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540A4-24ED-4698-9ABD-9AF401166A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8"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3BF7A-D001-464A-8F96-9A106B433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1"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D85C4-CC63-4022-A472-977F67748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25608-36DC-47F5-8F73-DB23DDBA3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FDDC8-5089-4999-AB89-6042C9868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5"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6"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7"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C93DA-A9A3-410F-9A19-27C44BB41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9"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0"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1"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DEF14-C57C-4E4F-A064-9D72AD41B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3"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4"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5"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14138-A483-4951-B35F-858394FC8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1"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2" name="PlaceHolder 3"/>
          <p:cNvSpPr>
            <a:spLocks noGrp="1"/>
          </p:cNvSpPr>
          <p:nvPr>
            <p:ph type="dt" idx="1"/>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6387-62EC-4879-8634-E2CAC1AA6F38}"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42"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43" name="PlaceHolder 3"/>
          <p:cNvSpPr>
            <a:spLocks noGrp="1"/>
          </p:cNvSpPr>
          <p:nvPr>
            <p:ph type="dt" idx="4"/>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44" name="PlaceHolder 4"/>
          <p:cNvSpPr>
            <a:spLocks noGrp="1"/>
          </p:cNvSpPr>
          <p:nvPr>
            <p:ph type="ftr" idx="5"/>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43EF-D6D4-404C-81A3-76BC08F75AA3}"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1212840" y="4206960"/>
            <a:ext cx="29638800" cy="4145040"/>
          </a:xfrm>
          <a:prstGeom prst="rect">
            <a:avLst/>
          </a:prstGeom>
          <a:ln w="0">
            <a:noFill/>
          </a:ln>
        </p:spPr>
      </p:pic>
      <p:pic>
        <p:nvPicPr>
          <p:cNvPr id="83" name="Picture 2" descr=""/>
          <p:cNvPicPr/>
          <p:nvPr/>
        </p:nvPicPr>
        <p:blipFill>
          <a:blip r:embed="rId2"/>
          <a:stretch/>
        </p:blipFill>
        <p:spPr>
          <a:xfrm>
            <a:off x="15925680" y="12425400"/>
            <a:ext cx="1067040" cy="460440"/>
          </a:xfrm>
          <a:prstGeom prst="rect">
            <a:avLst/>
          </a:prstGeom>
          <a:ln w="0">
            <a:noFill/>
          </a:ln>
        </p:spPr>
      </p:pic>
      <p:sp>
        <p:nvSpPr>
          <p:cNvPr id="84" name="TextBox 3"/>
          <p:cNvSpPr/>
          <p:nvPr/>
        </p:nvSpPr>
        <p:spPr>
          <a:xfrm>
            <a:off x="380880" y="609480"/>
            <a:ext cx="985068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0" lang="en-US" sz="2400" spc="-1" strike="noStrike">
              <a:solidFill>
                <a:srgbClr val="ffffff"/>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purpose of this study was to investigate how children and their families are impacted when one of the children is diagnosed with a disorder of any kind.  When you consider that roughly 20% of American children suffer from a diagnosable mental illness, it is crucial that we understand how a diagnosis impacts these children and their support system.  Whether it be a physical diagnosis or a mental diagnosis, it is crucial that we understand how these changes in the family structure have an impact on the family involved.</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5" name="TextBox 5"/>
          <p:cNvSpPr/>
          <p:nvPr/>
        </p:nvSpPr>
        <p:spPr>
          <a:xfrm>
            <a:off x="21031200" y="685800"/>
            <a:ext cx="983448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ground Literature</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sorder: a state of confusion.</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agnosis: the identification of the nature of an illness or other problem by examination of the symptoms</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pilepsy: a neurological disorder marked by sudden recurrent episodes of sensory disturbance, loss of consciousness, or convulsions, associated with abnormal electrical activity in the brain.</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izure: a sudden attack of illness, esp. a stroke or an epileptic fit.</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6" name="TextBox 6"/>
          <p:cNvSpPr/>
          <p:nvPr/>
        </p:nvSpPr>
        <p:spPr>
          <a:xfrm>
            <a:off x="533520" y="4800600"/>
            <a:ext cx="9907560" cy="90918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hods</a:t>
            </a:r>
            <a:br>
              <a:rPr sz="2400"/>
            </a:br>
            <a:r>
              <a:rPr b="1" lang="en-US" sz="2400" spc="-1" strike="noStrike">
                <a:solidFill>
                  <a:srgbClr val="ffffff"/>
                </a:solidFill>
                <a:latin typeface="Calibri"/>
              </a:rPr>
              <a:t>Location/Participants</a:t>
            </a:r>
            <a:br>
              <a:rPr sz="2400"/>
            </a:br>
            <a:r>
              <a:rPr b="0" lang="en-US" sz="2400" spc="-1" strike="noStrike">
                <a:solidFill>
                  <a:srgbClr val="ffffff"/>
                </a:solidFill>
                <a:latin typeface="Calibri"/>
              </a:rPr>
              <a:t>Observations took place at Camp Flame Catcher, an overnight camp funded by the Epilepsy Foundation of Great Cincinnati.  Camp is held at Camp Kern in Lebanon, Ohio.  The children who attend camp have all been diagnosed with epilepsy, but many of children suffer from other diseases or disorders such as Social Anxiety Disorder or Autism.  </a:t>
            </a:r>
            <a:br>
              <a:rPr sz="2400"/>
            </a:br>
            <a:r>
              <a:rPr b="1" lang="en-US" sz="2400" spc="-1" strike="noStrike">
                <a:solidFill>
                  <a:srgbClr val="ffffff"/>
                </a:solidFill>
                <a:latin typeface="Calibri"/>
              </a:rPr>
              <a:t>Observations</a:t>
            </a:r>
            <a:br>
              <a:rPr sz="2400"/>
            </a:br>
            <a:r>
              <a:rPr b="0" lang="en-US" sz="2400" spc="-1" strike="noStrike">
                <a:solidFill>
                  <a:srgbClr val="ffffff"/>
                </a:solidFill>
                <a:latin typeface="Calibri"/>
              </a:rPr>
              <a:t>One camper, Anna, had very poor communication skills; she was developmentally and cognitively delayed.  Anna's mother was also a wonderful woman to observe.  She brought Anna's older brother with her (he is 12 years old, Anna is 10 years old) to camp in an attempt to help him better understand his sister's disease.  Anna’s mom always had to be arms-length of her, just in case she was to have a seizure.  After watching her family interactions, her older brother was very distant from Anna.  He would cling to his mom when she was not tending to his younger sister, but the two siblings had little to no interaction with one another.  I found that sad, because I know that my relationship with my little brother is so important to me, and if I wouldn't have that then I would feel like I was missing out on a crucial part of growing up.  It was clear that Anna’s diagnosis severely impacted the family dynamic as a whole.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7" name="TextBox 1"/>
          <p:cNvSpPr/>
          <p:nvPr/>
        </p:nvSpPr>
        <p:spPr>
          <a:xfrm>
            <a:off x="10896480" y="1143000"/>
            <a:ext cx="9469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y Research Question</a:t>
            </a:r>
            <a:endParaRPr b="0" lang="en-US" sz="3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does it impact children and their families when there is a disorder diagnosis in the family?</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TextBox 10"/>
          <p:cNvSpPr/>
          <p:nvPr/>
        </p:nvSpPr>
        <p:spPr>
          <a:xfrm>
            <a:off x="21259800" y="4876920"/>
            <a:ext cx="9820440" cy="72630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essional Implications</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shapes me as a professional, because I want to go into the field of School Counseling.  After watching Anna’s family dynamics, from a professional standpoint I would focus on her older brother and his inability to interact with his younger sister.  I think that it is crucial that professionals acknowledge the impact that a diagnosis has on a sibling, and on the family’s dynamic as a whole.  Family structures can be impacted by any number of environmental or behavioral factors, and it interests me professionally and personally to assist families in understanding those factors (in this case a mental diagnosis) and how those families can go about understanding the cards they have been dealt.</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9" name="TextBox 10"/>
          <p:cNvSpPr/>
          <p:nvPr/>
        </p:nvSpPr>
        <p:spPr>
          <a:xfrm>
            <a:off x="21336120" y="14325480"/>
            <a:ext cx="982008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s</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ttp://www.autismspeaks.org/family-services/tool-kits/asperger-syndrome-and-high-functioning-autism-tool-kit/how-will-affect-my-</a:t>
            </a:r>
            <a:endParaRPr b="0" lang="en-US" sz="2400" spc="-1" strike="noStrike">
              <a:solidFill>
                <a:srgbClr val="ffffff"/>
              </a:solidFill>
              <a:latin typeface="Calibri"/>
            </a:endParaRPr>
          </a:p>
        </p:txBody>
      </p:sp>
      <p:sp>
        <p:nvSpPr>
          <p:cNvPr id="90" name="TextBox 10"/>
          <p:cNvSpPr/>
          <p:nvPr/>
        </p:nvSpPr>
        <p:spPr>
          <a:xfrm>
            <a:off x="21336120" y="9906120"/>
            <a:ext cx="972324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 Chose This Topic</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 chose this topic because 5 years ago my little brother suffered a traumatic brain injury.  My parents were very proactive about putting me in therapy and making sure that I understood my own emotions.  It is my hopes, that once I enter my professional field, that I am able to help other families cope with and understand their family member’s diagnosis.  While it is important to focus on the diagnosed child, it is also important to focus on the support system surrounding the child so that they have a solid understanding of how the diagnosis will not only affect their family member, but will affect them as well.</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91" name="Picture 12" descr="400952_10150462267166441_523636440_8907502_1158026957_a.jpg"/>
          <p:cNvPicPr/>
          <p:nvPr/>
        </p:nvPicPr>
        <p:blipFill>
          <a:blip r:embed="rId3"/>
          <a:stretch/>
        </p:blipFill>
        <p:spPr>
          <a:xfrm>
            <a:off x="14478120" y="8686800"/>
            <a:ext cx="2590560" cy="4448160"/>
          </a:xfrm>
          <a:prstGeom prst="rect">
            <a:avLst/>
          </a:prstGeom>
          <a:ln w="0">
            <a:noFill/>
          </a:ln>
        </p:spPr>
      </p:pic>
      <p:sp>
        <p:nvSpPr>
          <p:cNvPr id="92" name="TextBox 11"/>
          <p:cNvSpPr/>
          <p:nvPr/>
        </p:nvSpPr>
        <p:spPr>
          <a:xfrm>
            <a:off x="762120" y="14249520"/>
            <a:ext cx="198882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ults found have done nothing  but support what my observations have showed me.  A diagnosis does not just happen to the child, it happens to the entire family.  All aspects of the family dynamic have shifted. And it takes time and effort to come to terms with what is going on inside and outside of the home.  An article written titled </a:t>
            </a:r>
            <a:r>
              <a:rPr b="0" i="1" lang="en-US" sz="2400" spc="-1" strike="noStrike">
                <a:solidFill>
                  <a:srgbClr val="ffffff"/>
                </a:solidFill>
                <a:latin typeface="Arial"/>
              </a:rPr>
              <a:t>How Will I Deal with the Diagnosis?  How will this Affect My Family? </a:t>
            </a:r>
            <a:r>
              <a:rPr b="0" lang="en-US" sz="2400" spc="-1" strike="noStrike">
                <a:solidFill>
                  <a:srgbClr val="ffffff"/>
                </a:solidFill>
                <a:latin typeface="Arial"/>
              </a:rPr>
              <a:t>Illustrated perfectly the steps that each family needs to take in order to assure that their child is as successful as possible.  This articles lists a few key points that each family needs to look into when they find out that their child has been diagnosed with an illness or disorder.  While this article is specific to Autism, it can really be applied to any diagnosis.  The first thing a family should I learn about the disorder; knowledge is power and the more that is known, the more that can be done to give your child a bright future.  The second step is to learn about your child; know their signs and symptoms because though two children may be diagnosed the same, they can be completely different.  The 3</a:t>
            </a:r>
            <a:r>
              <a:rPr b="0" lang="en-US" sz="2400" spc="-1" strike="noStrike" baseline="30000">
                <a:solidFill>
                  <a:srgbClr val="ffffff"/>
                </a:solidFill>
                <a:latin typeface="Arial"/>
              </a:rPr>
              <a:t>rd</a:t>
            </a:r>
            <a:r>
              <a:rPr b="0" lang="en-US" sz="2400" spc="-1" strike="noStrike">
                <a:solidFill>
                  <a:srgbClr val="ffffff"/>
                </a:solidFill>
                <a:latin typeface="Arial"/>
              </a:rPr>
              <a:t> step is to find a team of trusted professionals; if you have good people in your corner, then the outcome is always better.  The fourth step discussed in the article is to help others help the child; many disabilities are not visible to the eye, so it is best to inform those around you because knowledge is power.  The fifth and final step discussed in the article is to help your child turn their obsession into a passion.  While that may seem only applicable to Autism, it is not.  When observing at Camp Flame Catcher, there was a little girl who had undergone many brain surgeries in an attempt to control her seizures.  These operations left her physically and cognitively disabled.  But that did not take away her obsession with horses.  That obsession was channeled into a passion when she was the first one on the horses each day, and the last one off.  Nothing stopped her from doing what she loved, and she had a strong support team surrounding her to help nurture her passio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Megan Korengel</cp:lastModifiedBy>
  <dcterms:modified xsi:type="dcterms:W3CDTF">2013-11-20T21:27:11Z</dcterms:modified>
  <cp:revision>58</cp:revision>
  <dc:subject/>
  <dc:title>PowerPoint Presentation</dc:title>
</cp:coreProperties>
</file>