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FFE9-8A96-4D4B-BAF2-26FAF62D8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E2A5-990F-4B62-BF94-B41DDEC1F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F40A-6E76-4A4B-B822-A379D252E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2819-06D4-4F22-A4CC-4BF77F1F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CA3C-1AB0-4181-B9E7-3DA9683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CA29-FD6D-4FE9-917F-BCEC1447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494B-D517-4A50-9EA9-0AB91ADB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292E-0493-463A-A7EE-AD884CC0E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879480"/>
            <a:ext cx="296258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D25-527B-4142-8555-10CB2B99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A14-C724-49AB-BBF7-071A8F389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C63F-C9BC-4CB8-AAA7-8E6A7100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8CA1-1704-4AF7-8AF3-BB50117E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4680" indent="-1174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5484960" indent="-782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0340360"/>
            <a:ext cx="104234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BA39-18E3-4F14-8AAB-24358E2B78E8}" type="slidenum">
              <a:rPr b="0" lang="en-US" sz="4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2962620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  <a:ea typeface="Arial"/>
              </a:rPr>
              <a:t>Phonics and Whole Language Learning</a:t>
            </a:r>
            <a:br>
              <a:rPr sz="10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itlin Cla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iversity of Cincinnati, (College of Education/Middle Childhood Education Natural Science and Language Ar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rk2cb@mail.uc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94488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09480" y="4952880"/>
            <a:ext cx="985068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of this study was to investigate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1910960"/>
            <a:ext cx="98344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Lit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efine t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 research stat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1430000" y="5029200"/>
            <a:ext cx="99075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text about observation and how you went about answering your question- we will work on this together, as well so do not worry if this is not perf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38080" y="8077320"/>
            <a:ext cx="94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ques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2479120" y="5562720"/>
            <a:ext cx="9820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Im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sert how this shapes you as a profess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2475880" y="1629396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A ci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1582280" y="11834640"/>
            <a:ext cx="9723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did you find ou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2479120" y="1182204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 Chose This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plain why you chose this topic- optional categ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Senior Pic.jpg"/>
          <p:cNvPicPr/>
          <p:nvPr/>
        </p:nvPicPr>
        <p:blipFill>
          <a:blip r:embed="rId2"/>
          <a:stretch/>
        </p:blipFill>
        <p:spPr>
          <a:xfrm>
            <a:off x="28876680" y="28440"/>
            <a:ext cx="40082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3:22:14Z</dcterms:created>
  <dc:creator>Homefries</dc:creator>
  <dc:description/>
  <dc:language>en-US</dc:language>
  <cp:lastModifiedBy>Caitlin Clark</cp:lastModifiedBy>
  <dcterms:modified xsi:type="dcterms:W3CDTF">2013-10-28T21:45:18Z</dcterms:modified>
  <cp:revision>50</cp:revision>
  <dc:subject/>
  <dc:title>PowerPoint Presentation</dc:title>
</cp:coreProperties>
</file>