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AEC-C8F1-4A6C-BC14-CBD27D38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6D8-0C5F-487A-ABF9-3E3AC91D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A85-B00F-4A8B-9A14-712C936F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F1C-2DC6-4060-A7E6-54024BB8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A82-1B1A-4A58-A6A8-6AF855D4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753-9AEE-4347-B797-9A1FAEA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2F5-948C-4689-9DFB-08F766F4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2DC-07F8-45E3-99F6-1040373B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879480"/>
            <a:ext cx="296258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067-32AD-4D96-AF68-FF63D5F4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33B-82AB-41C5-BEDB-7161280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47D-956A-4BC6-B844-F87543FA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D45-9288-4DD2-A1BE-32419C59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4680" indent="-1174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5484960" indent="-782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0340360"/>
            <a:ext cx="104234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495-3837-490D-BBC9-BAA70F249557}" type="slidenum">
              <a:rPr b="0" lang="en-US" sz="4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2962620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  <a:ea typeface="Arial"/>
              </a:rPr>
              <a:t>Phonics and Whole Language Learning</a:t>
            </a:r>
            <a:br>
              <a:rPr sz="10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itlin Cla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iversity of Cincinnati, (College of Education/Middle Childhood Education Natural Science and Language Art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rk2cb@mail.uc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94488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09480" y="4952880"/>
            <a:ext cx="985068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rpose of this study was to investigate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1910960"/>
            <a:ext cx="98344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Lit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efine t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 research stat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1430000" y="5029200"/>
            <a:ext cx="99075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text about observation and how you went about answering your question- we will work on this together, as well so do not worry if this is not perf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38080" y="8077320"/>
            <a:ext cx="94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ques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2479120" y="5562720"/>
            <a:ext cx="9820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Im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sert how this shapes you as a profess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2475880" y="1629396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A ci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11582280" y="11834640"/>
            <a:ext cx="9723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did you find ou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2479120" y="1182204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 Chose This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plain why you chose this topic- optional categ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Senior Pic.jpg"/>
          <p:cNvPicPr/>
          <p:nvPr/>
        </p:nvPicPr>
        <p:blipFill>
          <a:blip r:embed="rId2"/>
          <a:stretch/>
        </p:blipFill>
        <p:spPr>
          <a:xfrm>
            <a:off x="28876680" y="28440"/>
            <a:ext cx="40082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3:22:14Z</dcterms:created>
  <dc:creator>Homefries</dc:creator>
  <dc:description/>
  <dc:language>en-US</dc:language>
  <cp:lastModifiedBy>Caitlin Clark</cp:lastModifiedBy>
  <dcterms:modified xsi:type="dcterms:W3CDTF">2013-10-28T21:45:18Z</dcterms:modified>
  <cp:revision>50</cp:revision>
  <dc:subject/>
  <dc:title>PowerPoint Presentation</dc:title>
</cp:coreProperties>
</file>