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1ACA-F172-4702-A59A-271FC801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296258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6280" y="12686040"/>
            <a:ext cx="296258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C6EF-2FC8-44CF-8F0E-4C4E9196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76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6280" y="1268604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760" y="1268604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6CD2-6A4A-4CF8-8A67-87F824083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920" y="512136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560" y="512136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6280" y="1268604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920" y="1268604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560" y="12686040"/>
            <a:ext cx="953928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D6DF-5D3A-41BA-BCFC-4FCB7E83C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6280" y="5121360"/>
            <a:ext cx="29625840" cy="1448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224A-A394-42E9-90AE-C0E957D7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296258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EA9E-7EA0-4BB2-A354-8B23A296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144572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760" y="5121360"/>
            <a:ext cx="144572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748A-23A9-4DE1-939F-A8FE6C55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C9F1-21A2-4A2B-B390-1DDE42A3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6280" y="879480"/>
            <a:ext cx="29625840" cy="169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558B-B1A1-48CE-9985-E3136061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760" y="5121360"/>
            <a:ext cx="144572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6280" y="1268604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925B-BDAE-44D1-814F-F02641AF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144572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76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760" y="1268604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F045-91D7-4937-AA76-A3EA2C97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628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760" y="5121360"/>
            <a:ext cx="144572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6280" y="12686040"/>
            <a:ext cx="29625840" cy="690804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E99C-28E5-437B-AEDF-8B93AEB39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46280" y="879480"/>
            <a:ext cx="2962584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5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46280" y="5121360"/>
            <a:ext cx="29625840" cy="144828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t">
            <a:normAutofit/>
          </a:bodyPr>
          <a:p>
            <a:pPr marL="1174680" indent="-117468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1" marL="2546280" indent="-97956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2" marL="3917880" indent="-782640">
              <a:spcBef>
                <a:spcPts val="27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3" marL="5484960" indent="-782640">
              <a:spcBef>
                <a:spcPts val="27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4" marL="7053120" indent="-7826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5" marL="7053120" indent="-7826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  <a:p>
            <a:pPr lvl="6" marL="7053120" indent="-782640">
              <a:spcBef>
                <a:spcPts val="275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46280" y="20340360"/>
            <a:ext cx="7680240" cy="11682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47480" y="20340360"/>
            <a:ext cx="10423440" cy="11682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591880" y="20340360"/>
            <a:ext cx="7680240" cy="11682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2A53-4463-49F9-9709-5DBBE90243DF}" type="slidenum">
              <a:rPr b="0" lang="en-US" sz="41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520" y="762120"/>
            <a:ext cx="29626200" cy="3657600"/>
          </a:xfrm>
          <a:prstGeom prst="rect">
            <a:avLst/>
          </a:prstGeom>
          <a:noFill/>
          <a:ln w="0">
            <a:noFill/>
          </a:ln>
        </p:spPr>
        <p:txBody>
          <a:bodyPr lIns="313560" rIns="313560" tIns="156600" bIns="1566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500" spc="-1" strike="noStrike">
                <a:solidFill>
                  <a:srgbClr val="000000"/>
                </a:solidFill>
                <a:latin typeface="Arial"/>
                <a:ea typeface="Arial"/>
              </a:rPr>
              <a:t>Phonics and Whole Language Learning</a:t>
            </a:r>
            <a:br>
              <a:rPr sz="10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itlin Clark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University of Cincinnati, (College of Education/Middle Childhood Education Natural Science and Language Arts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lark2cb@mail.uc.e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685800" y="838080"/>
            <a:ext cx="3944880" cy="1524240"/>
          </a:xfrm>
          <a:prstGeom prst="rect">
            <a:avLst/>
          </a:prstGeom>
          <a:ln w="0">
            <a:noFill/>
          </a:ln>
        </p:spPr>
      </p:pic>
      <p:sp>
        <p:nvSpPr>
          <p:cNvPr id="43" name="TextBox 3"/>
          <p:cNvSpPr/>
          <p:nvPr/>
        </p:nvSpPr>
        <p:spPr>
          <a:xfrm>
            <a:off x="609480" y="4952880"/>
            <a:ext cx="9850680" cy="14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156600" bIns="15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urpose of this study was to investigate 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685800" y="11910960"/>
            <a:ext cx="983448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156600" bIns="15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 Litera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Define term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ious research states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11430000" y="5029200"/>
            <a:ext cx="9907560" cy="21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156600" bIns="15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sert text about observation and how you went about answering your question- we will work on this together, as well so do not worry if this is not perfec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1"/>
          <p:cNvSpPr/>
          <p:nvPr/>
        </p:nvSpPr>
        <p:spPr>
          <a:xfrm>
            <a:off x="838080" y="8077320"/>
            <a:ext cx="94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Ques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sert ques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22479120" y="5562720"/>
            <a:ext cx="9820080" cy="25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156600" bIns="15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fessional Implic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nsert how this shapes you as a professional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10"/>
          <p:cNvSpPr/>
          <p:nvPr/>
        </p:nvSpPr>
        <p:spPr>
          <a:xfrm>
            <a:off x="22475880" y="16293960"/>
            <a:ext cx="982008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156600" bIns="15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PA citation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11582280" y="11834640"/>
            <a:ext cx="972360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156600" bIns="15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what did you find out?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22479120" y="11822040"/>
            <a:ext cx="982008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560" rIns="313560" tIns="156600" bIns="15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I Chose This Top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explain why you chose this topic- optional categor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" descr="Senior Pic.jpg"/>
          <p:cNvPicPr/>
          <p:nvPr/>
        </p:nvPicPr>
        <p:blipFill>
          <a:blip r:embed="rId2"/>
          <a:stretch/>
        </p:blipFill>
        <p:spPr>
          <a:xfrm>
            <a:off x="28876680" y="28440"/>
            <a:ext cx="400824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2T13:22:14Z</dcterms:created>
  <dc:creator>Homefries</dc:creator>
  <dc:description/>
  <dc:language>en-US</dc:language>
  <cp:lastModifiedBy>Caitlin Clark</cp:lastModifiedBy>
  <dcterms:modified xsi:type="dcterms:W3CDTF">2013-10-28T21:45:18Z</dcterms:modified>
  <cp:revision>50</cp:revision>
  <dc:subject/>
  <dc:title>PowerPoint Presentation</dc:title>
</cp:coreProperties>
</file>