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DD5-1020-46FD-9749-9E48D838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290-8FD7-42BD-8DD3-ECAE8867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9F5-69C6-4E7B-9E9E-CB31AEC3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9D1-7534-47EC-9139-A09A5020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068-0DE5-4ED0-8BE3-87986789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164-EBE7-4E82-90B2-BC7072D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B3C-CF44-43CC-8D1C-6F0B60A9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85E-ADE1-42A8-8776-D6EC4B3F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F04-AA77-4586-BACD-7F08D4A5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325-52D4-4E51-8490-598A8A5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801-1E32-4A70-AEB2-0E0795DA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C8D-EF1C-4C3D-8323-AA7C752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4680" indent="-1174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5484960" indent="-782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0340360"/>
            <a:ext cx="104234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7589-E488-4D17-A82B-A3BC2FFA77C7}" type="slidenum">
              <a:rPr b="0" lang="en-US" sz="4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2962620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  <a:ea typeface="Arial"/>
              </a:rPr>
              <a:t>Phonics and Whole Language Learning</a:t>
            </a:r>
            <a:br>
              <a:rPr sz="10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itlin Cla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iversity of Cincinnati, (College of Education/Middle Childhood Education Natural Science and Language Ar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rk2cb@mail.uc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94488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9480" y="4952880"/>
            <a:ext cx="9850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was to investigate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1910960"/>
            <a:ext cx="98344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Lit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efine t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 research stat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1430000" y="5029200"/>
            <a:ext cx="99075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text about observation and how you went about answering your question- we will work on this together, as well so do not worry if this is not perf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38080" y="8077320"/>
            <a:ext cx="94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2479120" y="5562720"/>
            <a:ext cx="9820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sert how this shapes you as a profess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2475880" y="1629396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A ci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1582280" y="11834640"/>
            <a:ext cx="9723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did you find ou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479120" y="1182204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 Chose This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lain why you chose this topic- optional categ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Senior Pic.jpg"/>
          <p:cNvPicPr/>
          <p:nvPr/>
        </p:nvPicPr>
        <p:blipFill>
          <a:blip r:embed="rId2"/>
          <a:stretch/>
        </p:blipFill>
        <p:spPr>
          <a:xfrm>
            <a:off x="28876680" y="28440"/>
            <a:ext cx="40082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14Z</dcterms:created>
  <dc:creator>Homefries</dc:creator>
  <dc:description/>
  <dc:language>en-US</dc:language>
  <cp:lastModifiedBy>Caitlin Clark</cp:lastModifiedBy>
  <dcterms:modified xsi:type="dcterms:W3CDTF">2013-10-28T21:45:18Z</dcterms:modified>
  <cp:revision>50</cp:revision>
  <dc:subject/>
  <dc:title>PowerPoint Presentation</dc:title>
</cp:coreProperties>
</file>