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6C74E-DDAE-4F27-B83B-44D687D5C7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6"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7"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26898-FA69-48BA-ACB2-B598CB5A3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23"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24"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21AB6D1B-98DC-47E7-B051-26704B0F80F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A6B6B47-1E5F-4F37-979F-8EC455BBD1E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9CC933E-B90A-448A-A636-093F360B3CA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28"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29"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0"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B65F068-B1B3-43C7-AB8B-3DDEA6E7E16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32"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4"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5C62E51-95B8-41E5-BBF7-F43781846C7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36"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7"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8"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5C4CC8F-1DB8-44BD-B645-AC0AD47EC6B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40"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1"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96DD555-A427-470E-9C4C-2316E45F797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43"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4"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5"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6"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6D7F05EC-08AD-49CC-B539-047AC71712F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48"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9"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0"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1"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2"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3"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99F33864-C93E-405D-A6FA-405B181E42D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40DB8A26-C7C9-43E7-88ED-76728354A04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0"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2"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4FFBB-BCF3-412C-A35A-CEE05C436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71"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4C5E0D33-095A-43B1-9A9D-11C04307B96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73"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14A894F-B8ED-4435-BDEB-4D1C5EA5D9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75"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76"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9455192F-015E-4B6C-91AB-1F63F87DD0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9040224-2077-487B-8D27-D70BE13A98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6A3E439-6ED2-43A7-942C-63A51002B9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80"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1"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2"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3575E67-650C-417C-AA7D-3F3580826E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8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6"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3BB9F3C-0C0E-4E2C-B1F2-0C1C45EB8E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88"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0"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C70DA02-52E0-4772-A2D8-C1EC33FAC3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92"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3"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D32D057C-24EB-44A2-977B-13CF4892E82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95"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6"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7"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8"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BB6F7AB9-BD21-4BF8-9D85-F259D5A51F1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4"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6"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7"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94DF8-E7BD-430A-B906-88E95881DE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00"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1"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2"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3"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4"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5"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3FB7CA81-AC33-4445-82ED-DF8F1C91FA6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69FC45F-FAFB-4C8B-94A3-3C4B7094A93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21"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DBEB279-EE0E-4D2C-8F20-C09C2BE70FB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23"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5433B29-F89D-46AF-85CA-65C54897510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25"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26"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70E2C5B-5DC3-4E4E-9D47-06BCED2D169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130DB33-D4CB-4B07-A831-84F23584F7A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4502E5E-86C3-4F8C-A8E5-1AC4136689D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30"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1"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2"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5CE4F9-276E-48EE-98B3-8CD9D06221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3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6"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FD73579-5019-4D1E-8CC4-A64719A5AE8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38"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0"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B99DA3-D121-4776-96D2-C36A160072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8FFFA2-5ADE-46C2-9F42-55441DE856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42"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3"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A5F4DEA-AC51-491C-9EF8-F92EA878921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45"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6"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7"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8"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0AA00F9-D7AA-4339-BEAD-8158391255D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50"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1"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2"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3"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4"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5"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B7ABE47-8FDF-4158-90DF-87B28BEE253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D8D78098-3991-4120-A946-1C2F849364D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71"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7A77D23-4617-4978-919E-EBBAAC56E8F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73"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CB704CAD-D497-4F8A-8C4E-4F69423B5B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75"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76"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37E6A49-8C08-48DF-B57F-10513A4615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7F6CC796-A1DB-4FCE-AEBC-9893DADDD4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52BC728-4C7F-4760-B28E-8898CDFE250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80"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1"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2"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A824FE6-2FFC-4422-9CAD-6B1AB20F49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65"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DCDB28-6101-4E37-AA61-F5C695112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8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6"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156F6A6-68F1-44F5-B2C7-D947D01D771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88"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0"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97BBE51-E8F0-41F0-AE77-CF2C56A29E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92"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3"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32A2120-5C89-4E28-8D1D-D241BDB8F5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95"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6"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7"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8"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8979DD12-E781-455B-A35C-B0250D78D11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600"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1"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2"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3"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4"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5"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CB2705C7-1EA0-4A56-8FA7-9B58C1C8DAC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67"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D59513-87B9-4B37-B025-4E43C3EA38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69"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040F6A-6D55-4F02-92FB-1A1EC48495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5337D7-F421-4A24-9BB8-879478B87D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94E722-0A2B-4EDF-B8A1-28985BBB32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7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25D3C-3539-4A58-A12C-BDCEC70441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5"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8F128-018F-4917-93E2-392F3B0AF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78"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80"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2BE837-14FC-4231-B5E1-DD1AF8DDE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82"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8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84"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17EA9-C584-42ED-8056-E3BB2B19E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86"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87"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580EC8-0CEC-4AA8-9662-DA9F8337F4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8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0"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2"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CC8FA1-A1C7-4583-8625-81C09CBFCE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94"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5"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6"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7"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8"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9"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69BEFD-CE8B-41FE-8DD8-D1F779F68B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A6242E-A948-4D9E-AEDC-21FFE0AEBA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15"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8B6758-9851-4373-95A1-5FFBD7DA27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17"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91A71A-10FD-4894-8643-8E224D24D2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19"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2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9401AE-6514-4152-B36C-F71AAD36F7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C4BC6D-51E1-4184-A046-EC6B18474F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7"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6AB7B-9438-4E19-B470-E343B86F7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7DC7B3-ABD6-4EEB-8240-F6F978DBDD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2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2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2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2298B2-D677-4D48-B7CD-A974411990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28"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2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30"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48A33F-A382-43B1-AA48-C792CB1075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32"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3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34"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8AA4C0-6213-4489-8D5F-8A9C766935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36"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37"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2BB8B3-3C36-43C7-9C9F-848346334E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3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0"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2"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1E61DA-0397-4F58-B7CD-2428B64FB6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44"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5"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6"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7"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8"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9"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791227-D368-4EA9-8817-F1744687A7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AF18B416-7074-4269-A580-78D9F48C619C}"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67"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1545A01-204A-4AF2-B298-6BE26F4AA5C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69"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1B1E28C-1CCA-4C9E-AF3E-4EE84BB5656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9"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30E0F6-E210-47CC-A888-11792C22F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71"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72"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F2A02C5-7517-4784-981D-AE453A0FC12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8182915-8797-4893-A0F6-682D2251385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0F2CDC40-4FD4-4A63-9135-2A933F98DAA3}"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76"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77"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78"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DDA0C58-5360-4E97-92BB-80C9218966A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80"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1"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2"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DDC94A2-22E9-4686-BD7B-A1D17F818D2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8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6"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5D6C62F-F56F-45AE-A82D-A11F01D455B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88"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9"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6A5F7FE-00B6-41DF-B882-76CBC9A6412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91"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2"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3"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4"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2355BE24-A79D-40A0-9B05-1FFA691CB12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96"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7"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8"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9"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00"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01"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BCF4B919-FCB7-4B69-8F69-CF21903B2AF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C3ACC3-096E-4829-98D8-D3613D9F6A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C3910-6559-41BB-B595-A1CD32767E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18"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53D906-1DB4-4422-B493-97BC1A3EEA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20"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7E16703-68D5-4766-8E5B-8ED696DB8C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22"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23"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B54065-963B-421A-B656-FB3647331A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1FA3A8-684F-4D55-9FE3-98A2D80D65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D5DF42-B1D6-48FB-8941-396DF72F94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27"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28"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29"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D945E2-ED59-4115-8970-23E6BC056B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31"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32"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33"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EDAF30-9B8B-4B43-97F7-98248B7AC7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35"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36"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37"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55390B-12D3-4CAA-B3A3-74E275E9C6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39"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0"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D2A53A-7013-4DDD-A98E-B5E8044AC6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42"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4"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5"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E480D9-3AB1-4B03-A272-60F5600D98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A14EA-0EDE-4E3F-8D0E-031AF0A8B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47"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8"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9"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50"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51"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52"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093204-930C-4A34-A53F-C7AEB2745B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CD01E7-CAC6-489F-87ED-044DD60AD7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70"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95940A-264A-4157-8652-4F3CC8D3B9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72"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83CF28-FF34-421D-B169-B12A921499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7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7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EF191C0-F657-4B20-BED6-04B2E778CB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8FB874-5B12-48DF-9DCD-2F750F35CD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75090C-A5ED-4CBE-AC6F-7E2996F2E5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7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F56AD2-ABAB-4EC5-BCC0-E5EF974EBC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83"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4"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5"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57680E-84C4-419C-A5BB-D7A4CAFB55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87"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8"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9"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04E138-3BE6-4985-928B-3E68401997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14FCA-FDAC-4CB2-8999-B6DCC84CA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91"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2"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777FC4-D47F-4AEE-B940-E389927259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9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7"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083974-9195-495D-B529-F457F9A85A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99"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0"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1"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2"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3"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4"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58E5591-AA8F-4682-81E4-821B6A17688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1106A6-68EC-45AB-BC45-66F5009D90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0"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51AB18-961B-40FF-9218-FD3AC62A33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2"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3E68EE-167F-42BA-84CF-FF20B0A3AD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2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CA3791-81DC-4F5D-B1F9-4C705FCD04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F1ECEA-BD54-47DB-B713-8208166EEE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33C8A3-0E82-4995-9330-F3329F2FEC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285EDA-C3DD-47D5-AA2B-A4B2EC9783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8"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DB4DF-907D-4F6F-9CD3-6A0DC8F46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33"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4"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5"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458B33-407C-4E41-AFD9-F643531562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37"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8"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9"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2D7F16-3853-4F08-A3F4-BC9640EB0C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41"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2"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122F54-9CDE-49D9-8A97-69F99462CF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4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7"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6286E9-FB9B-4920-B447-C240553D7E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49"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0"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1"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2"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3"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4"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AC0455-A9D3-4174-9029-623E01353E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B4180E-D4D6-489A-BD89-912351E892B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67"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57A787-D4D1-48B8-B747-DF13AAFC6B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69"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5881EE-83D8-4ECA-A0C3-CCE37939F7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71"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72"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F723C1-D18D-4DDD-A660-ECF2CAB69A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A1AAA1-BA2E-4A8E-AA8B-A9FBE0B574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8C295-43CA-44A7-9EC8-81266665F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2D3DAB-BE4A-4F57-BFE0-F9BB41A4A8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76"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77"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78"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4948F2-4C2A-4D11-BBB8-636E1F149B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80"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1"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2"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A1FE59-33C5-431D-B185-619ADC0E2C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8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6"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2204F9-0947-4352-ABA6-4764406089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88"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9"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E3856D-6533-4099-A9D0-A44176E5E6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91"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2"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3"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4"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C03BCCD-8F15-4BDA-9DF0-670B6A255D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96"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7"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8"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9"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00"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01"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33CCCC-231F-4DD0-8DFE-990DA80159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56343DD1-5CFD-4E2E-9B7C-F5DD3290017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19"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547CBC9-4912-4533-831D-A79530A5725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21"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D0F55EF0-464F-4B9D-8DB9-D34C4381625C}"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1"/>
          <p:cNvSpPr>
            <a:spLocks noGrp="1"/>
          </p:cNvSpPr>
          <p:nvPr>
            <p:ph type="dt" idx="1"/>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6" name="PlaceHolder 2"/>
          <p:cNvSpPr>
            <a:spLocks noGrp="1"/>
          </p:cNvSpPr>
          <p:nvPr>
            <p:ph type="ftr" idx="2"/>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9"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PlaceHolder 3"/>
          <p:cNvSpPr>
            <a:spLocks noGrp="1"/>
          </p:cNvSpPr>
          <p:nvPr>
            <p:ph type="sldNum" idx="3"/>
          </p:nvPr>
        </p:nvSpPr>
        <p:spPr>
          <a:xfrm>
            <a:off x="15636960" y="332892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67F87-1A13-463C-9420-4D4BCC3DAD0B}"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
        <p:nvSpPr>
          <p:cNvPr id="12" name="PlaceHolder 4"/>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13" name="PlaceHolder 5"/>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549360" y="1706400"/>
            <a:ext cx="317991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455" name="Rectangle 20"/>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Rectangle 23"/>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Rectangle 24"/>
          <p:cNvSpPr/>
          <p:nvPr/>
        </p:nvSpPr>
        <p:spPr>
          <a:xfrm>
            <a:off x="0" y="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Rectangle 25"/>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Rectangle 20"/>
          <p:cNvSpPr/>
          <p:nvPr/>
        </p:nvSpPr>
        <p:spPr>
          <a:xfrm>
            <a:off x="549360" y="487440"/>
            <a:ext cx="31799160" cy="96516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Rectangle 21"/>
          <p:cNvSpPr/>
          <p:nvPr/>
        </p:nvSpPr>
        <p:spPr>
          <a:xfrm>
            <a:off x="549360" y="1951200"/>
            <a:ext cx="9874080" cy="18775080"/>
          </a:xfrm>
          <a:prstGeom prst="rect">
            <a:avLst/>
          </a:prstGeom>
          <a:solidFill>
            <a:srgbClr val="d16349"/>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Rectangle 23"/>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Oval 24"/>
          <p:cNvSpPr/>
          <p:nvPr/>
        </p:nvSpPr>
        <p:spPr>
          <a:xfrm>
            <a:off x="4664160" y="7318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3" name="Oval 25"/>
          <p:cNvSpPr/>
          <p:nvPr/>
        </p:nvSpPr>
        <p:spPr>
          <a:xfrm>
            <a:off x="5003640" y="1033560"/>
            <a:ext cx="1514520" cy="134604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ectangle 26"/>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466"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467" name="PlaceHolder 3"/>
          <p:cNvSpPr>
            <a:spLocks noGrp="1"/>
          </p:cNvSpPr>
          <p:nvPr>
            <p:ph type="sldNum" idx="28"/>
          </p:nvPr>
        </p:nvSpPr>
        <p:spPr>
          <a:xfrm>
            <a:off x="4936680" y="999720"/>
            <a:ext cx="1646280" cy="14130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861EA-9120-44E9-9376-1F5C3F27CCCA}"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
        <p:nvSpPr>
          <p:cNvPr id="468" name="PlaceHolder 4"/>
          <p:cNvSpPr>
            <a:spLocks noGrp="1"/>
          </p:cNvSpPr>
          <p:nvPr>
            <p:ph type="dt" idx="29"/>
          </p:nvPr>
        </p:nvSpPr>
        <p:spPr>
          <a:xfrm>
            <a:off x="2083716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469" name="PlaceHolder 5"/>
          <p:cNvSpPr>
            <a:spLocks noGrp="1"/>
          </p:cNvSpPr>
          <p:nvPr>
            <p:ph type="ftr" idx="30"/>
          </p:nvPr>
        </p:nvSpPr>
        <p:spPr>
          <a:xfrm>
            <a:off x="1085400" y="20515320"/>
            <a:ext cx="1290492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8"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9"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0"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513"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4"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516"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517" name="PlaceHolder 3"/>
          <p:cNvSpPr>
            <a:spLocks noGrp="1"/>
          </p:cNvSpPr>
          <p:nvPr>
            <p:ph type="dt" idx="31"/>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518" name="PlaceHolder 4"/>
          <p:cNvSpPr>
            <a:spLocks noGrp="1"/>
          </p:cNvSpPr>
          <p:nvPr>
            <p:ph type="ftr" idx="32"/>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5"/>
          <p:cNvSpPr>
            <a:spLocks noGrp="1"/>
          </p:cNvSpPr>
          <p:nvPr>
            <p:ph type="sldNum" idx="33"/>
          </p:nvPr>
        </p:nvSpPr>
        <p:spPr>
          <a:xfrm>
            <a:off x="15636960" y="332892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6A5F0-C4B4-45F7-8639-C6C5E0705B33}"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7" name="Rectangle 20"/>
          <p:cNvSpPr/>
          <p:nvPr/>
        </p:nvSpPr>
        <p:spPr>
          <a:xfrm>
            <a:off x="25238160" y="0"/>
            <a:ext cx="768024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Rectangle 23"/>
          <p:cNvSpPr/>
          <p:nvPr/>
        </p:nvSpPr>
        <p:spPr>
          <a:xfrm>
            <a:off x="0" y="0"/>
            <a:ext cx="32918400" cy="4968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Rectangle 24"/>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Rectangle 19"/>
          <p:cNvSpPr/>
          <p:nvPr/>
        </p:nvSpPr>
        <p:spPr>
          <a:xfrm>
            <a:off x="527040" y="2045340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1" name="Rectangle 20"/>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2" name="Straight Connector 21"/>
          <p:cNvSpPr/>
          <p:nvPr/>
        </p:nvSpPr>
        <p:spPr>
          <a:xfrm>
            <a:off x="25720560" y="496800"/>
            <a:ext cx="0" cy="1998504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563" name="Oval 23"/>
          <p:cNvSpPr/>
          <p:nvPr/>
        </p:nvSpPr>
        <p:spPr>
          <a:xfrm>
            <a:off x="24623640" y="9363240"/>
            <a:ext cx="2193840" cy="194940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4" name="Oval 24"/>
          <p:cNvSpPr/>
          <p:nvPr/>
        </p:nvSpPr>
        <p:spPr>
          <a:xfrm>
            <a:off x="24963480" y="9664560"/>
            <a:ext cx="1514520" cy="13464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566"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567" name="PlaceHolder 3"/>
          <p:cNvSpPr>
            <a:spLocks noGrp="1"/>
          </p:cNvSpPr>
          <p:nvPr>
            <p:ph type="sldNum" idx="34"/>
          </p:nvPr>
        </p:nvSpPr>
        <p:spPr>
          <a:xfrm>
            <a:off x="24896520" y="9631440"/>
            <a:ext cx="1646280" cy="141264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50566-85E5-48A5-8B1F-FD6A874E8E74}"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
        <p:nvSpPr>
          <p:cNvPr id="568" name="PlaceHolder 4"/>
          <p:cNvSpPr>
            <a:spLocks noGrp="1"/>
          </p:cNvSpPr>
          <p:nvPr>
            <p:ph type="dt" idx="35"/>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569" name="PlaceHolder 5"/>
          <p:cNvSpPr>
            <a:spLocks noGrp="1"/>
          </p:cNvSpPr>
          <p:nvPr>
            <p:ph type="ftr" idx="36"/>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Rectangle 20"/>
          <p:cNvSpPr/>
          <p:nvPr/>
        </p:nvSpPr>
        <p:spPr>
          <a:xfrm>
            <a:off x="32369040" y="936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Rectangle 23"/>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24"/>
          <p:cNvSpPr/>
          <p:nvPr/>
        </p:nvSpPr>
        <p:spPr>
          <a:xfrm>
            <a:off x="0" y="0"/>
            <a:ext cx="32918400" cy="804708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Rectangle 19"/>
          <p:cNvSpPr/>
          <p:nvPr/>
        </p:nvSpPr>
        <p:spPr>
          <a:xfrm>
            <a:off x="527040" y="2045340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Straight Connector 20"/>
          <p:cNvSpPr/>
          <p:nvPr/>
        </p:nvSpPr>
        <p:spPr>
          <a:xfrm>
            <a:off x="560520" y="7743960"/>
            <a:ext cx="317973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56" name="Rectangle 21"/>
          <p:cNvSpPr/>
          <p:nvPr/>
        </p:nvSpPr>
        <p:spPr>
          <a:xfrm>
            <a:off x="549360" y="487440"/>
            <a:ext cx="31799160" cy="2095164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Oval 23"/>
          <p:cNvSpPr/>
          <p:nvPr/>
        </p:nvSpPr>
        <p:spPr>
          <a:xfrm>
            <a:off x="15362280" y="6769080"/>
            <a:ext cx="2193840" cy="195120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Oval 24"/>
          <p:cNvSpPr/>
          <p:nvPr/>
        </p:nvSpPr>
        <p:spPr>
          <a:xfrm>
            <a:off x="15702120" y="7070760"/>
            <a:ext cx="1514160" cy="134604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60"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61" name="PlaceHolder 3"/>
          <p:cNvSpPr>
            <a:spLocks noGrp="1"/>
          </p:cNvSpPr>
          <p:nvPr>
            <p:ph type="dt" idx="4"/>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62" name="PlaceHolder 4"/>
          <p:cNvSpPr>
            <a:spLocks noGrp="1"/>
          </p:cNvSpPr>
          <p:nvPr>
            <p:ph type="ftr" idx="5"/>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PlaceHolder 5"/>
          <p:cNvSpPr>
            <a:spLocks noGrp="1"/>
          </p:cNvSpPr>
          <p:nvPr>
            <p:ph type="sldNum" idx="6"/>
          </p:nvPr>
        </p:nvSpPr>
        <p:spPr>
          <a:xfrm>
            <a:off x="15636960" y="703908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DFAE9-BD2A-4243-8D54-7C6AC2FD28B7}"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107"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110"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111" name="PlaceHolder 3"/>
          <p:cNvSpPr>
            <a:spLocks noGrp="1"/>
          </p:cNvSpPr>
          <p:nvPr>
            <p:ph type="dt" idx="7"/>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112" name="PlaceHolder 4"/>
          <p:cNvSpPr>
            <a:spLocks noGrp="1"/>
          </p:cNvSpPr>
          <p:nvPr>
            <p:ph type="ftr" idx="8"/>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PlaceHolder 5"/>
          <p:cNvSpPr>
            <a:spLocks noGrp="1"/>
          </p:cNvSpPr>
          <p:nvPr>
            <p:ph type="sldNum" idx="9"/>
          </p:nvPr>
        </p:nvSpPr>
        <p:spPr>
          <a:xfrm>
            <a:off x="15702120" y="3284640"/>
            <a:ext cx="1645920" cy="141264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98392-3E1B-4E1A-B0FB-0D6B1B8F25E2}"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Rectangle 20"/>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Rectangle 23"/>
          <p:cNvSpPr/>
          <p:nvPr/>
        </p:nvSpPr>
        <p:spPr>
          <a:xfrm>
            <a:off x="0" y="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Rectangle 24"/>
          <p:cNvSpPr/>
          <p:nvPr/>
        </p:nvSpPr>
        <p:spPr>
          <a:xfrm>
            <a:off x="32369040" y="6048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ectangle 25"/>
          <p:cNvSpPr/>
          <p:nvPr/>
        </p:nvSpPr>
        <p:spPr>
          <a:xfrm>
            <a:off x="549360" y="7315200"/>
            <a:ext cx="31799160" cy="97488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Rectangle 26"/>
          <p:cNvSpPr/>
          <p:nvPr/>
        </p:nvSpPr>
        <p:spPr>
          <a:xfrm>
            <a:off x="560520" y="455760"/>
            <a:ext cx="31797360" cy="6846840"/>
          </a:xfrm>
          <a:prstGeom prst="rect">
            <a:avLst/>
          </a:prstGeom>
          <a:solidFill>
            <a:srgbClr val="d16349"/>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Rectangle 21"/>
          <p:cNvSpPr/>
          <p:nvPr/>
        </p:nvSpPr>
        <p:spPr>
          <a:xfrm>
            <a:off x="527040" y="2045340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Rectangle 23"/>
          <p:cNvSpPr/>
          <p:nvPr/>
        </p:nvSpPr>
        <p:spPr>
          <a:xfrm>
            <a:off x="549360" y="487440"/>
            <a:ext cx="31799160" cy="2095164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Straight Connector 24"/>
          <p:cNvSpPr/>
          <p:nvPr/>
        </p:nvSpPr>
        <p:spPr>
          <a:xfrm>
            <a:off x="549360" y="7802640"/>
            <a:ext cx="317991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159" name="Oval 25"/>
          <p:cNvSpPr/>
          <p:nvPr/>
        </p:nvSpPr>
        <p:spPr>
          <a:xfrm>
            <a:off x="15362280" y="6769080"/>
            <a:ext cx="2193840" cy="195120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Oval 26"/>
          <p:cNvSpPr/>
          <p:nvPr/>
        </p:nvSpPr>
        <p:spPr>
          <a:xfrm>
            <a:off x="15702120" y="7070760"/>
            <a:ext cx="1514160" cy="134604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162"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163" name="PlaceHolder 3"/>
          <p:cNvSpPr>
            <a:spLocks noGrp="1"/>
          </p:cNvSpPr>
          <p:nvPr>
            <p:ph type="ftr" idx="10"/>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PlaceHolder 4"/>
          <p:cNvSpPr>
            <a:spLocks noGrp="1"/>
          </p:cNvSpPr>
          <p:nvPr>
            <p:ph type="dt" idx="11"/>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165" name="PlaceHolder 5"/>
          <p:cNvSpPr>
            <a:spLocks noGrp="1"/>
          </p:cNvSpPr>
          <p:nvPr>
            <p:ph type="sldNum" idx="12"/>
          </p:nvPr>
        </p:nvSpPr>
        <p:spPr>
          <a:xfrm>
            <a:off x="15636960" y="703908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EB18A-E3D8-4BC7-A9BB-EB35155FEF60}"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209"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Straight Connector 19"/>
          <p:cNvSpPr/>
          <p:nvPr/>
        </p:nvSpPr>
        <p:spPr>
          <a:xfrm flipV="1">
            <a:off x="16427520" y="5041440"/>
            <a:ext cx="31680" cy="15422760"/>
          </a:xfrm>
          <a:prstGeom prst="line">
            <a:avLst/>
          </a:prstGeom>
          <a:ln w="9360">
            <a:solidFill>
              <a:srgbClr val="646b86"/>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21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213"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214" name="PlaceHolder 3"/>
          <p:cNvSpPr>
            <a:spLocks noGrp="1"/>
          </p:cNvSpPr>
          <p:nvPr>
            <p:ph type="dt" idx="13"/>
          </p:nvPr>
        </p:nvSpPr>
        <p:spPr>
          <a:xfrm>
            <a:off x="20848320" y="2051208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215" name="PlaceHolder 4"/>
          <p:cNvSpPr>
            <a:spLocks noGrp="1"/>
          </p:cNvSpPr>
          <p:nvPr>
            <p:ph type="ftr" idx="14"/>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PlaceHolder 5"/>
          <p:cNvSpPr>
            <a:spLocks noGrp="1"/>
          </p:cNvSpPr>
          <p:nvPr>
            <p:ph type="sldNum" idx="15"/>
          </p:nvPr>
        </p:nvSpPr>
        <p:spPr>
          <a:xfrm>
            <a:off x="15636960" y="332892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25FDC-78CB-4D65-8A17-7251FD7A2D0F}"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16459200" y="7040160"/>
            <a:ext cx="0" cy="13401720"/>
          </a:xfrm>
          <a:prstGeom prst="line">
            <a:avLst/>
          </a:prstGeom>
          <a:ln w="9360">
            <a:solidFill>
              <a:srgbClr val="646b86"/>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254" name="Rectangle 20"/>
          <p:cNvSpPr/>
          <p:nvPr/>
        </p:nvSpPr>
        <p:spPr>
          <a:xfrm>
            <a:off x="0" y="0"/>
            <a:ext cx="32918400" cy="463248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Rectangle 23"/>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Rectangle 24"/>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Rectangle 25"/>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Rectangle 20"/>
          <p:cNvSpPr/>
          <p:nvPr/>
        </p:nvSpPr>
        <p:spPr>
          <a:xfrm>
            <a:off x="549360" y="4389480"/>
            <a:ext cx="31799160" cy="2925720"/>
          </a:xfrm>
          <a:prstGeom prst="rect">
            <a:avLst/>
          </a:prstGeom>
          <a:solidFill>
            <a:srgbClr val="d16349"/>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Rectangle 21"/>
          <p:cNvSpPr/>
          <p:nvPr/>
        </p:nvSpPr>
        <p:spPr>
          <a:xfrm>
            <a:off x="525600" y="20453400"/>
            <a:ext cx="31799160" cy="99540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Straight Connector 23"/>
          <p:cNvSpPr/>
          <p:nvPr/>
        </p:nvSpPr>
        <p:spPr>
          <a:xfrm>
            <a:off x="549360" y="4095720"/>
            <a:ext cx="317991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261" name="Rectangle 24"/>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Oval 25"/>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Oval 26"/>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265"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266" name="PlaceHolder 3"/>
          <p:cNvSpPr>
            <a:spLocks noGrp="1"/>
          </p:cNvSpPr>
          <p:nvPr>
            <p:ph type="dt" idx="16"/>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267" name="PlaceHolder 4"/>
          <p:cNvSpPr>
            <a:spLocks noGrp="1"/>
          </p:cNvSpPr>
          <p:nvPr>
            <p:ph type="ftr" idx="17"/>
          </p:nvPr>
        </p:nvSpPr>
        <p:spPr>
          <a:xfrm>
            <a:off x="1096920" y="2051208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PlaceHolder 5"/>
          <p:cNvSpPr>
            <a:spLocks noGrp="1"/>
          </p:cNvSpPr>
          <p:nvPr>
            <p:ph type="sldNum" idx="18"/>
          </p:nvPr>
        </p:nvSpPr>
        <p:spPr>
          <a:xfrm>
            <a:off x="15636960" y="3335400"/>
            <a:ext cx="1644480" cy="141264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AFB40-A02A-418E-BA91-CEA6C7D892A6}"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7"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9"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0"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1"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312"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315"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316" name="PlaceHolder 3"/>
          <p:cNvSpPr>
            <a:spLocks noGrp="1"/>
          </p:cNvSpPr>
          <p:nvPr>
            <p:ph type="dt" idx="19"/>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317" name="PlaceHolder 4"/>
          <p:cNvSpPr>
            <a:spLocks noGrp="1"/>
          </p:cNvSpPr>
          <p:nvPr>
            <p:ph type="ftr" idx="20"/>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PlaceHolder 5"/>
          <p:cNvSpPr>
            <a:spLocks noGrp="1"/>
          </p:cNvSpPr>
          <p:nvPr>
            <p:ph type="sldNum" idx="21"/>
          </p:nvPr>
        </p:nvSpPr>
        <p:spPr>
          <a:xfrm>
            <a:off x="15636960" y="3314880"/>
            <a:ext cx="1644480" cy="141264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D1E92-81DF-40AD-83E5-9E37DA78DA49}"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Rectangle 20"/>
          <p:cNvSpPr/>
          <p:nvPr/>
        </p:nvSpPr>
        <p:spPr>
          <a:xfrm>
            <a:off x="0" y="0"/>
            <a:ext cx="32918400" cy="4968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Rectangle 23"/>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Rectangle 24"/>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Rectangle 19"/>
          <p:cNvSpPr/>
          <p:nvPr/>
        </p:nvSpPr>
        <p:spPr>
          <a:xfrm>
            <a:off x="527040" y="2045340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Rectangle 20"/>
          <p:cNvSpPr/>
          <p:nvPr/>
        </p:nvSpPr>
        <p:spPr>
          <a:xfrm>
            <a:off x="549360" y="506520"/>
            <a:ext cx="31799160" cy="2095164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362"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363" name="PlaceHolder 3"/>
          <p:cNvSpPr>
            <a:spLocks noGrp="1"/>
          </p:cNvSpPr>
          <p:nvPr>
            <p:ph type="dt" idx="22"/>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364" name="PlaceHolder 4"/>
          <p:cNvSpPr>
            <a:spLocks noGrp="1"/>
          </p:cNvSpPr>
          <p:nvPr>
            <p:ph type="ftr" idx="23"/>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PlaceHolder 5"/>
          <p:cNvSpPr>
            <a:spLocks noGrp="1"/>
          </p:cNvSpPr>
          <p:nvPr>
            <p:ph type="sldNum" idx="24"/>
          </p:nvPr>
        </p:nvSpPr>
        <p:spPr>
          <a:xfrm>
            <a:off x="15362280" y="20239200"/>
            <a:ext cx="219384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E3C31-FF49-4D0B-92F1-AC6790E026ED}" type="slidenum">
              <a:rPr b="0" lang="en-US" sz="5500" spc="-1" strike="noStrike">
                <a:solidFill>
                  <a:srgbClr val="ffffff"/>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549360" y="487440"/>
            <a:ext cx="31799160" cy="9763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3" name="Rectangle 20"/>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4" name="Rectangle 23"/>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5" name="Rectangle 24"/>
          <p:cNvSpPr/>
          <p:nvPr/>
        </p:nvSpPr>
        <p:spPr>
          <a:xfrm>
            <a:off x="0" y="0"/>
            <a:ext cx="32918400" cy="38088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Rectangle 25"/>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7" name="Rectangle 20"/>
          <p:cNvSpPr/>
          <p:nvPr/>
        </p:nvSpPr>
        <p:spPr>
          <a:xfrm>
            <a:off x="549360" y="1951200"/>
            <a:ext cx="9874080" cy="18775080"/>
          </a:xfrm>
          <a:prstGeom prst="rect">
            <a:avLst/>
          </a:prstGeom>
          <a:solidFill>
            <a:srgbClr val="d16349"/>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Rectangle 21"/>
          <p:cNvSpPr/>
          <p:nvPr/>
        </p:nvSpPr>
        <p:spPr>
          <a:xfrm>
            <a:off x="549360" y="487440"/>
            <a:ext cx="31799160" cy="2095164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9" name="Straight Connector 23"/>
          <p:cNvSpPr/>
          <p:nvPr/>
        </p:nvSpPr>
        <p:spPr>
          <a:xfrm>
            <a:off x="549360" y="1706400"/>
            <a:ext cx="317991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410" name="Oval 24"/>
          <p:cNvSpPr/>
          <p:nvPr/>
        </p:nvSpPr>
        <p:spPr>
          <a:xfrm>
            <a:off x="4664160" y="7318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Oval 25"/>
          <p:cNvSpPr/>
          <p:nvPr/>
        </p:nvSpPr>
        <p:spPr>
          <a:xfrm>
            <a:off x="5003640" y="1033560"/>
            <a:ext cx="1514520" cy="134604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Rectangle 26"/>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414"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415" name="PlaceHolder 3"/>
          <p:cNvSpPr>
            <a:spLocks noGrp="1"/>
          </p:cNvSpPr>
          <p:nvPr>
            <p:ph type="sldNum" idx="25"/>
          </p:nvPr>
        </p:nvSpPr>
        <p:spPr>
          <a:xfrm>
            <a:off x="4936680" y="999720"/>
            <a:ext cx="1646280" cy="14130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7E13C-AD73-4A88-8094-62F1463F3DFF}"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
        <p:nvSpPr>
          <p:cNvPr id="416" name="PlaceHolder 4"/>
          <p:cNvSpPr>
            <a:spLocks noGrp="1"/>
          </p:cNvSpPr>
          <p:nvPr>
            <p:ph type="dt" idx="26"/>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417" name="PlaceHolder 5"/>
          <p:cNvSpPr>
            <a:spLocks noGrp="1"/>
          </p:cNvSpPr>
          <p:nvPr>
            <p:ph type="ftr" idx="27"/>
          </p:nvPr>
        </p:nvSpPr>
        <p:spPr>
          <a:xfrm>
            <a:off x="1085760" y="20515320"/>
            <a:ext cx="121809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9720" y="-457200"/>
            <a:ext cx="32365800" cy="3657600"/>
          </a:xfrm>
          <a:prstGeom prst="rect">
            <a:avLst/>
          </a:prstGeom>
          <a:noFill/>
          <a:ln w="0">
            <a:noFill/>
          </a:ln>
        </p:spPr>
        <p:txBody>
          <a:bodyPr lIns="313560" rIns="313560" tIns="156600" bIns="1566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9899"/>
                </a:solidFill>
                <a:latin typeface="Calibri"/>
                <a:ea typeface="Arial"/>
              </a:rPr>
              <a:t>The Impact of Youth Ministry</a:t>
            </a:r>
            <a:br>
              <a:rPr sz="2800"/>
            </a:br>
            <a:r>
              <a:rPr b="0" lang="en-US" sz="2800" spc="-1" strike="noStrike">
                <a:solidFill>
                  <a:srgbClr val="7b9899"/>
                </a:solidFill>
                <a:latin typeface="Calibri"/>
                <a:ea typeface="Arial"/>
              </a:rPr>
              <a:t>Rachel S. Carson</a:t>
            </a:r>
            <a:br>
              <a:rPr sz="2800"/>
            </a:br>
            <a:r>
              <a:rPr b="0" lang="en-US" sz="2800" spc="-1" strike="noStrike">
                <a:solidFill>
                  <a:srgbClr val="7b9899"/>
                </a:solidFill>
                <a:latin typeface="Calibri"/>
                <a:ea typeface="Arial"/>
              </a:rPr>
              <a:t> University of Cincinnati, CECH Middle Childhood Education</a:t>
            </a:r>
            <a:br>
              <a:rPr sz="2800"/>
            </a:br>
            <a:r>
              <a:rPr b="0" lang="en-US" sz="2800" spc="-1" strike="noStrike">
                <a:solidFill>
                  <a:srgbClr val="7b9899"/>
                </a:solidFill>
                <a:latin typeface="Calibri"/>
                <a:ea typeface="Arial"/>
              </a:rPr>
              <a:t>carsonrs@mail.uc.edu</a:t>
            </a:r>
            <a:endParaRPr b="0" lang="en-US" sz="2800" spc="-1" strike="noStrike">
              <a:solidFill>
                <a:srgbClr val="7b9899"/>
              </a:solidFill>
              <a:latin typeface="Georgia"/>
            </a:endParaRPr>
          </a:p>
        </p:txBody>
      </p:sp>
      <p:pic>
        <p:nvPicPr>
          <p:cNvPr id="607" name="Picture 2" descr=""/>
          <p:cNvPicPr/>
          <p:nvPr/>
        </p:nvPicPr>
        <p:blipFill>
          <a:blip r:embed="rId1"/>
          <a:stretch/>
        </p:blipFill>
        <p:spPr>
          <a:xfrm>
            <a:off x="638280" y="1163520"/>
            <a:ext cx="4309920" cy="1524240"/>
          </a:xfrm>
          <a:prstGeom prst="rect">
            <a:avLst/>
          </a:prstGeom>
          <a:ln w="0">
            <a:noFill/>
          </a:ln>
        </p:spPr>
      </p:pic>
      <p:sp>
        <p:nvSpPr>
          <p:cNvPr id="608" name="TextBox 5"/>
          <p:cNvSpPr/>
          <p:nvPr/>
        </p:nvSpPr>
        <p:spPr>
          <a:xfrm>
            <a:off x="531720" y="15673320"/>
            <a:ext cx="10744200" cy="5006160"/>
          </a:xfrm>
          <a:prstGeom prst="rect">
            <a:avLst/>
          </a:prstGeom>
          <a:solidFill>
            <a:srgbClr val="c5d1d7"/>
          </a:solidFill>
          <a:ln w="11520">
            <a:solidFill>
              <a:srgbClr val="8cadae"/>
            </a:solidFill>
            <a:prstDash val="sysDash"/>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Background Literature</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evious research states…</a:t>
            </a: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t>
            </a:r>
            <a:r>
              <a:rPr b="0" lang="en-US" sz="2800" spc="-1" strike="noStrike">
                <a:solidFill>
                  <a:srgbClr val="000000"/>
                </a:solidFill>
                <a:latin typeface="Calibri"/>
                <a:ea typeface="Times New Roman"/>
              </a:rPr>
              <a:t>School age children’s desire for group membership can also be satisfied through formal group ties such as scouting, 4-H, and religious youth groups” (265)</a:t>
            </a: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rotection against maladjustment can arise from, child’s personal characteristics, a warm parental relationship, an adult outside of the immediate family who offers a support system,  and community resource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TextBox 1"/>
          <p:cNvSpPr/>
          <p:nvPr/>
        </p:nvSpPr>
        <p:spPr>
          <a:xfrm>
            <a:off x="11638080" y="10260000"/>
            <a:ext cx="10345680" cy="1798200"/>
          </a:xfrm>
          <a:prstGeom prst="rect">
            <a:avLst/>
          </a:prstGeom>
          <a:solidFill>
            <a:srgbClr val="d5dfdf"/>
          </a:solidFill>
          <a:ln w="9360">
            <a:solidFill>
              <a:srgbClr val="8cadae"/>
            </a:solidFill>
            <a:miter/>
          </a:ln>
          <a:effectLst>
            <a:outerShdw dist="12600" dir="5400000" blurRad="0" rotWithShape="0">
              <a:srgbClr val="000000">
                <a:alpha val="35000"/>
              </a:srgbClr>
            </a:outerShdw>
          </a:effectLst>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Inquiry Question:</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Times New Roman"/>
              </a:rPr>
              <a:t>How do formal peer groups through involvement in extracurricular activities, such as a youth ministry group, affect social and moral development during pre –middle adolescence?</a:t>
            </a:r>
            <a:endParaRPr b="0" lang="en-US" sz="2800" spc="-1" strike="noStrike">
              <a:solidFill>
                <a:srgbClr val="000000"/>
              </a:solidFill>
              <a:latin typeface="Calibri"/>
            </a:endParaRPr>
          </a:p>
        </p:txBody>
      </p:sp>
      <p:sp>
        <p:nvSpPr>
          <p:cNvPr id="610" name="TextBox 10"/>
          <p:cNvSpPr/>
          <p:nvPr/>
        </p:nvSpPr>
        <p:spPr>
          <a:xfrm>
            <a:off x="22678920" y="19104120"/>
            <a:ext cx="9325080" cy="1776600"/>
          </a:xfrm>
          <a:prstGeom prst="rect">
            <a:avLst/>
          </a:prstGeom>
          <a:solidFill>
            <a:srgbClr val="c5d1d7"/>
          </a:solidFill>
          <a:ln w="11520">
            <a:solidFill>
              <a:srgbClr val="8cadae"/>
            </a:solidFill>
            <a:prstDash val="sysDash"/>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Referenc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ubin, Bukowski, &amp; Parker, 2006</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erk, 2010</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1" name="TextBox 10"/>
          <p:cNvSpPr/>
          <p:nvPr/>
        </p:nvSpPr>
        <p:spPr>
          <a:xfrm>
            <a:off x="22555080" y="9505800"/>
            <a:ext cx="9840960" cy="8845560"/>
          </a:xfrm>
          <a:prstGeom prst="rect">
            <a:avLst/>
          </a:prstGeom>
          <a:solidFill>
            <a:srgbClr val="c5d1d7"/>
          </a:solidFill>
          <a:ln w="11520">
            <a:solidFill>
              <a:srgbClr val="8cadae"/>
            </a:solidFill>
            <a:prstDash val="sysDash"/>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Result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The youth ministry group is very diverse ethnically, and socially.  Most of these students partake in other extracurricular activities on top of being a part of their youth group.  I interviewed a young woman who leads a youth ministry group in an urban school district; she said that most of her students were in the group for the social aspects more than the religious.   Though they all came from troubled homes, and some did not have much support from family, they did, however, stay out of a great deal of trouble in comparison to other students.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They same is true in the youth ministry I observed.  These students came from very diverse backgrounds , some from the suburbs and some from broken families.  Regardless of all of those details, these student all strive to be academically successful, to build strong values.   These morals and values are  demonstrated to these kids by the mentorship of the youth ministry leaders, the sense of community in the church to which they belong, and other potential factors.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612" name="TextBox 10"/>
          <p:cNvGrpSpPr/>
          <p:nvPr/>
        </p:nvGrpSpPr>
        <p:grpSpPr>
          <a:xfrm>
            <a:off x="11509200" y="5589720"/>
            <a:ext cx="10491840" cy="3504960"/>
            <a:chOff x="11509200" y="5589720"/>
            <a:chExt cx="10491840" cy="3504960"/>
          </a:xfrm>
        </p:grpSpPr>
        <p:pic>
          <p:nvPicPr>
            <p:cNvPr id="613" name="TextBox 10" descr=""/>
            <p:cNvPicPr/>
            <p:nvPr/>
          </p:nvPicPr>
          <p:blipFill>
            <a:blip r:embed="rId2"/>
            <a:stretch/>
          </p:blipFill>
          <p:spPr>
            <a:xfrm>
              <a:off x="11509200" y="5589720"/>
              <a:ext cx="10491840" cy="3504960"/>
            </a:xfrm>
            <a:prstGeom prst="rect">
              <a:avLst/>
            </a:prstGeom>
            <a:ln w="0">
              <a:noFill/>
            </a:ln>
          </p:spPr>
        </p:pic>
        <p:sp>
          <p:nvSpPr>
            <p:cNvPr id="614" name=""/>
            <p:cNvSpPr/>
            <p:nvPr/>
          </p:nvSpPr>
          <p:spPr>
            <a:xfrm>
              <a:off x="11580840" y="5637240"/>
              <a:ext cx="10345680" cy="3299760"/>
            </a:xfrm>
            <a:prstGeom prst="rect">
              <a:avLst/>
            </a:prstGeom>
            <a:noFill/>
            <a:ln w="0">
              <a:noFill/>
            </a:ln>
          </p:spPr>
          <p:style>
            <a:lnRef idx="0"/>
            <a:fillRef idx="0"/>
            <a:effectRef idx="0"/>
            <a:fontRef idx="minor"/>
          </p:style>
          <p:txBody>
            <a:bodyPr lIns="313560" rIns="313560" tIns="156600" bIns="15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y I Chose This Topic</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I personally have experience participating in a youth ministry.  This involvement has shaped my perspective of the world, and has influenced my self-esteem and relationships with my parents and friends.  Through this involvement I was provided with mentorship and guidance needed to feel confident in the identity I was developing.</a:t>
              </a:r>
              <a:endParaRPr b="0" lang="en-US" sz="2800" spc="-1" strike="noStrike">
                <a:solidFill>
                  <a:srgbClr val="000000"/>
                </a:solidFill>
                <a:latin typeface="Calibri"/>
              </a:endParaRPr>
            </a:p>
          </p:txBody>
        </p:sp>
      </p:grpSp>
      <p:sp>
        <p:nvSpPr>
          <p:cNvPr id="615" name="TextBox 2"/>
          <p:cNvSpPr/>
          <p:nvPr/>
        </p:nvSpPr>
        <p:spPr>
          <a:xfrm>
            <a:off x="689040" y="5181480"/>
            <a:ext cx="9978840" cy="2226960"/>
          </a:xfrm>
          <a:prstGeom prst="rect">
            <a:avLst/>
          </a:prstGeom>
          <a:solidFill>
            <a:srgbClr val="c5d1d7"/>
          </a:solidFill>
          <a:ln w="11520">
            <a:solidFill>
              <a:srgbClr val="8cadae"/>
            </a:solidFill>
            <a:prstDash val="sys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roducti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th a growing number of students dropping out of schools, and risky behavior becoming more socially acceptable, I sought to understand how as a teacher I could guide my students in a more positive direction.  </a:t>
            </a:r>
            <a:endParaRPr b="0" lang="en-US" sz="2800" spc="-1" strike="noStrike">
              <a:solidFill>
                <a:srgbClr val="000000"/>
              </a:solidFill>
              <a:latin typeface="Calibri"/>
            </a:endParaRPr>
          </a:p>
        </p:txBody>
      </p:sp>
      <p:cxnSp>
        <p:nvCxnSpPr>
          <p:cNvPr id="616" name="Elbow Connector 7"/>
          <p:cNvCxnSpPr/>
          <p:nvPr/>
        </p:nvCxnSpPr>
        <p:spPr>
          <a:xfrm flipH="1" flipV="1" rot="5400000">
            <a:off x="21409560" y="7734600"/>
            <a:ext cx="2824920" cy="2210400"/>
          </a:xfrm>
          <a:prstGeom prst="bentConnector3">
            <a:avLst>
              <a:gd name="adj1" fmla="val 35827"/>
            </a:avLst>
          </a:prstGeom>
          <a:ln w="9360">
            <a:solidFill>
              <a:srgbClr val="2a373d"/>
            </a:solidFill>
            <a:miter/>
            <a:tailEnd len="med" type="arrow" w="med"/>
          </a:ln>
        </p:spPr>
      </p:cxnSp>
      <p:sp>
        <p:nvSpPr>
          <p:cNvPr id="617" name="TextBox 6"/>
          <p:cNvSpPr/>
          <p:nvPr/>
        </p:nvSpPr>
        <p:spPr>
          <a:xfrm>
            <a:off x="22678920" y="5961240"/>
            <a:ext cx="9677520" cy="2019960"/>
          </a:xfrm>
          <a:prstGeom prst="rect">
            <a:avLst/>
          </a:prstGeom>
          <a:solidFill>
            <a:srgbClr val="c5d1d7"/>
          </a:solidFill>
          <a:ln w="11520">
            <a:solidFill>
              <a:srgbClr val="8cadae"/>
            </a:solidFill>
            <a:prstDash val="sysDash"/>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Method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In order to study this topic I interviewed several youth ministry leaders, and people you have previous been a part of youth ministry. I also observed the students in this group.  </a:t>
            </a:r>
            <a:endParaRPr b="0" lang="en-US" sz="2800" spc="-1" strike="noStrike">
              <a:solidFill>
                <a:srgbClr val="000000"/>
              </a:solidFill>
              <a:latin typeface="Calibri"/>
            </a:endParaRPr>
          </a:p>
        </p:txBody>
      </p:sp>
      <p:sp>
        <p:nvSpPr>
          <p:cNvPr id="618" name="Straight Connector 15"/>
          <p:cNvSpPr/>
          <p:nvPr/>
        </p:nvSpPr>
        <p:spPr>
          <a:xfrm flipH="1">
            <a:off x="27475920" y="8001000"/>
            <a:ext cx="41400" cy="150480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9" name="Straight Connector 17"/>
          <p:cNvSpPr/>
          <p:nvPr/>
        </p:nvSpPr>
        <p:spPr>
          <a:xfrm flipH="1">
            <a:off x="21994920" y="13973040"/>
            <a:ext cx="560160" cy="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0" name="Straight Connector 19"/>
          <p:cNvSpPr/>
          <p:nvPr/>
        </p:nvSpPr>
        <p:spPr>
          <a:xfrm>
            <a:off x="21926520" y="19507320"/>
            <a:ext cx="752400" cy="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1" name="Straight Connector 21"/>
          <p:cNvSpPr/>
          <p:nvPr/>
        </p:nvSpPr>
        <p:spPr>
          <a:xfrm>
            <a:off x="16752960" y="9064800"/>
            <a:ext cx="0" cy="119520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2" name="Straight Connector 28"/>
          <p:cNvSpPr/>
          <p:nvPr/>
        </p:nvSpPr>
        <p:spPr>
          <a:xfrm>
            <a:off x="5678640" y="7427880"/>
            <a:ext cx="0" cy="116208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3" name="Straight Connector 30"/>
          <p:cNvSpPr/>
          <p:nvPr/>
        </p:nvSpPr>
        <p:spPr>
          <a:xfrm>
            <a:off x="5757840" y="14860440"/>
            <a:ext cx="0" cy="81288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624" name="Elbow Connector 13312"/>
          <p:cNvCxnSpPr/>
          <p:nvPr/>
        </p:nvCxnSpPr>
        <p:spPr>
          <a:xfrm flipH="1" flipV="1" rot="5400000">
            <a:off x="7279200" y="11676960"/>
            <a:ext cx="6012360" cy="1980360"/>
          </a:xfrm>
          <a:prstGeom prst="bentConnector3">
            <a:avLst>
              <a:gd name="adj1" fmla="val 7688"/>
            </a:avLst>
          </a:prstGeom>
          <a:ln w="9360">
            <a:solidFill>
              <a:srgbClr val="2a373d"/>
            </a:solidFill>
            <a:miter/>
          </a:ln>
        </p:spPr>
      </p:cxnSp>
      <p:cxnSp>
        <p:nvCxnSpPr>
          <p:cNvPr id="625" name="Elbow Connector 13332"/>
          <p:cNvCxnSpPr/>
          <p:nvPr/>
        </p:nvCxnSpPr>
        <p:spPr>
          <a:xfrm flipH="1" flipV="1" rot="5400000">
            <a:off x="10248480" y="8329680"/>
            <a:ext cx="2358360" cy="305640"/>
          </a:xfrm>
          <a:prstGeom prst="bentConnector2">
            <a:avLst/>
          </a:prstGeom>
          <a:ln w="9360">
            <a:solidFill>
              <a:srgbClr val="2a373d"/>
            </a:solidFill>
            <a:miter/>
          </a:ln>
        </p:spPr>
      </p:cxnSp>
      <p:sp>
        <p:nvSpPr>
          <p:cNvPr id="626" name="TextBox 1"/>
          <p:cNvSpPr/>
          <p:nvPr/>
        </p:nvSpPr>
        <p:spPr>
          <a:xfrm>
            <a:off x="531720" y="8305920"/>
            <a:ext cx="10450440" cy="6492960"/>
          </a:xfrm>
          <a:prstGeom prst="rect">
            <a:avLst/>
          </a:prstGeom>
          <a:solidFill>
            <a:srgbClr val="c5d1d7"/>
          </a:solidFill>
          <a:ln w="11520">
            <a:solidFill>
              <a:srgbClr val="8cadae"/>
            </a:solidFill>
            <a:prstDash val="sys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erms to Know</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er groups- collectives that celebrate unique values and standards for behavior and a social structure of leaders  and followers.  Peer groups organize on the basis of proximity (being in the same classroom) and similarity in sex, ethnicity, popularity, and aggression  (Rubin, Bukowski, &amp; Parker, 2006).</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egulation-a form of supervision in which parents exercise general oversight while letting children take charge or moment-by-moment decision making</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hs to Identity:</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ty moratorium- exploration without commitment</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ty foreclosure- commitment in the absence of explorati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ty diffusion- an apathetic state characterized by a lack of both exploration and commitment.</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627" name="TextBox 10"/>
          <p:cNvGrpSpPr/>
          <p:nvPr/>
        </p:nvGrpSpPr>
        <p:grpSpPr>
          <a:xfrm>
            <a:off x="11509200" y="12619080"/>
            <a:ext cx="10491840" cy="7358040"/>
            <a:chOff x="11509200" y="12619080"/>
            <a:chExt cx="10491840" cy="7358040"/>
          </a:xfrm>
        </p:grpSpPr>
        <p:pic>
          <p:nvPicPr>
            <p:cNvPr id="628" name="TextBox 10" descr=""/>
            <p:cNvPicPr/>
            <p:nvPr/>
          </p:nvPicPr>
          <p:blipFill>
            <a:blip r:embed="rId3"/>
            <a:stretch/>
          </p:blipFill>
          <p:spPr>
            <a:xfrm>
              <a:off x="11509200" y="12619080"/>
              <a:ext cx="10491840" cy="7358040"/>
            </a:xfrm>
            <a:prstGeom prst="rect">
              <a:avLst/>
            </a:prstGeom>
            <a:ln w="0">
              <a:noFill/>
            </a:ln>
          </p:spPr>
        </p:pic>
        <p:sp>
          <p:nvSpPr>
            <p:cNvPr id="629" name=""/>
            <p:cNvSpPr/>
            <p:nvPr/>
          </p:nvSpPr>
          <p:spPr>
            <a:xfrm>
              <a:off x="11580840" y="12668400"/>
              <a:ext cx="10345680" cy="7139160"/>
            </a:xfrm>
            <a:prstGeom prst="rect">
              <a:avLst/>
            </a:prstGeom>
            <a:noFill/>
            <a:ln w="0">
              <a:noFill/>
            </a:ln>
          </p:spPr>
          <p:style>
            <a:lnRef idx="0"/>
            <a:fillRef idx="0"/>
            <a:effectRef idx="0"/>
            <a:fontRef idx="minor"/>
          </p:style>
          <p:txBody>
            <a:bodyPr lIns="313560" rIns="313560" tIns="156600" bIns="15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fessional Implicat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ough I may have some bias because of my background with youth ministry and the impact that it has had on my life, I was able to recognize from my observations that even without religion at the heart of it, involvement in an extracurricular of some form, whether that be a sport’s team, debate team, or drama club will help students to develop good social, emotional, and moral development.  These groups provide  strong coregulation for these students, allowing them to explore who their talents, skills, desires, and dreams without getting involved in risky behavior that would do them harm.  As a teacher I will not be able to  teach lessons straight out of the Bible, but I can still guide my students with good principles and morals in order to help them to build those for themselves.  Extracurricular activities are a great way for students to feel as if they are a part of a community.  These positive influence can help these students to stay on the path to success.</a:t>
              </a:r>
              <a:endParaRPr b="0" lang="en-US" sz="2800" spc="-1" strike="noStrike">
                <a:solidFill>
                  <a:srgbClr val="000000"/>
                </a:solidFill>
                <a:latin typeface="Calibri"/>
              </a:endParaRPr>
            </a:p>
          </p:txBody>
        </p:sp>
      </p:grpSp>
      <p:pic>
        <p:nvPicPr>
          <p:cNvPr id="630" name="Picture 14" descr="C:\Users\Rachel\Pictures\me\WP_20130926_00220130926175350.jpg"/>
          <p:cNvPicPr/>
          <p:nvPr/>
        </p:nvPicPr>
        <p:blipFill>
          <a:blip r:embed="rId4"/>
          <a:stretch/>
        </p:blipFill>
        <p:spPr>
          <a:xfrm>
            <a:off x="29157480" y="-407880"/>
            <a:ext cx="3316320" cy="560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Rachel</cp:lastModifiedBy>
  <dcterms:modified xsi:type="dcterms:W3CDTF">2013-11-25T16:15:51Z</dcterms:modified>
  <cp:revision>79</cp:revision>
  <dc:subject/>
  <dc:title>PowerPoint Presentation</dc:title>
</cp:coreProperties>
</file>