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3E27E-2AA3-44D5-88F9-7A7B3D228A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7B8DDA-4D8A-4797-893C-630BAE31D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2A456-3379-45AB-8A7D-01B482CE7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5C967-4138-439A-A28C-C5D55BFD76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2E679-3ABB-4935-AA55-C500E4AF9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CA158-7A75-499B-ABC2-33A58FF6E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992D8-AF2F-41EC-B796-0BD4AA357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4EEE6-9F67-4B14-9428-F11B62611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248A3-7F72-4E23-8A24-D7DED7889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A52B5-916A-4BC0-8B4E-350DCA93D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67123-1F73-476F-9FCC-BD939A833F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C93B3-26F0-4DED-8A4D-76190BD9DA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86232-D64B-4E45-9C0C-C82C04EBB93B}"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Active Learning</a:t>
            </a:r>
            <a:br>
              <a:rPr sz="3200"/>
            </a:br>
            <a:r>
              <a:rPr b="0" lang="en-US" sz="3200" spc="-1" strike="noStrike">
                <a:solidFill>
                  <a:srgbClr val="000000"/>
                </a:solidFill>
                <a:latin typeface="Arial"/>
                <a:ea typeface="Arial"/>
              </a:rPr>
              <a:t>Jason Walker</a:t>
            </a:r>
            <a:br>
              <a:rPr sz="3200"/>
            </a:br>
            <a:r>
              <a:rPr b="0" lang="en-US" sz="3200" spc="-1" strike="noStrike">
                <a:solidFill>
                  <a:srgbClr val="000000"/>
                </a:solidFill>
                <a:latin typeface="Arial"/>
                <a:ea typeface="Arial"/>
              </a:rPr>
              <a:t> University of Cincinnati, (department/major)</a:t>
            </a:r>
            <a:br>
              <a:rPr sz="3200"/>
            </a:br>
            <a:r>
              <a:rPr b="0" lang="en-US" sz="3200" spc="-1" strike="noStrike">
                <a:solidFill>
                  <a:srgbClr val="000000"/>
                </a:solidFill>
                <a:latin typeface="Arial"/>
                <a:ea typeface="Arial"/>
              </a:rPr>
              <a:t>email</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see how being an interactive teacher throughout the classroom can help students develop a more active learning environment.   I was to observe a classroom of fifth graders who used the smart board, chalkboard, internet and a teacher as a tool for better cognitive learning.</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observed a classroom in which the teacher was actively teaching on the smart board.  The students were engaged and cooperatively learning together as a classroom.  When the students were learning the vocabulary words out of the text as a group of 5 they were very off topic.  The students were not actively learning or focused.  When the students were set into groups then sent off into stations their was a mixed result of learning.  The station involving the computers had active research and study.  The students that were involved with matching vocabulary words were not prioritizing learning firs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
          <p:cNvSpPr/>
          <p:nvPr/>
        </p:nvSpPr>
        <p:spPr>
          <a:xfrm>
            <a:off x="838080" y="8077320"/>
            <a:ext cx="9469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 Ques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m interested in how being hands-on, physical and interactive amongst the classroom can help keep students more attentive throughout the day and produce better cognitive learnin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TextBox 10"/>
          <p:cNvSpPr/>
          <p:nvPr/>
        </p:nvSpPr>
        <p:spPr>
          <a:xfrm>
            <a:off x="22475880" y="495288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ert how this shapes you as a profess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A citations)</a:t>
            </a:r>
            <a:endParaRPr b="0" lang="en-US" sz="2400" spc="-1" strike="noStrike">
              <a:solidFill>
                <a:srgbClr val="000000"/>
              </a:solidFill>
              <a:latin typeface="Calibri"/>
            </a:endParaRPr>
          </a:p>
        </p:txBody>
      </p:sp>
      <p:sp>
        <p:nvSpPr>
          <p:cNvPr id="49" name="TextBox 10"/>
          <p:cNvSpPr/>
          <p:nvPr/>
        </p:nvSpPr>
        <p:spPr>
          <a:xfrm>
            <a:off x="11617200" y="11787120"/>
            <a:ext cx="9723600" cy="32396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shows me that the students learning methods differed.  It showed me that without the teachers involvement the students were off topic and unfocused.  This is a result of the students needing the teacher implications.  The teacher needs to be actively teaching the fifth graders for them to be learning.  When the teacher was in front of the classroom using the tools to her advantage the students cooperatively learned as a whole.</a:t>
            </a:r>
            <a:endParaRPr b="0" lang="en-US" sz="2400" spc="-1" strike="noStrike">
              <a:solidFill>
                <a:srgbClr val="000000"/>
              </a:solidFill>
              <a:latin typeface="Calibri"/>
            </a:endParaRPr>
          </a:p>
        </p:txBody>
      </p:sp>
      <p:sp>
        <p:nvSpPr>
          <p:cNvPr id="50" name="TextBox 10"/>
          <p:cNvSpPr/>
          <p:nvPr/>
        </p:nvSpPr>
        <p:spPr>
          <a:xfrm>
            <a:off x="22475880" y="11787120"/>
            <a:ext cx="982008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se this topic because I always felt like this was the only way I could learn as a student.  I felt like if the teacher wasn’t in front of the classroom teaching us all and being cognitive with us, I wasn’t learning as a stud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Jason</cp:lastModifiedBy>
  <dcterms:modified xsi:type="dcterms:W3CDTF">2013-10-21T19:42:28Z</dcterms:modified>
  <cp:revision>52</cp:revision>
  <dc:subject/>
  <dc:title>PowerPoint Presentation</dc:title>
</cp:coreProperties>
</file>