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28D8B-1F59-43E5-AC82-0D6758E23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D3579-A988-4C7C-88CA-E0AE0A99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56877-C35C-4967-9BB8-5F353C840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0654A-7897-4471-8F13-D58A72CD1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56F3-3635-4EE1-84DA-4836FE1DA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18927-E4C8-47B4-A1D1-C8ED019E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77007-2318-44DB-8890-F387E14A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7D9D5-ED97-4A88-A4A9-2ECD11D5F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D8951-1B48-4260-89D9-1BA45B0D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0397C-7F8B-49A1-9BCF-AAB3278D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BE54-23DC-411C-9AED-AD2BE65B3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09B9B-F29F-4AFC-A5FC-0E9F92E7E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11AD-2E16-4A90-968B-DB329F40957A}"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11"/>
          <p:cNvSpPr/>
          <p:nvPr/>
        </p:nvSpPr>
        <p:spPr>
          <a:xfrm>
            <a:off x="21915360" y="4191120"/>
            <a:ext cx="10337760" cy="467820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10"/>
          <p:cNvSpPr/>
          <p:nvPr/>
        </p:nvSpPr>
        <p:spPr>
          <a:xfrm>
            <a:off x="21564720" y="9110520"/>
            <a:ext cx="10972800" cy="12760560"/>
          </a:xfrm>
          <a:custGeom>
            <a:avLst/>
            <a:gdLst>
              <a:gd name="textAreaLeft" fmla="*/ 535320 w 10972800"/>
              <a:gd name="textAreaRight" fmla="*/ 10437480 w 10972800"/>
              <a:gd name="textAreaTop" fmla="*/ 535320 h 12760560"/>
              <a:gd name="textAreaBottom" fmla="*/ 12225240 h 12760560"/>
            </a:gdLst>
            <a:ahLst/>
            <a:rect l="textAreaLeft" t="textAreaTop" r="textAreaRight" b="textAreaBottom"/>
            <a:pathLst>
              <a:path w="21600" h="25119">
                <a:moveTo>
                  <a:pt x="3600" y="0"/>
                </a:moveTo>
                <a:arcTo wR="3600" hR="3600" stAng="16200000" swAng="-5400000"/>
                <a:lnTo>
                  <a:pt x="0" y="21519"/>
                </a:lnTo>
                <a:arcTo wR="3600" hR="3600" stAng="10800000" swAng="-5400000"/>
                <a:lnTo>
                  <a:pt x="18000" y="25119"/>
                </a:lnTo>
                <a:arcTo wR="3600" hR="3600" stAng="5400000" swAng="-5400000"/>
                <a:lnTo>
                  <a:pt x="21600" y="3600"/>
                </a:lnTo>
                <a:arcTo wR="3600" hR="3600" stAng="0" swAng="-5400000"/>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ounded Rectangle 9"/>
          <p:cNvSpPr/>
          <p:nvPr/>
        </p:nvSpPr>
        <p:spPr>
          <a:xfrm>
            <a:off x="10874520" y="18508680"/>
            <a:ext cx="9929520" cy="3362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8"/>
          <p:cNvSpPr/>
          <p:nvPr/>
        </p:nvSpPr>
        <p:spPr>
          <a:xfrm>
            <a:off x="10928520" y="12441240"/>
            <a:ext cx="9820080" cy="57610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ounded Rectangle 7"/>
          <p:cNvSpPr/>
          <p:nvPr/>
        </p:nvSpPr>
        <p:spPr>
          <a:xfrm>
            <a:off x="10733040" y="4191120"/>
            <a:ext cx="10212480" cy="784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ounded Rectangle 4"/>
          <p:cNvSpPr/>
          <p:nvPr/>
        </p:nvSpPr>
        <p:spPr>
          <a:xfrm>
            <a:off x="228600" y="11185560"/>
            <a:ext cx="10063080" cy="10685520"/>
          </a:xfrm>
          <a:custGeom>
            <a:avLst/>
            <a:gdLst>
              <a:gd name="textAreaLeft" fmla="*/ 491040 w 10063080"/>
              <a:gd name="textAreaRight" fmla="*/ 9572040 w 10063080"/>
              <a:gd name="textAreaTop" fmla="*/ 491040 h 10685520"/>
              <a:gd name="textAreaBottom" fmla="*/ 10194480 h 1068552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ounded Rectangle 3"/>
          <p:cNvSpPr/>
          <p:nvPr/>
        </p:nvSpPr>
        <p:spPr>
          <a:xfrm>
            <a:off x="228600" y="8588520"/>
            <a:ext cx="10109160" cy="14810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ounded Rectangle 2"/>
          <p:cNvSpPr/>
          <p:nvPr/>
        </p:nvSpPr>
        <p:spPr>
          <a:xfrm>
            <a:off x="228600" y="4191120"/>
            <a:ext cx="10109160" cy="3200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9646"/>
                </a:solidFill>
                <a:latin typeface="Arial"/>
                <a:ea typeface="Arial"/>
              </a:rPr>
              <a:t>Physical Activity in the Classroom</a:t>
            </a:r>
            <a:br>
              <a:rPr sz="10000"/>
            </a:br>
            <a:r>
              <a:rPr b="0" lang="en-US" sz="3200" spc="-1" strike="noStrike">
                <a:solidFill>
                  <a:srgbClr val="f79646"/>
                </a:solidFill>
                <a:latin typeface="Arial"/>
                <a:ea typeface="Arial"/>
              </a:rPr>
              <a:t>Kristin Gantz</a:t>
            </a:r>
            <a:br>
              <a:rPr sz="3200"/>
            </a:br>
            <a:r>
              <a:rPr b="0" lang="en-US" sz="3200" spc="-1" strike="noStrike">
                <a:solidFill>
                  <a:srgbClr val="f79646"/>
                </a:solidFill>
                <a:latin typeface="Arial"/>
                <a:ea typeface="Arial"/>
              </a:rPr>
              <a:t> University of Cincinnati, (CECH, Middle Childhood Education)</a:t>
            </a:r>
            <a:br>
              <a:rPr sz="3200"/>
            </a:br>
            <a:r>
              <a:rPr b="0" lang="en-US" sz="3200" spc="-1" strike="noStrike">
                <a:solidFill>
                  <a:srgbClr val="f79646"/>
                </a:solidFill>
                <a:latin typeface="Arial"/>
                <a:ea typeface="Arial"/>
              </a:rPr>
              <a:t>gantzkl@mail.uc.ed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143000" y="831960"/>
            <a:ext cx="4782960" cy="1847880"/>
          </a:xfrm>
          <a:prstGeom prst="rect">
            <a:avLst/>
          </a:prstGeom>
          <a:ln w="0">
            <a:noFill/>
          </a:ln>
        </p:spPr>
      </p:pic>
      <p:sp>
        <p:nvSpPr>
          <p:cNvPr id="51" name="TextBox 3"/>
          <p:cNvSpPr/>
          <p:nvPr/>
        </p:nvSpPr>
        <p:spPr>
          <a:xfrm>
            <a:off x="441360" y="4373640"/>
            <a:ext cx="9850320" cy="3300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Calibri"/>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purpose of this  activity was to first investigate why physical activity has decreased in schools the last decade. After looking into the reason why, the more applicable question to investigate was  how teachers themselves can implement physical activity in their classroom.  The true purpose of this activity was to find out the benefits of physical activity and ways teachers can implement it in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Box 5"/>
          <p:cNvSpPr/>
          <p:nvPr/>
        </p:nvSpPr>
        <p:spPr>
          <a:xfrm>
            <a:off x="685800" y="11409480"/>
            <a:ext cx="9834480" cy="10615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ckground Literatu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fter completing research on physical education and activities , there were a few reasons why schools were not  giving students the recommended hour and a half a day . The main factor was time. A lot of schools feel that there is not enough time in the  school day  to give teachers the amount of time they need to teach their students, and to give the students the recommended amount of time to participate in physical activity. Another factor as to why schools don’t allow their students an hour and half of physical activity  a day is money.  A lot of schools offer physical education two to three days a week instead of  everyday.  Schools hire physical education teachers part time and not full  time to save mone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hysical activity has numerous benefits  to students, and in fact through out my research I have not found anything that said physical activity was a negative thing. Physical education represents an area of the middle school curriculum that has the potential to impact adolescents' developing knowledge, attitudes, beliefs, and behaviors in positive and meaningful ways that may endure across the lifespan.  Physical education is one of the few remaining contexts devoted to child-organized games that provide practice in vital social  skills—cooperation, leadership, followership, and inhibition of aggression—under adult supervision rather than adult direction.  It offers rich opportunities for child-organized play and games that promote academic achievement and social competence. Physically fit children tend to become active adults  with many benefits . Physical activity supports many aspects of  children’s development—health, sense of worth, and the cognitive and social skills necessary for getting along with ot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53" name="TextBox 6"/>
          <p:cNvSpPr/>
          <p:nvPr/>
        </p:nvSpPr>
        <p:spPr>
          <a:xfrm>
            <a:off x="11125080" y="4373640"/>
            <a:ext cx="9907560" cy="8055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o answer the question  about how teachers can implement physical activity I did research and I completed observation hours.  For my research, I used the articles that are cited below and I found them from the University of Cincinnati’s library. They were scholarly articles that had been peer reviewed. For my observations, I observed a fifth grade girls volleyball team. I observed them for five hours. I thought this was an appropriate decision to observe because it involves physical activi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observed multiple things from the volleyball girls that helped prove my point about physical activities. After talking with a few random girls I started to ask them questions about the school day. Without prompting them, they immediately told me that they wish they had more recess time because it gives them time to spend with their friends from other classes.  They also told me that they feel that they pay more attention in their afternoon classes because they are not thinking about lunch and playing outside. When I talked to the coach, she also thought they needed more physical activity time, whether that mean gym or recess, because it takes her a half hour to get the girls to settle down concentrate on their practice because their practice starts  right after school en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TextBox 1"/>
          <p:cNvSpPr/>
          <p:nvPr/>
        </p:nvSpPr>
        <p:spPr>
          <a:xfrm>
            <a:off x="685800" y="8807400"/>
            <a:ext cx="9469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Ques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ow can  teachers implement physical activity into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Box 10"/>
          <p:cNvSpPr/>
          <p:nvPr/>
        </p:nvSpPr>
        <p:spPr>
          <a:xfrm>
            <a:off x="22174200" y="4240080"/>
            <a:ext cx="9820440" cy="62265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future educator, this information that I have gathered throughout this experiment will be useful knowledge when I am in the field.  It has given me insight  as  to how to become a better teacher for my students. I now know and understand why it is so important  for students to be active. This research has given me many examples  as to how I can implement physical activity  in my classroom. The more active the students are, the more they participate and learn in the classroom. In the future, I plan to make my lesson plans  active and interesting for my students. I also plan on encouraging other teachers  to  do the same because this research activity has opened my eyes on how important being active in school is for the stud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Box 10"/>
          <p:cNvSpPr/>
          <p:nvPr/>
        </p:nvSpPr>
        <p:spPr>
          <a:xfrm>
            <a:off x="10983960" y="18508680"/>
            <a:ext cx="9820080" cy="3879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erence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rill Larsen, Oddrun Samdal, Hege Tjomsland, (2013) "Physical activity in schools: A qualitative case study of eight Norwegian schools’ experiences with the implementation of a national policy", Health Education, Vol. 113 Iss: 1, pp.52 – 63</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Physical education and physical activity: results from the School Health Policies and Programs Study” 2006 by Lee, Sarah M; Burgeson, Charlene R; Fulton, Janet E; Spain, Christine 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Rethinking Middle School Physical Education: Combining Lifetime Leisure Activities and Sport Education to Encourage Physical Activity” by Mohr, Derek J; Townsend, J. Scott; Pritchard, Tony</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European Physical Education Review”, ISSN 1356-336X, 02/2012, Volume 18, Issue 1, pp. 78 - 96 ...’ heart rates were monitored during physical education lessons. The target rate was set between 70 and 85... group contingency, physical education, CHILDREN, HEALTH, GOOD BEHAVIOR G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0"/>
          <p:cNvSpPr/>
          <p:nvPr/>
        </p:nvSpPr>
        <p:spPr>
          <a:xfrm>
            <a:off x="22174200" y="9437760"/>
            <a:ext cx="9723600" cy="12444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ul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 found that instead of trying to change the schools, the most effective approach would be to change the lesson plans to incorporate  physical education. There is room to add physical activity  into any lesson plan no matter the subject. Through  out my research I have found  many examples, but I have also found that it is fairly easy to come up with original games and ideas for keeping the students physically active during the school day. Students pay more attention and participate more when they are physically active.  It not only gives them the opportunity to release their energy, but also interact and become social with other students. The majority of schools give their  students physical activity time during lunch in the middle of the school day.  My results show that students learn more in their afternoon classes because they  have  been given the chance to be active so they are ready to learn. Teachers can go about giving their students physical  activity time in a couple of w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t is proven that giving students rewards and incentives to do well in school, they will do it. One way to implement physical activity  in the classroom is to have one of the rewards be ten minutes of outside play. For example, of everyone in the class completes their homework, give them ten minutes of recess. This has at least two positive effects. One is that it gets the students a reason to try hard and do well, and it gives them a goal to work towards. It also lets them release their energy outside so when they come back to class they are ready to participate and lear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 other effective way I have found to incorporate physical activity in the classroom is to implement it in lesson plans. Teachers can come up with ways for their students to be physically active while also learning. This could include having them playing a game and reviewing at the same time, going outside to experiment for science. This is where teachers can be creative and come up with fun things for students to 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re are of course other ways teachers can incorporate physical activity in their classroom, but these are the two ways that I have done research on and that seem to be very effective.</a:t>
            </a:r>
            <a:endParaRPr b="0" lang="en-US" sz="2400" spc="-1" strike="noStrike">
              <a:solidFill>
                <a:srgbClr val="000000"/>
              </a:solidFill>
              <a:latin typeface="Calibri"/>
            </a:endParaRPr>
          </a:p>
        </p:txBody>
      </p:sp>
      <p:sp>
        <p:nvSpPr>
          <p:cNvPr id="58" name="TextBox 10"/>
          <p:cNvSpPr/>
          <p:nvPr/>
        </p:nvSpPr>
        <p:spPr>
          <a:xfrm>
            <a:off x="11125080" y="12441240"/>
            <a:ext cx="982044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chose this topic because it is becoming a bigger issue each  school year. There has been a lot of focus on standardized tests  and how teachers are starting to focus solely on those tests. One of the many effects of this, is that students are getting less and less physical activity inside and outside of the classroom. Physical activity is such an important part of a students physical, mental, and social  development. The standard and recommended amount of physical activity per day for students is an hour and a half.  More than seventy percent of schools in Ohio do not meet this standard. This can have very negative effects on the students. My goal in this project is to find out not only why this is happening, but  also how teachers and future educators can implement  physical activity in their classroom if the schools won’t set aside more time for the students to have physical education and recess.  </a:t>
            </a:r>
            <a:endParaRPr b="0" lang="en-US" sz="2400" spc="-1" strike="noStrike">
              <a:solidFill>
                <a:srgbClr val="000000"/>
              </a:solidFill>
              <a:latin typeface="Calibri"/>
            </a:endParaRPr>
          </a:p>
        </p:txBody>
      </p:sp>
      <p:sp>
        <p:nvSpPr>
          <p:cNvPr id="59" name="Rectangle 1"/>
          <p:cNvSpPr/>
          <p:nvPr/>
        </p:nvSpPr>
        <p:spPr>
          <a:xfrm>
            <a:off x="35592120" y="560520"/>
            <a:ext cx="42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a:t>
            </a:r>
            <a:endParaRPr b="0" lang="en-US" sz="3600" spc="-1" strike="noStrike">
              <a:solidFill>
                <a:srgbClr val="000000"/>
              </a:solidFill>
              <a:latin typeface="Calibri"/>
            </a:endParaRPr>
          </a:p>
        </p:txBody>
      </p:sp>
      <p:pic>
        <p:nvPicPr>
          <p:cNvPr id="60" name="Picture 14" descr="C:\Users\gantzkl\Pictures\kristin pics 2\DSC00064.JPG"/>
          <p:cNvPicPr/>
          <p:nvPr/>
        </p:nvPicPr>
        <p:blipFill>
          <a:blip r:embed="rId2"/>
          <a:srcRect l="48200" t="0" r="-51800" b="0"/>
          <a:stretch/>
        </p:blipFill>
        <p:spPr>
          <a:xfrm>
            <a:off x="27036720" y="347760"/>
            <a:ext cx="4670280" cy="33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gantzkl</cp:lastModifiedBy>
  <dcterms:modified xsi:type="dcterms:W3CDTF">2013-11-18T22:23:10Z</dcterms:modified>
  <cp:revision>77</cp:revision>
  <dc:subject/>
  <dc:title>PowerPoint Presentation</dc:title>
</cp:coreProperties>
</file>